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80B-077D-49EF-AD64-C6CD00A8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FF0-627D-4EDE-834D-E92ACB4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413-D1BB-4F52-97C1-D8639E8C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CE3-46AE-40A7-84B4-5E474971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FED-F795-4DFD-8917-0FF697D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2F1-A5E5-4AC5-A8BE-0FDA558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6EA-816E-444C-9AF6-F0CADE7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1BB-EBFE-4891-92EC-6A071AC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D80-8649-4F08-ACA2-E2F001DD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FBC-A9CE-4924-A9EC-FB08188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A41-F452-4EA6-80A9-D120FBC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D41-657B-437E-B7E3-A3BAA1C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A48-E99B-452C-93C7-FFF213964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6:06:09Z</dcterms:created>
  <dc:creator>averyanov</dc:creator>
  <dc:description/>
  <dc:language>en-US</dc:language>
  <cp:lastModifiedBy>Alexander</cp:lastModifiedBy>
  <dcterms:modified xsi:type="dcterms:W3CDTF">2013-01-29T12:26:28Z</dcterms:modified>
  <cp:revision>3</cp:revision>
  <dc:subject/>
  <dc:title>Слайд 1</dc:title>
</cp:coreProperties>
</file>