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EA0E-3004-4B2E-BF74-A1DD968F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6EC-3006-4BB3-8B0A-BEE06302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98C-1A49-4D4C-AED9-67571476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8D5-23B2-4E09-A4EF-D85B1150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D40-9D48-41EB-A5E5-3B32FA59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B44-1B89-4A1A-9484-50FFC30E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047-CEEF-4A79-B120-013193CF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518-821A-44AB-8E5D-3B6EF77B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23F-2026-42FB-BCE4-8270C823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689-C6AD-4DB7-830E-D1054233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9CA-9DE3-4905-84F7-001F0592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2066-6A3B-4BE6-9AD2-602C74B2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43BC-0A6B-4525-BE43-CD2FE1D4BD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Слайд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Слайд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Слайд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Слайд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Слайд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0T06:06:09Z</dcterms:created>
  <dc:creator>averyanov</dc:creator>
  <dc:description/>
  <dc:language>en-US</dc:language>
  <cp:lastModifiedBy>Alexander</cp:lastModifiedBy>
  <dcterms:modified xsi:type="dcterms:W3CDTF">2013-01-29T12:26:28Z</dcterms:modified>
  <cp:revision>3</cp:revision>
  <dc:subject/>
  <dc:title>Слайд 1</dc:title>
</cp:coreProperties>
</file>