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696600" y="739440"/>
            <a:ext cx="534492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30D7-7B78-400E-AF01-455D852D1E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. 7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E174-9D29-4A73-B6C1-AB75228EF6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492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B48-D4B4-4B67-A5A5-7B676A3F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0C9-5CCE-457C-8734-103DDD3F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A20-2D22-4FFF-BFBF-0784F28E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D7D-29BF-453E-9FE9-9DBE6E7C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37A8-0880-4421-9C8C-E3738BC4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5952-83BE-4D94-8A1D-0BE0654C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33EB-0513-47B2-849D-B9E08C35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9724-638F-4019-898B-2DB66EDA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6E77-4A14-4C06-BEE0-7A236846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5FEF-A07A-4082-B69B-C9989E90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CD6B-6701-4B50-9BFF-B933AF59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B06-B6FB-4508-86A2-649CDC6C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0CBB-25ED-4BE0-BE20-7104F1AA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6621-B758-4580-9B87-6E1F8EB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7A97-46F0-4E6D-917D-D5D67429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1107-FB0F-450C-BF7E-E7AC8083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B8B9-570A-44F2-BB32-CD83341C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0F9A-3F47-4990-B4F8-5B08AA81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DED6-3664-41FE-A3EE-65B37B52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92E82-FA72-459C-A600-70AA2431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2C8A-5017-46BB-965C-EB0D0497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1025-00FD-46E7-B3CA-6CCF28CD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019-7FBF-499F-BC51-DC38A48C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64B2-FC18-473C-B188-6DE2F448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57CB-32B9-47DE-835D-C5E6A48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1D03-3833-47F1-9E21-AAF3896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B93D-2406-4A2B-9FE7-0B76CA0A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71C43-5A76-40BA-8C57-DDBC9A82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1E73-754B-42D5-A6C0-03C23FBE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664D-1981-4B1A-AF04-FDF73B73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E96C-262B-4EFF-B949-0B24EE12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6B759-CB4B-435E-AAC3-32365789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6483E-F079-4701-A5E8-BC82B1B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B00-98CA-4F71-AA08-1D37607B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7329-BCD5-4CF6-A44C-DDD6C23A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C58D-96E1-4531-AFCE-2EC9D2E4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E8CC8-232E-4B33-B2D3-7232751B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D165-AD9E-476C-A4F3-21CC833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468A9-A4E1-44FA-AA9D-A85F46E8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C91E0-A3F0-4B2B-80C3-4C0780EA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F24D-0D18-4F0F-9466-266A71BF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64ED-D3A8-49A1-980F-5D76EF84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81E5E-4D90-4B0D-82D1-145485EA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EB1-2EB7-4E3E-85AB-48DC5EFF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52B-629A-45FB-A3EE-0E45254B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AEA-3E7A-45CF-A9AE-D8D08B5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5FD-760E-4387-B86B-FE1944E0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BCA-45A3-4713-BF6C-8065CAF7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304E-4446-4104-8135-E47D4EC51285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F984-BAAA-4A2D-873C-E3C5E98F4A0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34B2-BDB7-4D05-B517-42C06B792CE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A6DD-074F-44F1-9BD7-18A6609008F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B5E7-05DB-460B-B2DE-72FADE6E4980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59D2-1B25-4465-B29A-6C800064B85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428640" y="1107360"/>
            <a:ext cx="5695920" cy="4114800"/>
          </a:xfrm>
          <a:custGeom>
            <a:avLst/>
            <a:gdLst>
              <a:gd name="textAreaLeft" fmla="*/ 0 w 5695920"/>
              <a:gd name="textAreaRight" fmla="*/ 5621040 w 569592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695950" h="4114800">
                <a:moveTo>
                  <a:pt x="0" y="0"/>
                </a:moveTo>
                <a:lnTo>
                  <a:pt x="5545924" y="0"/>
                </a:lnTo>
                <a:lnTo>
                  <a:pt x="5695950" y="150026"/>
                </a:lnTo>
                <a:lnTo>
                  <a:pt x="569595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10800" y="581544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746600" y="621900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4654-EB0D-4012-8185-D09BB300976A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AD66-780B-4B57-B0E8-F19EC997696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. 12" descr=""/>
          <p:cNvPicPr/>
          <p:nvPr/>
        </p:nvPicPr>
        <p:blipFill>
          <a:blip r:embed="rId1"/>
          <a:stretch/>
        </p:blipFill>
        <p:spPr>
          <a:xfrm>
            <a:off x="628560" y="1457280"/>
            <a:ext cx="9167760" cy="2157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31800" y="4436640"/>
            <a:ext cx="3834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Косметик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из Итал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для всей семь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180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Линия Красоты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Уход за телом, руками и ногами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31800" y="2060640"/>
          <a:ext cx="6265800" cy="4203720"/>
        </p:xfrm>
        <a:graphic>
          <a:graphicData uri="http://schemas.openxmlformats.org/drawingml/2006/table">
            <a:tbl>
              <a:tblPr/>
              <a:tblGrid>
                <a:gridCol w="4254480"/>
                <a:gridCol w="1004760"/>
                <a:gridCol w="100656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0 ИНТИМО Жидкое мыло для интимного ухода с дозатором + 7694 ПРОМО  (жидкое мыло + мусс 75м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3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м для рук поливитами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87 Дезодорант-спрей для н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99 ИНТИМО Мусс для интимной гиги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83 Жидкое мыло мяг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8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дкое мыло для интимного у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8DF5-1BC7-47ED-8133-455D80CB30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Рисунок 391" descr="CL_9600_ITIMO_Gidkoe-mylo-IntimGigieny"/>
          <p:cNvPicPr/>
          <p:nvPr/>
        </p:nvPicPr>
        <p:blipFill>
          <a:blip r:embed="rId1"/>
          <a:stretch/>
        </p:blipFill>
        <p:spPr>
          <a:xfrm>
            <a:off x="7257960" y="1052640"/>
            <a:ext cx="1192320" cy="21985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93" descr="FG-1229337587084921"/>
          <p:cNvPicPr/>
          <p:nvPr/>
        </p:nvPicPr>
        <p:blipFill>
          <a:blip r:embed="rId2"/>
          <a:stretch/>
        </p:blipFill>
        <p:spPr>
          <a:xfrm>
            <a:off x="7400880" y="3860640"/>
            <a:ext cx="91440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95" descr="FG-1229411054248168"/>
          <p:cNvPicPr/>
          <p:nvPr/>
        </p:nvPicPr>
        <p:blipFill>
          <a:blip r:embed="rId3"/>
          <a:stretch/>
        </p:blipFill>
        <p:spPr>
          <a:xfrm>
            <a:off x="8553600" y="2924280"/>
            <a:ext cx="10778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0780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Линия Красоты</a:t>
            </a:r>
            <a:r>
              <a:rPr b="0" lang="ru-RU" sz="3600" spc="-1" strike="noStrike">
                <a:solidFill>
                  <a:srgbClr val="0076a3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Средства для депиляции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513240" y="3284640"/>
          <a:ext cx="5976720" cy="2741400"/>
        </p:xfrm>
        <a:graphic>
          <a:graphicData uri="http://schemas.openxmlformats.org/drawingml/2006/table">
            <a:tbl>
              <a:tblPr/>
              <a:tblGrid>
                <a:gridCol w="4108320"/>
                <a:gridCol w="797040"/>
                <a:gridCol w="1071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3 Полоски для депиляции (лицо и бик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69 Крем депилятор + ПРОМО 7729 (кр.депилятор+кр.п/депиля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4 Полоски для депиляци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5 Крем после депиля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AFB0-B9D7-443E-A2CA-3884183F4D0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Рисунок 185" descr="CL_8969_Depilyaciya_A"/>
          <p:cNvPicPr/>
          <p:nvPr/>
        </p:nvPicPr>
        <p:blipFill>
          <a:blip r:embed="rId1"/>
          <a:stretch/>
        </p:blipFill>
        <p:spPr>
          <a:xfrm>
            <a:off x="415800" y="3284640"/>
            <a:ext cx="2710080" cy="32781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90" descr="FG-1229411879182755"/>
          <p:cNvPicPr/>
          <p:nvPr/>
        </p:nvPicPr>
        <p:blipFill>
          <a:blip r:embed="rId2"/>
          <a:stretch/>
        </p:blipFill>
        <p:spPr>
          <a:xfrm>
            <a:off x="704880" y="1341360"/>
            <a:ext cx="162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92" descr="FG-1229411948328454"/>
          <p:cNvPicPr/>
          <p:nvPr/>
        </p:nvPicPr>
        <p:blipFill>
          <a:blip r:embed="rId3"/>
          <a:stretch/>
        </p:blipFill>
        <p:spPr>
          <a:xfrm>
            <a:off x="2792520" y="1413000"/>
            <a:ext cx="2520720" cy="14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2160" y="62028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Линия Красоты</a:t>
            </a:r>
            <a:r>
              <a:rPr b="0" lang="ru-RU" sz="3600" spc="-1" strike="noStrike">
                <a:solidFill>
                  <a:srgbClr val="0076a3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Средства для защиты от солнца. </a:t>
            </a:r>
            <a:br>
              <a:rPr sz="2900"/>
            </a:br>
            <a:r>
              <a:rPr b="0" lang="ru-RU" sz="2900" spc="-1" strike="noStrike">
                <a:solidFill>
                  <a:srgbClr val="85dfd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31800" y="2421000"/>
          <a:ext cx="6337440" cy="3165480"/>
        </p:xfrm>
        <a:graphic>
          <a:graphicData uri="http://schemas.openxmlformats.org/drawingml/2006/table">
            <a:tbl>
              <a:tblPr/>
              <a:tblGrid>
                <a:gridCol w="4600440"/>
                <a:gridCol w="901800"/>
                <a:gridCol w="8352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олочко солнцезащитное водостойко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F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1 Молочко солнцезащитное водостойко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F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Масло для загар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F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11 Освежающая и увлажняющая 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олочко после з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F7CD-5EB3-4CC4-8EF5-53F0ED25A24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Рисунок 76" descr="CL_9911_Osvegaushaya-uvlagnyaushaya voda"/>
          <p:cNvPicPr/>
          <p:nvPr/>
        </p:nvPicPr>
        <p:blipFill>
          <a:blip r:embed="rId1"/>
          <a:stretch/>
        </p:blipFill>
        <p:spPr>
          <a:xfrm>
            <a:off x="8408880" y="1557360"/>
            <a:ext cx="1176480" cy="35272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93" descr="FG-1229340881042810"/>
          <p:cNvPicPr/>
          <p:nvPr/>
        </p:nvPicPr>
        <p:blipFill>
          <a:blip r:embed="rId2"/>
          <a:stretch/>
        </p:blipFill>
        <p:spPr>
          <a:xfrm>
            <a:off x="7329600" y="1125360"/>
            <a:ext cx="600120" cy="25527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95" descr="FG-1229340768994122"/>
          <p:cNvPicPr/>
          <p:nvPr/>
        </p:nvPicPr>
        <p:blipFill>
          <a:blip r:embed="rId3"/>
          <a:stretch/>
        </p:blipFill>
        <p:spPr>
          <a:xfrm>
            <a:off x="7905600" y="3573360"/>
            <a:ext cx="609840" cy="26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4880" y="33300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Мужская косметика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48880" y="1557000"/>
            <a:ext cx="84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жская к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широкий ассортимент продукции для мужчин с нормальной и чувствительной кожей и ли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N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молодых муж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ны для бритья в алюминиевых баллона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ъемами 200мл и 300 мл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емы для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емы после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ель после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езодорант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ели для душ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осьоны после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альзамы после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уалетная во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C9D9-6F1D-4A02-8F3B-F245311A735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9240" y="2599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Мужская косметика 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Средства для бритья</a:t>
            </a:r>
            <a:r>
              <a:rPr b="0" lang="ru-RU" sz="2900" spc="-1" strike="noStrike">
                <a:solidFill>
                  <a:srgbClr val="85dfd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44520" y="2276640"/>
          <a:ext cx="6048360" cy="3539880"/>
        </p:xfrm>
        <a:graphic>
          <a:graphicData uri="http://schemas.openxmlformats.org/drawingml/2006/table">
            <a:tbl>
              <a:tblPr/>
              <a:tblGrid>
                <a:gridCol w="3949560"/>
                <a:gridCol w="970200"/>
                <a:gridCol w="11286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5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на для бритья с Авокадо + ПРОМО 7728 (пена для бритья + крем после брить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0 Крем после брить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27 Дезодорант-спрей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ic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осьон после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23 Пена для бритья с Авок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3 Крем для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516E-9C82-43A0-B3CD-8FD447FFEFD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211" descr="CL_7350L_Cream-after-britia"/>
          <p:cNvPicPr/>
          <p:nvPr/>
        </p:nvPicPr>
        <p:blipFill>
          <a:blip r:embed="rId1"/>
          <a:stretch/>
        </p:blipFill>
        <p:spPr>
          <a:xfrm>
            <a:off x="8048520" y="2492280"/>
            <a:ext cx="1540080" cy="280836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. 88"/>
          <p:cNvSpPr/>
          <p:nvPr/>
        </p:nvSpPr>
        <p:spPr>
          <a:xfrm>
            <a:off x="488880" y="33336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Рисунок 218" descr="FG-1229414338848470"/>
          <p:cNvPicPr/>
          <p:nvPr/>
        </p:nvPicPr>
        <p:blipFill>
          <a:blip r:embed="rId2"/>
          <a:stretch/>
        </p:blipFill>
        <p:spPr>
          <a:xfrm>
            <a:off x="6824520" y="2060640"/>
            <a:ext cx="96552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9240" y="76464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Мужская косметика для </a:t>
            </a:r>
            <a:br>
              <a:rPr sz="3600"/>
            </a:b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чувствительной кожи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Средства для бритья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584520" y="2637000"/>
          <a:ext cx="6121440" cy="3189240"/>
        </p:xfrm>
        <a:graphic>
          <a:graphicData uri="http://schemas.openxmlformats.org/drawingml/2006/table">
            <a:tbl>
              <a:tblPr/>
              <a:tblGrid>
                <a:gridCol w="4321080"/>
                <a:gridCol w="792360"/>
                <a:gridCol w="10080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7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на для брить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Алоэ Ве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2 Крем после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73 Крем для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41 Шампунь-гель для душа д/чувств.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75 Лосьон после бритья для чувствительной кожи, без спи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71ED-206D-4491-B203-E59E5D51E0A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Рисунок 153" descr="CL_7352_MEN-Moisten-Cream-after-shave"/>
          <p:cNvPicPr/>
          <p:nvPr/>
        </p:nvPicPr>
        <p:blipFill>
          <a:blip r:embed="rId1"/>
          <a:stretch/>
        </p:blipFill>
        <p:spPr>
          <a:xfrm>
            <a:off x="1712880" y="3573360"/>
            <a:ext cx="1384200" cy="241452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. 82"/>
          <p:cNvSpPr/>
          <p:nvPr/>
        </p:nvSpPr>
        <p:spPr>
          <a:xfrm>
            <a:off x="992160" y="33336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Рисунок 158" descr="FG-1229414307136350"/>
          <p:cNvPicPr/>
          <p:nvPr/>
        </p:nvPicPr>
        <p:blipFill>
          <a:blip r:embed="rId2"/>
          <a:stretch/>
        </p:blipFill>
        <p:spPr>
          <a:xfrm>
            <a:off x="488880" y="2205000"/>
            <a:ext cx="97308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7116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Мужская косметика </a:t>
            </a:r>
            <a:r>
              <a:rPr b="1" lang="en-US" sz="3600" spc="-1" strike="noStrike">
                <a:solidFill>
                  <a:srgbClr val="0076a3"/>
                </a:solidFill>
                <a:latin typeface="Calibri"/>
              </a:rPr>
              <a:t>YOUNG</a:t>
            </a: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 - для молодых мужчин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04880" y="1916280"/>
          <a:ext cx="5545080" cy="4046400"/>
        </p:xfrm>
        <a:graphic>
          <a:graphicData uri="http://schemas.openxmlformats.org/drawingml/2006/table">
            <a:tbl>
              <a:tblPr/>
              <a:tblGrid>
                <a:gridCol w="3722760"/>
                <a:gridCol w="834840"/>
                <a:gridCol w="987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7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осьон после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8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м-бальзам после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8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ль для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64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Шампунь-гель для ду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86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зодорант-сп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ль для бритья бороды и усов, прозра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A038-FF8A-492B-888A-B5BAC795990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Рисунок 44" descr="CL_7475_Aftershave-lotion"/>
          <p:cNvPicPr/>
          <p:nvPr/>
        </p:nvPicPr>
        <p:blipFill>
          <a:blip r:embed="rId1"/>
          <a:stretch/>
        </p:blipFill>
        <p:spPr>
          <a:xfrm>
            <a:off x="6897600" y="4365720"/>
            <a:ext cx="2519280" cy="168408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. 33"/>
          <p:cNvSpPr/>
          <p:nvPr/>
        </p:nvSpPr>
        <p:spPr>
          <a:xfrm>
            <a:off x="992160" y="33336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Рисунок 88" descr="06_CLIVEN_Aftershave-cream-bals"/>
          <p:cNvPicPr/>
          <p:nvPr/>
        </p:nvPicPr>
        <p:blipFill>
          <a:blip r:embed="rId2"/>
          <a:stretch/>
        </p:blipFill>
        <p:spPr>
          <a:xfrm>
            <a:off x="6824520" y="1700280"/>
            <a:ext cx="1665360" cy="2205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89" descr="05_CLIVEN_Technical-Shaving-gel"/>
          <p:cNvPicPr/>
          <p:nvPr/>
        </p:nvPicPr>
        <p:blipFill>
          <a:blip r:embed="rId3"/>
          <a:stretch/>
        </p:blipFill>
        <p:spPr>
          <a:xfrm>
            <a:off x="8624880" y="2349360"/>
            <a:ext cx="10414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31440" y="259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a3"/>
                </a:solidFill>
                <a:latin typeface="Calibri"/>
              </a:rPr>
              <a:t>Подарочные наборы КЛИВЕН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подарочные наборы над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ратить особое вним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арочные наборы Т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В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протяжении всей истории продаж пользуются большой популярност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оследние 4 года наибольшим спросом в периоды с августа по март пользуются подарочные набо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liven For Men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Их доля в общем объеме продаж в эти месяцы составляет у некоторых фирм более 40%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97EB-EEE0-425F-987B-90CD39EF80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7116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6a3"/>
                </a:solidFill>
                <a:latin typeface="Calibri"/>
              </a:rPr>
              <a:t>Подарочные наборы КЛИВЕН.</a:t>
            </a:r>
            <a:br>
              <a:rPr sz="4500"/>
            </a:br>
            <a:r>
              <a:rPr b="1" lang="ru-RU" sz="45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45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065240" y="1773360"/>
          <a:ext cx="8353440" cy="4846680"/>
        </p:xfrm>
        <a:graphic>
          <a:graphicData uri="http://schemas.openxmlformats.org/drawingml/2006/table">
            <a:tbl>
              <a:tblPr/>
              <a:tblGrid>
                <a:gridCol w="7561080"/>
                <a:gridCol w="792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-Пена д/брить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tiv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мл + крем п/брить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tiv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мл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ампунь-гель 25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-Пена д/бритья 200мл + крем п/бритья 100мл + гель д/душа Classic 25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1-Пена д/бритья 200мл + спрей-дезодорант Classic 20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-Пена д/брить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tiv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крем п/бритья S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ive 1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-Пена д/бритья 200мл + крем п/бритья 100мл + спрей-дезодорант Classic 20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-Шампунь 250мл +гель/душа Classic 250мл + спрей-дезодорант Classic 20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D48-441C-44CE-BDE3-234BE4D7ACF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45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a3"/>
                </a:solidFill>
                <a:latin typeface="Calibri"/>
              </a:rPr>
              <a:t>Подарочные наборы КЛИВЕН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F4C8-9D3A-4E83-BB6C-1FFD23245FD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Рисунок 12" descr="FG-1233141697322234"/>
          <p:cNvPicPr/>
          <p:nvPr/>
        </p:nvPicPr>
        <p:blipFill>
          <a:blip r:embed="rId1"/>
          <a:stretch/>
        </p:blipFill>
        <p:spPr>
          <a:xfrm>
            <a:off x="4089240" y="4005360"/>
            <a:ext cx="1570320" cy="248112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14" descr="FG-1233141731385145"/>
          <p:cNvPicPr/>
          <p:nvPr/>
        </p:nvPicPr>
        <p:blipFill>
          <a:blip r:embed="rId2"/>
          <a:stretch/>
        </p:blipFill>
        <p:spPr>
          <a:xfrm>
            <a:off x="1446120" y="4005360"/>
            <a:ext cx="1608120" cy="25192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16" descr="FG-1233143326669657"/>
          <p:cNvPicPr/>
          <p:nvPr/>
        </p:nvPicPr>
        <p:blipFill>
          <a:blip r:embed="rId3"/>
          <a:stretch/>
        </p:blipFill>
        <p:spPr>
          <a:xfrm>
            <a:off x="6608880" y="4076640"/>
            <a:ext cx="2374920" cy="214488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17" descr="C:\Documents and Settings\kirienko\Мои документы\МОИ ДОКУМЕНТЫ\ПН2010\ФОТО ПН2010\ПН 102.GIF"/>
          <p:cNvPicPr/>
          <p:nvPr/>
        </p:nvPicPr>
        <p:blipFill>
          <a:blip r:embed="rId4"/>
          <a:stretch/>
        </p:blipFill>
        <p:spPr>
          <a:xfrm>
            <a:off x="6002280" y="1413000"/>
            <a:ext cx="2408400" cy="244764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8" descr="C:\Documents and Settings\kirienko\Мои документы\МОИ ДОКУМЕНТЫ\ПН2010\ФОТО ПН2010\ПН 101.GIF"/>
          <p:cNvPicPr/>
          <p:nvPr/>
        </p:nvPicPr>
        <p:blipFill>
          <a:blip r:embed="rId5"/>
          <a:stretch/>
        </p:blipFill>
        <p:spPr>
          <a:xfrm>
            <a:off x="2216160" y="1413000"/>
            <a:ext cx="23763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Историческая спра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91800" y="2276280"/>
            <a:ext cx="8434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ция под торговой марк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ИВЕ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ускается компани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L.C.A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Италия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анная в 1958 году комп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L.C.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одним из лидеров сре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елей косметики на европейск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ынк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42DE-20CF-4A91-B4E6-A923DEC5901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39440" y="549000"/>
            <a:ext cx="69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РОМО наборы 2011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22000" y="1916280"/>
            <a:ext cx="7923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ПРОМО наборы ТМ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ive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созданы по  следующим основным принципа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е ПРОМО используются лидеры продаж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ин из продуктов, входящий в состав ПРОМО набора, дарится покупател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О наборы имеют штрих-код и цену одинаковую с основным продуктом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39B1-867D-408B-B018-235EF3631E1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48880" y="765000"/>
            <a:ext cx="6473880" cy="92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РОМО наборы 2011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64880" y="1341000"/>
            <a:ext cx="856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Арт. 7694. Интимное мыло 3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9600 + Мусс для интимно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гиены 75мл, арт. 9797 в подар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Арт. 7728. Пена для бритья 3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7205 + Крем после бритья 1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7350 в подар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A4A-83F3-4A61-8624-766E7D9E50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C:\Documents and Settings\kirienko\Мои документы\МОИ ДОКУМЕНТЫ\2010\НОВИНКИ2010\7694 promo(9600+9797).jpg"/>
          <p:cNvPicPr/>
          <p:nvPr/>
        </p:nvPicPr>
        <p:blipFill>
          <a:blip r:embed="rId1"/>
          <a:stretch/>
        </p:blipFill>
        <p:spPr>
          <a:xfrm>
            <a:off x="7400880" y="1268280"/>
            <a:ext cx="1944720" cy="25099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7" descr="Y:\--Visuals--\Визуалы 2011\CLIVEN\PROMO-FOR-MEN-2011.jpg"/>
          <p:cNvPicPr/>
          <p:nvPr/>
        </p:nvPicPr>
        <p:blipFill>
          <a:blip r:embed="rId2"/>
          <a:stretch/>
        </p:blipFill>
        <p:spPr>
          <a:xfrm>
            <a:off x="6537240" y="3789360"/>
            <a:ext cx="144000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60160" y="333000"/>
            <a:ext cx="704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РОМО наборы 2011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64880" y="1341000"/>
            <a:ext cx="856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Арт. 7729. Крем-депилятор 15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8969 + Крем после депиляции 1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8915 в подарок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Арт. 7730.  Бальзам для волос 5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8655 + Шампунь на травах 5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8652 в подар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Арт. 7731. Крем для рук "Барьер"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0мл, арт. 9584 +  Поливитаминны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ем для рук 100мл, арт. 9583 в подаро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A555-B0FE-45C1-802D-F22BBBB6737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Рисунок 8" descr="C:\Documents and Settings\kirienko\Мои документы\FOTO\ПРОМО 2011\PROMO depilazione 2011.jpg"/>
          <p:cNvPicPr/>
          <p:nvPr/>
        </p:nvPicPr>
        <p:blipFill>
          <a:blip r:embed="rId1"/>
          <a:stretch/>
        </p:blipFill>
        <p:spPr>
          <a:xfrm>
            <a:off x="7040520" y="1197000"/>
            <a:ext cx="936720" cy="20718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9" descr="Y:\--Visuals--\Визуалы 2011\CLIVEN\PROMO-capelli-2011.jpg"/>
          <p:cNvPicPr/>
          <p:nvPr/>
        </p:nvPicPr>
        <p:blipFill>
          <a:blip r:embed="rId2"/>
          <a:stretch/>
        </p:blipFill>
        <p:spPr>
          <a:xfrm>
            <a:off x="8121600" y="2276640"/>
            <a:ext cx="1224000" cy="272556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0" descr="Y:\--Visuals--\Визуалы 2011\CLIVEN\PROMO-MANI-2011.jpg"/>
          <p:cNvPicPr/>
          <p:nvPr/>
        </p:nvPicPr>
        <p:blipFill>
          <a:blip r:embed="rId3"/>
          <a:stretch/>
        </p:blipFill>
        <p:spPr>
          <a:xfrm>
            <a:off x="6969240" y="4797360"/>
            <a:ext cx="10080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6a3"/>
                </a:solidFill>
                <a:latin typeface="Calibri"/>
              </a:rPr>
              <a:t>Акции в ТМ </a:t>
            </a:r>
            <a:r>
              <a:rPr b="1" lang="en-US" sz="4500" spc="-1" strike="noStrike">
                <a:solidFill>
                  <a:srgbClr val="0076a3"/>
                </a:solidFill>
                <a:latin typeface="Calibri"/>
              </a:rPr>
              <a:t>CLIVEN </a:t>
            </a:r>
            <a:r>
              <a:rPr b="1" lang="ru-RU" sz="4500" spc="-1" strike="noStrike">
                <a:solidFill>
                  <a:srgbClr val="0076a3"/>
                </a:solidFill>
                <a:latin typeface="Calibri"/>
              </a:rPr>
              <a:t>в июне 2011г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 С 1 по 30 июня на весь ассортимент солнечной ли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V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едоставлена скидка 25%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С 1 по 30 июня на весь ассортимент линии депиля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VE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а скидка 15%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F65E-3D73-49A7-B922-8C96C6418A3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52520" y="259920"/>
            <a:ext cx="417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ерспектив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64880" y="1628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 20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году реализуются следующие решения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тимизация ассортимента продаваемых товар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Активная продажа сезонных товаров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сна-лето – средства  для депиляц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сна-лето – солнечная ли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ень-зима – продажа подарочных набор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Налаживание более тесного взаимодействия с дилер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D413-5572-4B58-9645-C92925B7A44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Прямоуг. 4" descr=""/>
          <p:cNvPicPr/>
          <p:nvPr/>
        </p:nvPicPr>
        <p:blipFill>
          <a:blip r:embed="rId1"/>
          <a:stretch/>
        </p:blipFill>
        <p:spPr>
          <a:xfrm>
            <a:off x="480960" y="2341440"/>
            <a:ext cx="9034560" cy="18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Историческая спра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4880" y="2276280"/>
            <a:ext cx="8567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продаж продукции под торгов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рк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В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России начинается с 199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2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году исполняется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лет со д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ых продаж продукции ТМ КЛИВЕН в Росс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течение всех этих лет наша компания успеш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тверждает свой статус эксклюзив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стрибьютора по продаже товаров линий Красоты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Мужчин, линии депиляции, солнечной линии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1CA0-63CF-4C56-BBD2-1EAC21FD464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96880" y="691920"/>
            <a:ext cx="755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Основополагающие принципы </a:t>
            </a:r>
            <a:br>
              <a:rPr sz="3600"/>
            </a:b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косметики КЛИВЕН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04520" y="2349000"/>
            <a:ext cx="8915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сметика КЛИВ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поаллерген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сметика содерж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туральные, биоактивные компонен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сметика производится с применением самых современных технолог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79F1-1428-4B0A-BFE2-1212714CD1F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Уникальные преимуще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я продукция КЛИВЕН производится только в Италии в полном соответствии с мировыми стандартами косметического производств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ысокое качество сырь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вейшие технологи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качества на каждом этапе производст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линические испыта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это гарантирует на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и покупке  товаров торговой марки КЛИВ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учение высококачественных и безопасных в применении продук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7A8-A199-4E48-867D-37E81DE5C19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907560"/>
            <a:ext cx="89154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Уникальные преимуще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1800" y="2349000"/>
            <a:ext cx="84200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дукция КЛИВЕ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классическим «зонтиком» со всеми атрибут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готип, цвет, фирменный стиль, позициониро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добная продуманная упаковка, выдержанная в едином стиле хорошо заметна на полках и привлекает внимание покупате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1820-38BF-45A5-9EB0-24F22B9F93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80880" y="259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озиционирование</a:t>
            </a:r>
            <a:r>
              <a:rPr b="0" lang="ru-RU" sz="5000" spc="-1" strike="noStrike">
                <a:solidFill>
                  <a:srgbClr val="85dfd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36160" y="1557360"/>
            <a:ext cx="842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сметика для всей семь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о от возраста и пола каждый найдет необходимое для себя средство по уход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еновой диапазон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хний и средний и сегмент «массмаркет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 1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евро в роз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ижайшие конкурент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v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ore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llet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warzkopf &amp; Henk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b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Нижний колонтитул 4"/>
          <p:cNvSpPr/>
          <p:nvPr/>
        </p:nvSpPr>
        <p:spPr>
          <a:xfrm>
            <a:off x="4881600" y="623736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2881-CAB6-4082-9C60-13D34AB2BCD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7800" y="764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КЛИВЕН</a:t>
            </a:r>
            <a:r>
              <a:rPr b="0" lang="ru-RU" sz="5000" spc="-1" strike="noStrike">
                <a:solidFill>
                  <a:srgbClr val="0076a3"/>
                </a:solidFill>
                <a:latin typeface="Calibri"/>
              </a:rPr>
              <a:t>– это несколько серий косметической продук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64880" y="2205000"/>
            <a:ext cx="84200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ния Крас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серия для ежедневног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хода за волосами и кожей лица и тел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ампуни, бальзамы для волос на трав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дкое мыло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емы для лица, рук и тел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ия продуктов по уходу за ног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ия продуктов для депиля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лнцезащитная серия продук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C698-892C-48B4-9B84-7CAFD4A6372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7116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Линия Красоты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Уход за волосами</a:t>
            </a:r>
            <a:r>
              <a:rPr b="0" lang="ru-RU" sz="2900" spc="-1" strike="noStrike">
                <a:solidFill>
                  <a:srgbClr val="85dfd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92160" y="2205000"/>
          <a:ext cx="6048360" cy="3560760"/>
        </p:xfrm>
        <a:graphic>
          <a:graphicData uri="http://schemas.openxmlformats.org/drawingml/2006/table">
            <a:tbl>
              <a:tblPr/>
              <a:tblGrid>
                <a:gridCol w="4105440"/>
                <a:gridCol w="934920"/>
                <a:gridCol w="10080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55 Бальзам на растительных экстрак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52 Шампунь на трав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49 Шампунь + баль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46 Шампунь нейтр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43 Шампунь защи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6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ампунь-крем с витамином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3131-4CEB-40FA-A61D-5DA24A4F110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Рисунок 400" descr="FG-1229082800651946"/>
          <p:cNvPicPr/>
          <p:nvPr/>
        </p:nvPicPr>
        <p:blipFill>
          <a:blip r:embed="rId1"/>
          <a:stretch/>
        </p:blipFill>
        <p:spPr>
          <a:xfrm>
            <a:off x="7257960" y="1773360"/>
            <a:ext cx="1062000" cy="2657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02" descr="FG-1229437928808379"/>
          <p:cNvPicPr/>
          <p:nvPr/>
        </p:nvPicPr>
        <p:blipFill>
          <a:blip r:embed="rId2"/>
          <a:stretch/>
        </p:blipFill>
        <p:spPr>
          <a:xfrm>
            <a:off x="8553600" y="3141720"/>
            <a:ext cx="1056960" cy="262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1:23:29Z</dcterms:created>
  <dc:creator>Cергей Кириенко</dc:creator>
  <dc:description/>
  <dc:language>en-US</dc:language>
  <cp:lastModifiedBy>kirienko</cp:lastModifiedBy>
  <dcterms:modified xsi:type="dcterms:W3CDTF">2011-06-20T13:38:35Z</dcterms:modified>
  <cp:revision>114</cp:revision>
  <dc:subject/>
  <dc:title>ТОРГОВАЯ МАРКА</dc:title>
</cp:coreProperties>
</file>