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696600" y="739440"/>
            <a:ext cx="534492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6E65-A937-473F-A055-CD95F6AA83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. 7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B55F-B097-4EFD-A094-98EA061CCD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4920" cy="3700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E67-A6C8-4B17-9F4B-FC17D1A8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A32-CBC1-4799-891D-1AEB487D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83C-F5B4-4DE4-AE22-2F107607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4DC-873D-4A35-9B31-50FBA369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AAC8-DC42-4C93-8DA6-8F57CCA4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7740-9FCA-40AF-A3A8-04E1365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4356-13A2-4778-B6B2-57448235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2A76-7598-4F3A-85E1-4AAA08E5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D4E2-6C06-4BD9-B09D-77710A3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229F-FA01-4343-BAB5-7D61FBD8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F291-C67F-4492-9089-82EE8A7F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F05-079A-4026-B691-782B2DF8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FBBE-E71F-47D7-8B23-83D0C78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F248-C1CD-4FEC-A8FB-68BC192A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61CD-BEE5-41BA-9729-BB588C8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477B-8937-4DD3-8F9B-E6AFA9CD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ED59-2505-47C2-9830-779EB068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AE3E-39FE-4C8B-9745-64FEC175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37EC-048B-4005-AA6A-0F956AAB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DA65-E3A1-434C-8F24-223EB83A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10B4-AEB0-40CD-9CAD-C8E36D4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BA29-F72E-4995-89FD-5BC5B6F2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76B-C31E-4D96-9154-26EE27B9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0CDB-25D6-4947-BB90-6926E058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C766D-D1B2-4638-871A-2848AF48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B859-A377-4D18-860E-B8DA20C1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3668-4C60-4E1B-8BAC-B473667E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992C-82EE-465E-8A67-E9AC21DE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2367-68B2-485A-A7DF-AB95E581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3BB2-E64A-4C93-AE9A-E9553EC3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BF13D-3FFC-4FA8-A951-8A33DD5A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DE69-EFAD-42FE-B504-FB167CEF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1B6D-5F14-41F5-87CD-B0251B64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8AB-AF3A-46DE-85DB-27842CFE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17047-37EC-4224-B12D-1C7892D1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CE15-E782-4BC8-9B4F-02115583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E016-B521-420C-AA26-358D8861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45725-E4B1-4B8A-B04D-5BF94424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0DD87-7BDA-4087-9624-C499A332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E91C8-0901-4DB3-B2F6-E3F0E14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A74E-237B-496E-A04E-48E33AEB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27F1-48FA-42C2-860C-1E3067EF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964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24280" y="19346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500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0964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24280" y="4227840"/>
            <a:ext cx="287064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6B8A0-FBC9-4C8D-9936-E26FA82A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0E1-9534-4546-BD4E-129733C1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7045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D05-07A3-4A22-9C37-41273EA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1D3-13CD-4D65-8C3D-189A28A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2278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1BB-7966-4312-BFE2-EBC8C89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34640"/>
            <a:ext cx="4350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22784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3AB-C4CB-47D8-8F1F-21C1F85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C28F-7815-4144-911E-4DB5FA22A02E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2FA2-A7B0-46B4-8752-B1C3756DB31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8574-BC38-400C-9888-F12B0427B811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7AF5-3528-4936-BA75-0A8954CAC68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746600" y="-792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03040"/>
            <a:ext cx="9946080" cy="648000"/>
            <a:chOff x="-20520" y="203040"/>
            <a:chExt cx="9946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03040"/>
              <a:ext cx="9928080" cy="648000"/>
              <a:chOff x="-20520" y="203040"/>
              <a:chExt cx="992808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97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4400" y="246600"/>
              <a:ext cx="9939960" cy="564480"/>
              <a:chOff x="-14400" y="246600"/>
              <a:chExt cx="9939960" cy="5644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376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69FC-4BA4-4056-BAF9-0BE1823ADF6A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58492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A3DC-73B5-45DE-A32F-EFE2A514295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428640" y="1107360"/>
            <a:ext cx="5695920" cy="4114800"/>
          </a:xfrm>
          <a:custGeom>
            <a:avLst/>
            <a:gdLst>
              <a:gd name="textAreaLeft" fmla="*/ 0 w 5695920"/>
              <a:gd name="textAreaRight" fmla="*/ 5621040 w 569592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695950" h="4114800">
                <a:moveTo>
                  <a:pt x="0" y="0"/>
                </a:moveTo>
                <a:lnTo>
                  <a:pt x="5545924" y="0"/>
                </a:lnTo>
                <a:lnTo>
                  <a:pt x="5695950" y="150026"/>
                </a:lnTo>
                <a:lnTo>
                  <a:pt x="569595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670600" y="5358960"/>
            <a:ext cx="1681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10800" y="5815440"/>
            <a:ext cx="9928440" cy="1041480"/>
          </a:xfrm>
          <a:custGeom>
            <a:avLst/>
            <a:gdLst>
              <a:gd name="textAreaLeft" fmla="*/ 0 w 9928440"/>
              <a:gd name="textAreaRight" fmla="*/ 9928800 w 992844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746600" y="6219000"/>
            <a:ext cx="5159520" cy="638280"/>
          </a:xfrm>
          <a:custGeom>
            <a:avLst/>
            <a:gdLst>
              <a:gd name="textAreaLeft" fmla="*/ 0 w 5159520"/>
              <a:gd name="textAreaRight" fmla="*/ 5159880 w 515952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5B5-4E83-4D81-9BF1-E55A82D0D995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88900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749800" y="6356520"/>
            <a:ext cx="660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F850-2CA7-4609-B233-C924DFBDA92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. 12" descr=""/>
          <p:cNvPicPr/>
          <p:nvPr/>
        </p:nvPicPr>
        <p:blipFill>
          <a:blip r:embed="rId1"/>
          <a:stretch/>
        </p:blipFill>
        <p:spPr>
          <a:xfrm>
            <a:off x="628560" y="1457280"/>
            <a:ext cx="9167760" cy="2157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31800" y="4436640"/>
            <a:ext cx="3834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Косметик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из Итал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для всей семь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180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Линия Красоты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Уход за телом, руками и ногами </a:t>
            </a:r>
            <a:br>
              <a:rPr sz="2900"/>
            </a:b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31800" y="2060640"/>
          <a:ext cx="6265800" cy="4203720"/>
        </p:xfrm>
        <a:graphic>
          <a:graphicData uri="http://schemas.openxmlformats.org/drawingml/2006/table">
            <a:tbl>
              <a:tblPr/>
              <a:tblGrid>
                <a:gridCol w="4254480"/>
                <a:gridCol w="1004760"/>
                <a:gridCol w="100656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0 ИНТИМО Жидкое мыло для интимного ухода с дозатором + 7694 ПРОМО  (жидкое мыло + мусс 75м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3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м для рук поливитами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87 Дезодорант-спрей для н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99 ИНТИМО Мусс для интимной гиги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83 Жидкое мыло мяг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8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идкое мыло для интимного у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C78D-AA47-4270-93EF-4D28D817C48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Рисунок 391" descr="CL_9600_ITIMO_Gidkoe-mylo-IntimGigieny"/>
          <p:cNvPicPr/>
          <p:nvPr/>
        </p:nvPicPr>
        <p:blipFill>
          <a:blip r:embed="rId1"/>
          <a:stretch/>
        </p:blipFill>
        <p:spPr>
          <a:xfrm>
            <a:off x="7257960" y="1052640"/>
            <a:ext cx="1192320" cy="21985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93" descr="FG-1229337587084921"/>
          <p:cNvPicPr/>
          <p:nvPr/>
        </p:nvPicPr>
        <p:blipFill>
          <a:blip r:embed="rId2"/>
          <a:stretch/>
        </p:blipFill>
        <p:spPr>
          <a:xfrm>
            <a:off x="7400880" y="3860640"/>
            <a:ext cx="91440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95" descr="FG-1229411054248168"/>
          <p:cNvPicPr/>
          <p:nvPr/>
        </p:nvPicPr>
        <p:blipFill>
          <a:blip r:embed="rId3"/>
          <a:stretch/>
        </p:blipFill>
        <p:spPr>
          <a:xfrm>
            <a:off x="8553600" y="2924280"/>
            <a:ext cx="10778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0780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Линия Красоты</a:t>
            </a:r>
            <a:r>
              <a:rPr b="0" lang="ru-RU" sz="3600" spc="-1" strike="noStrike">
                <a:solidFill>
                  <a:srgbClr val="0076a3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Средства для депиляции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513240" y="3284640"/>
          <a:ext cx="5976720" cy="2741400"/>
        </p:xfrm>
        <a:graphic>
          <a:graphicData uri="http://schemas.openxmlformats.org/drawingml/2006/table">
            <a:tbl>
              <a:tblPr/>
              <a:tblGrid>
                <a:gridCol w="4108320"/>
                <a:gridCol w="797040"/>
                <a:gridCol w="1071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3 Полоски для депиляции (лицо и бик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69 Крем депилятор + ПРОМО 7729 (кр.депилятор+кр.п/депиля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4 Полоски для депиляци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15 Крем после депиля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05D8-F5CA-4B67-8713-C1F880104C6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Рисунок 185" descr="CL_8969_Depilyaciya_A"/>
          <p:cNvPicPr/>
          <p:nvPr/>
        </p:nvPicPr>
        <p:blipFill>
          <a:blip r:embed="rId1"/>
          <a:stretch/>
        </p:blipFill>
        <p:spPr>
          <a:xfrm>
            <a:off x="415800" y="3284640"/>
            <a:ext cx="2710080" cy="32781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90" descr="FG-1229411879182755"/>
          <p:cNvPicPr/>
          <p:nvPr/>
        </p:nvPicPr>
        <p:blipFill>
          <a:blip r:embed="rId2"/>
          <a:stretch/>
        </p:blipFill>
        <p:spPr>
          <a:xfrm>
            <a:off x="704880" y="1341360"/>
            <a:ext cx="162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92" descr="FG-1229411948328454"/>
          <p:cNvPicPr/>
          <p:nvPr/>
        </p:nvPicPr>
        <p:blipFill>
          <a:blip r:embed="rId3"/>
          <a:stretch/>
        </p:blipFill>
        <p:spPr>
          <a:xfrm>
            <a:off x="2792520" y="1413000"/>
            <a:ext cx="2520720" cy="14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2160" y="620280"/>
            <a:ext cx="5842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Линия Красоты</a:t>
            </a:r>
            <a:r>
              <a:rPr b="0" lang="ru-RU" sz="3600" spc="-1" strike="noStrike">
                <a:solidFill>
                  <a:srgbClr val="0076a3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Средства для защиты от солнца. </a:t>
            </a:r>
            <a:br>
              <a:rPr sz="2900"/>
            </a:br>
            <a:r>
              <a:rPr b="0" lang="ru-RU" sz="2900" spc="-1" strike="noStrike">
                <a:solidFill>
                  <a:srgbClr val="85dfd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31800" y="2421000"/>
          <a:ext cx="6337440" cy="3165480"/>
        </p:xfrm>
        <a:graphic>
          <a:graphicData uri="http://schemas.openxmlformats.org/drawingml/2006/table">
            <a:tbl>
              <a:tblPr/>
              <a:tblGrid>
                <a:gridCol w="4600440"/>
                <a:gridCol w="901800"/>
                <a:gridCol w="8352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олочко солнцезащитное водостойко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F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1 Молочко солнцезащитное водостойко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F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Масло для загар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F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11 Освежающая и увлажняющая 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8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олочко после з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16C2-C934-4CCC-8E67-AB6EEA459E6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Рисунок 76" descr="CL_9911_Osvegaushaya-uvlagnyaushaya voda"/>
          <p:cNvPicPr/>
          <p:nvPr/>
        </p:nvPicPr>
        <p:blipFill>
          <a:blip r:embed="rId1"/>
          <a:stretch/>
        </p:blipFill>
        <p:spPr>
          <a:xfrm>
            <a:off x="8408880" y="1557360"/>
            <a:ext cx="1176480" cy="35272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93" descr="FG-1229340881042810"/>
          <p:cNvPicPr/>
          <p:nvPr/>
        </p:nvPicPr>
        <p:blipFill>
          <a:blip r:embed="rId2"/>
          <a:stretch/>
        </p:blipFill>
        <p:spPr>
          <a:xfrm>
            <a:off x="7329600" y="1125360"/>
            <a:ext cx="600120" cy="255276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95" descr="FG-1229340768994122"/>
          <p:cNvPicPr/>
          <p:nvPr/>
        </p:nvPicPr>
        <p:blipFill>
          <a:blip r:embed="rId3"/>
          <a:stretch/>
        </p:blipFill>
        <p:spPr>
          <a:xfrm>
            <a:off x="7905600" y="3573360"/>
            <a:ext cx="609840" cy="26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4880" y="33300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Мужская косметика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48880" y="1557000"/>
            <a:ext cx="84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жская к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широкий ассортимент продукции для мужчин с нормальной и чувствительной кожей и ли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N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молодых муж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ны для бритья в алюминиевых баллонах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ъемами 200мл и 300 мл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емы для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емы после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ель после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езодорант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ели для душ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осьоны после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альзамы после брить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уалетная во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771-928F-4A5A-B47E-23ADD41A788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9240" y="25992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Мужская косметика 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Средства для бритья</a:t>
            </a:r>
            <a:r>
              <a:rPr b="0" lang="ru-RU" sz="2900" spc="-1" strike="noStrike">
                <a:solidFill>
                  <a:srgbClr val="85dfd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44520" y="2276640"/>
          <a:ext cx="6048360" cy="3539880"/>
        </p:xfrm>
        <a:graphic>
          <a:graphicData uri="http://schemas.openxmlformats.org/drawingml/2006/table">
            <a:tbl>
              <a:tblPr/>
              <a:tblGrid>
                <a:gridCol w="3949560"/>
                <a:gridCol w="970200"/>
                <a:gridCol w="11286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5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на для бритья с Авокадо + ПРОМО 7728 (пена для бритья + крем после брить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0 Крем после брить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27 Дезодорант-спрей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ic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осьон после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23 Пена для бритья с Авок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3 Крем для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092-DF37-4AB8-823E-F2F2369E332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211" descr="CL_7350L_Cream-after-britia"/>
          <p:cNvPicPr/>
          <p:nvPr/>
        </p:nvPicPr>
        <p:blipFill>
          <a:blip r:embed="rId1"/>
          <a:stretch/>
        </p:blipFill>
        <p:spPr>
          <a:xfrm>
            <a:off x="8048520" y="2492280"/>
            <a:ext cx="1540080" cy="280836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. 88"/>
          <p:cNvSpPr/>
          <p:nvPr/>
        </p:nvSpPr>
        <p:spPr>
          <a:xfrm>
            <a:off x="488880" y="33336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Рисунок 218" descr="FG-1229414338848470"/>
          <p:cNvPicPr/>
          <p:nvPr/>
        </p:nvPicPr>
        <p:blipFill>
          <a:blip r:embed="rId2"/>
          <a:stretch/>
        </p:blipFill>
        <p:spPr>
          <a:xfrm>
            <a:off x="6824520" y="2060640"/>
            <a:ext cx="96552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9240" y="76464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Мужская косметика для </a:t>
            </a:r>
            <a:br>
              <a:rPr sz="3600"/>
            </a:b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чувствительной кожи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Средства для бритья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584520" y="2637000"/>
          <a:ext cx="6121440" cy="3189240"/>
        </p:xfrm>
        <a:graphic>
          <a:graphicData uri="http://schemas.openxmlformats.org/drawingml/2006/table">
            <a:tbl>
              <a:tblPr/>
              <a:tblGrid>
                <a:gridCol w="4321080"/>
                <a:gridCol w="792360"/>
                <a:gridCol w="10080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7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на для брить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Алоэ Ве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2 Крем после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73 Крем для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41 Шампунь-гель для душа д/чувств.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75 Лосьон после бритья для чувствительной кожи, без спи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A235-022E-4E30-9856-D72E4A15FE1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Рисунок 153" descr="CL_7352_MEN-Moisten-Cream-after-shave"/>
          <p:cNvPicPr/>
          <p:nvPr/>
        </p:nvPicPr>
        <p:blipFill>
          <a:blip r:embed="rId1"/>
          <a:stretch/>
        </p:blipFill>
        <p:spPr>
          <a:xfrm>
            <a:off x="1712880" y="3573360"/>
            <a:ext cx="1384200" cy="241452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. 82"/>
          <p:cNvSpPr/>
          <p:nvPr/>
        </p:nvSpPr>
        <p:spPr>
          <a:xfrm>
            <a:off x="992160" y="33336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Рисунок 158" descr="FG-1229414307136350"/>
          <p:cNvPicPr/>
          <p:nvPr/>
        </p:nvPicPr>
        <p:blipFill>
          <a:blip r:embed="rId2"/>
          <a:stretch/>
        </p:blipFill>
        <p:spPr>
          <a:xfrm>
            <a:off x="488880" y="2205000"/>
            <a:ext cx="97308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7116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Мужская косметика </a:t>
            </a:r>
            <a:r>
              <a:rPr b="1" lang="en-US" sz="3600" spc="-1" strike="noStrike">
                <a:solidFill>
                  <a:srgbClr val="0076a3"/>
                </a:solidFill>
                <a:latin typeface="Calibri"/>
              </a:rPr>
              <a:t>YOUNG</a:t>
            </a: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 - для молодых мужчин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04880" y="1916280"/>
          <a:ext cx="5545080" cy="4046400"/>
        </p:xfrm>
        <a:graphic>
          <a:graphicData uri="http://schemas.openxmlformats.org/drawingml/2006/table">
            <a:tbl>
              <a:tblPr/>
              <a:tblGrid>
                <a:gridCol w="3722760"/>
                <a:gridCol w="834840"/>
                <a:gridCol w="987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7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осьон после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8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м-бальзам после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8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ль для бри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64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Шампунь-гель для ду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86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зодорант-сп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NG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ль для бритья бороды и усов, прозра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FE92-F715-4AD1-A04B-A510BED7BC8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Рисунок 44" descr="CL_7475_Aftershave-lotion"/>
          <p:cNvPicPr/>
          <p:nvPr/>
        </p:nvPicPr>
        <p:blipFill>
          <a:blip r:embed="rId1"/>
          <a:stretch/>
        </p:blipFill>
        <p:spPr>
          <a:xfrm>
            <a:off x="6897600" y="4365720"/>
            <a:ext cx="2519280" cy="168408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. 33"/>
          <p:cNvSpPr/>
          <p:nvPr/>
        </p:nvSpPr>
        <p:spPr>
          <a:xfrm>
            <a:off x="992160" y="33336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Рисунок 88" descr="06_CLIVEN_Aftershave-cream-bals"/>
          <p:cNvPicPr/>
          <p:nvPr/>
        </p:nvPicPr>
        <p:blipFill>
          <a:blip r:embed="rId2"/>
          <a:stretch/>
        </p:blipFill>
        <p:spPr>
          <a:xfrm>
            <a:off x="6824520" y="1700280"/>
            <a:ext cx="1665360" cy="2205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89" descr="05_CLIVEN_Technical-Shaving-gel"/>
          <p:cNvPicPr/>
          <p:nvPr/>
        </p:nvPicPr>
        <p:blipFill>
          <a:blip r:embed="rId3"/>
          <a:stretch/>
        </p:blipFill>
        <p:spPr>
          <a:xfrm>
            <a:off x="8624880" y="2349360"/>
            <a:ext cx="10414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31440" y="259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a3"/>
                </a:solidFill>
                <a:latin typeface="Calibri"/>
              </a:rPr>
              <a:t>Подарочные наборы КЛИВЕН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подарочные наборы над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ратить особое внима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арочные наборы Т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В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протяжении всей истории продаж пользуются большой популярност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оследние 4 года наибольшим спросом в периоды с августа по март пользуются подарочные набо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liven For Men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Их доля в общем объеме продаж в эти месяцы составляет у некоторых фирм более 40%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1CFA-EF37-41DC-BA6D-339B00FED8F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7116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6a3"/>
                </a:solidFill>
                <a:latin typeface="Calibri"/>
              </a:rPr>
              <a:t>Подарочные наборы КЛИВЕН.</a:t>
            </a:r>
            <a:br>
              <a:rPr sz="4500"/>
            </a:br>
            <a:r>
              <a:rPr b="1" lang="ru-RU" sz="45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1" lang="ru-RU" sz="45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45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065240" y="1773360"/>
          <a:ext cx="8353440" cy="4846680"/>
        </p:xfrm>
        <a:graphic>
          <a:graphicData uri="http://schemas.openxmlformats.org/drawingml/2006/table">
            <a:tbl>
              <a:tblPr/>
              <a:tblGrid>
                <a:gridCol w="7561080"/>
                <a:gridCol w="792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-Пена д/брить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tiv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мл + крем п/брить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tiv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мл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ампунь-гель 25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-Пена д/бритья 200мл + крем п/бритья 100мл + гель д/душа Classic 25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1-Пена д/бритья 200мл + спрей-дезодорант Classic 20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-Пена д/брить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tiv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крем п/бритья S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ive 1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-Пена д/бритья 200мл + крем п/бритья 100мл + спрей-дезодорант Classic 20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-Шампунь 250мл +гель/душа Classic 250мл + спрей-дезодорант Classic 20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DED3-293C-4289-9C7E-A93FFC7CE68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45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a3"/>
                </a:solidFill>
                <a:latin typeface="Calibri"/>
              </a:rPr>
              <a:t>Подарочные наборы КЛИВЕН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01A1-85F9-441D-9948-0FE7CD2D20A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Рисунок 12" descr="FG-1233141697322234"/>
          <p:cNvPicPr/>
          <p:nvPr/>
        </p:nvPicPr>
        <p:blipFill>
          <a:blip r:embed="rId1"/>
          <a:stretch/>
        </p:blipFill>
        <p:spPr>
          <a:xfrm>
            <a:off x="4089240" y="4005360"/>
            <a:ext cx="1570320" cy="248112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14" descr="FG-1233141731385145"/>
          <p:cNvPicPr/>
          <p:nvPr/>
        </p:nvPicPr>
        <p:blipFill>
          <a:blip r:embed="rId2"/>
          <a:stretch/>
        </p:blipFill>
        <p:spPr>
          <a:xfrm>
            <a:off x="1446120" y="4005360"/>
            <a:ext cx="1608120" cy="25192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16" descr="FG-1233143326669657"/>
          <p:cNvPicPr/>
          <p:nvPr/>
        </p:nvPicPr>
        <p:blipFill>
          <a:blip r:embed="rId3"/>
          <a:stretch/>
        </p:blipFill>
        <p:spPr>
          <a:xfrm>
            <a:off x="6608880" y="4076640"/>
            <a:ext cx="2374920" cy="214488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17" descr="C:\Documents and Settings\kirienko\Мои документы\МОИ ДОКУМЕНТЫ\ПН2010\ФОТО ПН2010\ПН 102.GIF"/>
          <p:cNvPicPr/>
          <p:nvPr/>
        </p:nvPicPr>
        <p:blipFill>
          <a:blip r:embed="rId4"/>
          <a:stretch/>
        </p:blipFill>
        <p:spPr>
          <a:xfrm>
            <a:off x="6002280" y="1413000"/>
            <a:ext cx="2408400" cy="244764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8" descr="C:\Documents and Settings\kirienko\Мои документы\МОИ ДОКУМЕНТЫ\ПН2010\ФОТО ПН2010\ПН 101.GIF"/>
          <p:cNvPicPr/>
          <p:nvPr/>
        </p:nvPicPr>
        <p:blipFill>
          <a:blip r:embed="rId5"/>
          <a:stretch/>
        </p:blipFill>
        <p:spPr>
          <a:xfrm>
            <a:off x="2216160" y="1413000"/>
            <a:ext cx="23763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Историческая спра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91800" y="2276280"/>
            <a:ext cx="8434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ция под торговой марк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ИВЕ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ускается компание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L.C.A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Италия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анная в 1958 году комп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L.C.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одним из лидеров сре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елей косметики на европейск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ынк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A12B-AAE9-48C3-92EC-ADE4F47502A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39440" y="549000"/>
            <a:ext cx="69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РОМО наборы 2011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22000" y="1916280"/>
            <a:ext cx="7923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ПРОМО наборы ТМ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ive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созданы по  следующим основным принципа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е ПРОМО используются лидеры продаж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ин из продуктов, входящий в состав ПРОМО набора, дарится покупател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О наборы имеют штрих-код и цену одинаковую с основным продуктом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A289-850C-4014-B414-617C95BF90B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48880" y="765000"/>
            <a:ext cx="6473880" cy="92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РОМО наборы 2011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64880" y="1341000"/>
            <a:ext cx="856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Арт. 7694. Интимное мыло 3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9600 + Мусс для интимно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гиены 75мл, арт. 9797 в подар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Арт. 7728. Пена для бритья 3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7205 + Крем после бритья 1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7350 в подар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B238-5D4A-4B82-8DC1-0B76DDB47F7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C:\Documents and Settings\kirienko\Мои документы\МОИ ДОКУМЕНТЫ\2010\НОВИНКИ2010\7694 promo(9600+9797).jpg"/>
          <p:cNvPicPr/>
          <p:nvPr/>
        </p:nvPicPr>
        <p:blipFill>
          <a:blip r:embed="rId1"/>
          <a:stretch/>
        </p:blipFill>
        <p:spPr>
          <a:xfrm>
            <a:off x="7400880" y="1268280"/>
            <a:ext cx="1944720" cy="250992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7" descr="Y:\--Visuals--\Визуалы 2011\CLIVEN\PROMO-FOR-MEN-2011.jpg"/>
          <p:cNvPicPr/>
          <p:nvPr/>
        </p:nvPicPr>
        <p:blipFill>
          <a:blip r:embed="rId2"/>
          <a:stretch/>
        </p:blipFill>
        <p:spPr>
          <a:xfrm>
            <a:off x="6537240" y="3789360"/>
            <a:ext cx="144000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60160" y="333000"/>
            <a:ext cx="704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РОМО наборы 2011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64880" y="1341000"/>
            <a:ext cx="856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Арт. 7729. Крем-депилятор 15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8969 + Крем после депиляции 1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8915 в подарок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Арт. 7730.  Бальзам для волос 5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8655 + Шампунь на травах 500м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т. 8652 в подар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Арт. 7731. Крем для рук "Барьер"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0мл, арт. 9584 +  Поливитаминны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ем для рук 100мл, арт. 9583 в подаро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AE5-898B-41CB-8479-B3CB92B793E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Рисунок 8" descr="C:\Documents and Settings\kirienko\Мои документы\FOTO\ПРОМО 2011\PROMO depilazione 2011.jpg"/>
          <p:cNvPicPr/>
          <p:nvPr/>
        </p:nvPicPr>
        <p:blipFill>
          <a:blip r:embed="rId1"/>
          <a:stretch/>
        </p:blipFill>
        <p:spPr>
          <a:xfrm>
            <a:off x="7040520" y="1197000"/>
            <a:ext cx="936720" cy="20718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9" descr="Y:\--Visuals--\Визуалы 2011\CLIVEN\PROMO-capelli-2011.jpg"/>
          <p:cNvPicPr/>
          <p:nvPr/>
        </p:nvPicPr>
        <p:blipFill>
          <a:blip r:embed="rId2"/>
          <a:stretch/>
        </p:blipFill>
        <p:spPr>
          <a:xfrm>
            <a:off x="8121600" y="2276640"/>
            <a:ext cx="1224000" cy="272556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0" descr="Y:\--Visuals--\Визуалы 2011\CLIVEN\PROMO-MANI-2011.jpg"/>
          <p:cNvPicPr/>
          <p:nvPr/>
        </p:nvPicPr>
        <p:blipFill>
          <a:blip r:embed="rId3"/>
          <a:stretch/>
        </p:blipFill>
        <p:spPr>
          <a:xfrm>
            <a:off x="6969240" y="4797360"/>
            <a:ext cx="10080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6a3"/>
                </a:solidFill>
                <a:latin typeface="Calibri"/>
              </a:rPr>
              <a:t>Акции в ТМ </a:t>
            </a:r>
            <a:r>
              <a:rPr b="1" lang="en-US" sz="4500" spc="-1" strike="noStrike">
                <a:solidFill>
                  <a:srgbClr val="0076a3"/>
                </a:solidFill>
                <a:latin typeface="Calibri"/>
              </a:rPr>
              <a:t>CLIVEN </a:t>
            </a:r>
            <a:r>
              <a:rPr b="1" lang="ru-RU" sz="4500" spc="-1" strike="noStrike">
                <a:solidFill>
                  <a:srgbClr val="0076a3"/>
                </a:solidFill>
                <a:latin typeface="Calibri"/>
              </a:rPr>
              <a:t>в июне 2011г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 С 1 по 30 июня на весь ассортимент солнечной лин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V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едоставлена скидка 25%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С 1 по 30 июня на весь ассортимент линии депиля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IVE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а скидка 15%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C5C-B698-4933-B016-0D15FF47F78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52520" y="259920"/>
            <a:ext cx="417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ерспектив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64880" y="1628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 20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году реализуются следующие решения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тимизация ассортимента продаваемых товар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Активная продажа сезонных товаров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сна-лето – средства  для депиляц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сна-лето – солнечная ли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ень-зима – продажа подарочных набор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Налаживание более тесного взаимодействия с дилер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B8E5-0C38-4721-8EB7-63E349354D8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Прямоуг. 4" descr=""/>
          <p:cNvPicPr/>
          <p:nvPr/>
        </p:nvPicPr>
        <p:blipFill>
          <a:blip r:embed="rId1"/>
          <a:stretch/>
        </p:blipFill>
        <p:spPr>
          <a:xfrm>
            <a:off x="480960" y="2341440"/>
            <a:ext cx="9034560" cy="18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704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Историческая спра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4880" y="2276280"/>
            <a:ext cx="8567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продаж продукции под торгов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рк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В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России начинается с 199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2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году исполняется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лет со д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ых продаж продукции ТМ КЛИВЕН в Росс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течение всех этих лет наша компания успеш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тверждает свой статус эксклюзив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стрибьютора по продаже товаров линий Красоты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Мужчин, линии депиляции, солнечной линии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D912-E22F-4748-AB3A-E9ED78E9E9A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96880" y="691920"/>
            <a:ext cx="7553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Основополагающие принципы </a:t>
            </a:r>
            <a:br>
              <a:rPr sz="3600"/>
            </a:b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косметики КЛИВЕН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04520" y="2349000"/>
            <a:ext cx="8915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сметика КЛИВ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поаллергенн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сметика содерж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туральные, биоактивные компонен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сметика производится с применением самых современных технолог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809B-7132-4064-B8C9-9D63DA68052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Уникальные преимуще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500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я продукция КЛИВЕН производится только в Италии в полном соответствии с мировыми стандартами косметического производств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ысокое качество сырь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вейшие технологи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качества на каждом этапе производст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линические испыта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это гарантирует на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и покупке  товаров торговой марки КЛИВ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учение высококачественных и безопасных в применении продук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A113-9AFA-4CBF-8FBC-6BEEEB34B16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907560"/>
            <a:ext cx="89154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Уникальные преимуще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1800" y="2349000"/>
            <a:ext cx="84200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дукция КЛИВЕ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классическим «зонтиком» со всеми атрибутам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готип, цвет, фирменный стиль, позициониро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добная продуманная упаковка, выдержанная в едином стиле хорошо заметна на полках и привлекает внимание покупате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4FD0-AD88-421A-845D-5B38F9CFB93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80880" y="259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Позиционирование</a:t>
            </a:r>
            <a:r>
              <a:rPr b="0" lang="ru-RU" sz="5000" spc="-1" strike="noStrike">
                <a:solidFill>
                  <a:srgbClr val="85dfd0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36160" y="1557360"/>
            <a:ext cx="842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сметика для всей семь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о от возраста и пола каждый найдет необходимое для себя средство по уход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еновой диапазон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рхний и средний и сегмент «массмаркет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 1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евро в роз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ижайшие конкурент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v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ore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llet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warzkopf &amp; Henk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b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Нижний колонтитул 4"/>
          <p:cNvSpPr/>
          <p:nvPr/>
        </p:nvSpPr>
        <p:spPr>
          <a:xfrm>
            <a:off x="4881600" y="623736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C1E7-0B57-4899-888E-CAB241CC0AC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7800" y="764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Calibri"/>
              </a:rPr>
              <a:t>КЛИВЕН</a:t>
            </a:r>
            <a:r>
              <a:rPr b="0" lang="ru-RU" sz="5000" spc="-1" strike="noStrike">
                <a:solidFill>
                  <a:srgbClr val="0076a3"/>
                </a:solidFill>
                <a:latin typeface="Calibri"/>
              </a:rPr>
              <a:t>– это несколько серий косметической продук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64880" y="2205000"/>
            <a:ext cx="84200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ния Крас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серия для ежедневног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хода за волосами и кожей лица и тел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ампуни, бальзамы для волос на трав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дкое мыло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емы для лица, рук и тел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ия продуктов по уходу за ног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ия продуктов для депиля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лнцезащитная серия продук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474B-04DF-4BC9-B0BB-CF2D5609F6E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7116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alibri"/>
              </a:rPr>
              <a:t>Линия Красоты</a:t>
            </a:r>
            <a:br>
              <a:rPr sz="3600"/>
            </a:br>
            <a:r>
              <a:rPr b="0" lang="ru-RU" sz="2900" spc="-1" strike="noStrike">
                <a:solidFill>
                  <a:srgbClr val="0076a3"/>
                </a:solidFill>
                <a:latin typeface="Calibri"/>
              </a:rPr>
              <a:t>Уход за волосами</a:t>
            </a:r>
            <a:r>
              <a:rPr b="0" lang="ru-RU" sz="2900" spc="-1" strike="noStrike">
                <a:solidFill>
                  <a:srgbClr val="85dfd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деры продаж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92160" y="2205000"/>
          <a:ext cx="6048360" cy="3560760"/>
        </p:xfrm>
        <a:graphic>
          <a:graphicData uri="http://schemas.openxmlformats.org/drawingml/2006/table">
            <a:tbl>
              <a:tblPr/>
              <a:tblGrid>
                <a:gridCol w="4105440"/>
                <a:gridCol w="934920"/>
                <a:gridCol w="100800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т. в к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м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55 Бальзам на растительных экстрак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52 Шампунь на трав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49 Шампунь + баль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46 Шампунь нейтр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43 Шампунь защи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6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ампунь-крем с витамином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Нижний колонтитул 4"/>
          <p:cNvSpPr/>
          <p:nvPr/>
        </p:nvSpPr>
        <p:spPr>
          <a:xfrm>
            <a:off x="2889360" y="6356520"/>
            <a:ext cx="363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Prepared by S. Kirien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85852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B9C9-FFED-4F84-8239-4223D329220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Рисунок 400" descr="FG-1229082800651946"/>
          <p:cNvPicPr/>
          <p:nvPr/>
        </p:nvPicPr>
        <p:blipFill>
          <a:blip r:embed="rId1"/>
          <a:stretch/>
        </p:blipFill>
        <p:spPr>
          <a:xfrm>
            <a:off x="7257960" y="1773360"/>
            <a:ext cx="1062000" cy="26575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02" descr="FG-1229437928808379"/>
          <p:cNvPicPr/>
          <p:nvPr/>
        </p:nvPicPr>
        <p:blipFill>
          <a:blip r:embed="rId2"/>
          <a:stretch/>
        </p:blipFill>
        <p:spPr>
          <a:xfrm>
            <a:off x="8553600" y="3141720"/>
            <a:ext cx="1056960" cy="262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1:23:29Z</dcterms:created>
  <dc:creator>Cергей Кириенко</dc:creator>
  <dc:description/>
  <dc:language>en-US</dc:language>
  <cp:lastModifiedBy>kirienko</cp:lastModifiedBy>
  <dcterms:modified xsi:type="dcterms:W3CDTF">2011-06-20T13:38:35Z</dcterms:modified>
  <cp:revision>114</cp:revision>
  <dc:subject/>
  <dc:title>ТОРГОВАЯ МАРКА</dc:title>
</cp:coreProperties>
</file>