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30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0.jpeg" ContentType="image/jpeg"/>
  <Override PartName="/ppt/media/image12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1DF-B319-4D6E-8489-7ECC410D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EB7-06D3-4452-96B6-8DBD629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9B8-2F02-4FB0-B272-EC64E4C1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F7E-9AAB-4C00-AC50-E0B2EEED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713A-CFD8-4CD6-BE74-1A779FF7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9854-94F6-4B64-B06D-B3EACA54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80C6-A9D3-4E75-9A66-C0E0F8A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A5DE-8D13-4BF2-A16A-C032DE76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6CE-FF82-4C6C-B7D5-A8DFF53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0D95-FB98-48A2-BC71-9F01A0F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8C2F-C2F4-4EC7-A4AC-411F7B7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0CE-4810-43D1-B2CA-B30DB07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4EC8-0451-415F-B45E-5F10D96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C40C-32D1-420D-BE1E-6CE07D1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D33D-0FC5-442E-9340-DF4598E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9F7B-B9A4-42C7-9958-1CE9AED2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CC9-596F-4B30-A325-9173DCAF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A519C-4F4E-44C7-8E9E-3555141EFD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818BF-A162-4038-AA9C-6105CA944E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530BF-0925-45CA-8AA8-30428EFA0F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07DDC3-3D62-439E-B9AE-077C6D821C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51961-CCFF-4FE1-B93F-F834E3391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392-7B76-492A-A699-13583BC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2ADA5-605A-42D2-B9D2-9AD8C354AB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437DF-887A-47AE-9672-1CD9FC832A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E5779-D01B-4114-8199-C8609602DA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8CD1D2-C371-4A68-8265-EE67F3D127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E34BD-8047-4133-BF3D-6EB30388CE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C1B04-8468-4663-BE29-D8342D3906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14AC2-0B5B-4960-8AE4-4D43731E2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25E-A31B-40E6-A214-C59A3566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3FE-1E28-4F87-B8C2-56794F5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5B4-0296-4E4C-B6AE-308A9BE9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924-F69D-4BD2-AC19-782FA34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92A-D270-4E9B-BE82-39C01E97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53E-7904-4EF8-96CC-F7E8847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1380-D053-4EC0-A9A8-52024D840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B53F-75D9-4C1D-A16A-EC54E37BB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ОО  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+7-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95-982-92-00  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EFB-5016-41B9-B337-A97F53F75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hyperlink" Target="http://www.iso9001.ru/form.php3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ru/imgres?imgurl=http://www.inglesidemachine.com/iso-9001-2000.gif&amp;imgrefurl=http://www.inglesidemachine.com/&amp;usg=__3s-ACXKRCC_91wyps7t-TtvenAI=&amp;h=536&amp;w=542&amp;sz=69&amp;hl=ru&amp;start=1&amp;um=1&amp;tbnid=niXouM-AbCXUOM:&amp;tbnh=131&amp;tbnw=132&amp;prev=/images%3Fq%3Diso%2B9001%26um%3D1%26hl%3Dru%26lr%3D%26newwindow%3D1%26sa%3DN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RusskayaKosmetika.jpg"/>
          <p:cNvPicPr/>
          <p:nvPr/>
        </p:nvPicPr>
        <p:blipFill>
          <a:blip r:embed="rId1"/>
          <a:stretch/>
        </p:blipFill>
        <p:spPr>
          <a:xfrm>
            <a:off x="1612800" y="1330200"/>
            <a:ext cx="674208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285840" y="5430960"/>
            <a:ext cx="2292120" cy="734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85840" y="1429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СТОРИЯ КО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2908440" y="1143000"/>
            <a:ext cx="646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косметического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расная Линия» в России (Моск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.), 12000 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3 г.    Международный сертифик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9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   Открытие косметического произво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 Болгарии (Ихтиман), 3000 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5 г.    Активное развитие экс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твия, Эстония, Германия, Украина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6 г.    Расширение кос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а, открытие нового корп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0 м2 (Московская об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7 г.    Запуск производства средств бытов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и (кондиционер для белья, 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ытья посуды и п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.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Красная Линия» стала лауреат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й премии «Европе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» (Швейцария) и награж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тификатом за выдающиеся  заслуг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и косметическ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285840" y="1050840"/>
          <a:ext cx="2305080" cy="26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050840"/>
                    <a:ext cx="230508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12" descr="http://www.iso9001.ru/image/is_5.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4133880"/>
            <a:ext cx="8571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http://tbn0.google.com/images?q=tbn:niXouM-AbCXUOM:http://www.inglesidemachine.com/iso-9001-2000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3440" y="4114800"/>
            <a:ext cx="12574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285840" y="5430960"/>
            <a:ext cx="2292120" cy="734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85840" y="14292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СТОРИЯ КО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2908440" y="1143000"/>
            <a:ext cx="6235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.  Запуск производства краски для вол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езаммиачная краска для волос, стой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м-краска для волос, отте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ьзамы). Начало производства краски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 г.  Бренд «Красная Линия» станов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уреатом премии «Лучший российский бр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тегории «Жидкое мыло» и полу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у ТОВАР ГОДА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.  Второй год подряд бренд «Красная Ли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ановится лауреатом премии «Лучш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ий бренд  в категории «Жидкое мы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получает звезду ТОВАР ГОДА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.  Реорганизация компании, новое назва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ОО «Русская Косм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http://www.iso9001.ru/image/is_5.1.jpg"/>
          <p:cNvPicPr/>
          <p:nvPr/>
        </p:nvPicPr>
        <p:blipFill>
          <a:blip r:embed="rId2"/>
          <a:stretch/>
        </p:blipFill>
        <p:spPr>
          <a:xfrm>
            <a:off x="285840" y="4133880"/>
            <a:ext cx="857160" cy="1171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http://tbn0.google.com/images?q=tbn:niXouM-AbCXUOM:http://www.inglesidemachine.com/iso-9001-2000.gif"/>
          <p:cNvPicPr/>
          <p:nvPr/>
        </p:nvPicPr>
        <p:blipFill>
          <a:blip r:embed="rId3"/>
          <a:stretch/>
        </p:blipFill>
        <p:spPr>
          <a:xfrm>
            <a:off x="1333440" y="4114800"/>
            <a:ext cx="1257480" cy="12477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TovarGoda_2010.gif"/>
          <p:cNvPicPr/>
          <p:nvPr/>
        </p:nvPicPr>
        <p:blipFill>
          <a:blip r:embed="rId4"/>
          <a:stretch/>
        </p:blipFill>
        <p:spPr>
          <a:xfrm>
            <a:off x="341280" y="1057320"/>
            <a:ext cx="1182600" cy="2502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TovarGoda_2010.gif"/>
          <p:cNvPicPr/>
          <p:nvPr/>
        </p:nvPicPr>
        <p:blipFill>
          <a:blip r:embed="rId5"/>
          <a:stretch/>
        </p:blipFill>
        <p:spPr>
          <a:xfrm>
            <a:off x="1407960" y="1467000"/>
            <a:ext cx="11829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РУССКАЯ КОСМЕТИКА»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9" descr="_DSC0062.JPG"/>
          <p:cNvPicPr/>
          <p:nvPr/>
        </p:nvPicPr>
        <p:blipFill>
          <a:blip r:embed="rId1"/>
          <a:stretch/>
        </p:blipFill>
        <p:spPr>
          <a:xfrm>
            <a:off x="285840" y="2824200"/>
            <a:ext cx="2297160" cy="1538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_DSC0139.JPG"/>
          <p:cNvPicPr/>
          <p:nvPr/>
        </p:nvPicPr>
        <p:blipFill>
          <a:blip r:embed="rId2"/>
          <a:stretch/>
        </p:blipFill>
        <p:spPr>
          <a:xfrm>
            <a:off x="285840" y="4633920"/>
            <a:ext cx="2303280" cy="15415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1" descr="_DSC0182.JPG"/>
          <p:cNvPicPr/>
          <p:nvPr/>
        </p:nvPicPr>
        <p:blipFill>
          <a:blip r:embed="rId3"/>
          <a:stretch/>
        </p:blipFill>
        <p:spPr>
          <a:xfrm>
            <a:off x="285840" y="1054080"/>
            <a:ext cx="2305080" cy="1542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3"/>
          <p:cNvSpPr/>
          <p:nvPr/>
        </p:nvSpPr>
        <p:spPr>
          <a:xfrm>
            <a:off x="2908440" y="114300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2908440" y="1143000"/>
            <a:ext cx="608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усская Косметика» сегодня – это одно из лидирующих предприятий в России по производству косметическ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вода (Россия, Болгария) общей площадью 18 тыс. м2, производственные мощности 15 млн. единиц в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е современное оборудовани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ex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мания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ifix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мания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окачественное сырье, соответствующее международным стандартам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имущественное использование натуральных компо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ственная лаборатория отдела контроля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ортимент более 500 наименований в категор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мыло, средства по уходу за волосами, гели для душа, средства по уходу за кожей лица и тела, краска для волос, бытовая хим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3"/>
          <p:cNvSpPr/>
          <p:nvPr/>
        </p:nvSpPr>
        <p:spPr>
          <a:xfrm>
            <a:off x="2908440" y="1143000"/>
            <a:ext cx="53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908440" y="1143000"/>
            <a:ext cx="59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е торговые мар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Линия», «Бабушкина Аптека», «Особая Серия»,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ki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«Батист», «Азбука Чистот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 «Красная Линия» - № 1 по продажам в России в категориях жидкое мыло (да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Nielsen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гели для душа (среди российских производителей, да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Niels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занимает лидирующие позиции в категориях шампуни, средства для ухода за кожей лица и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20 млн. потребителей продукции ООО «Красная Линия» в России  (да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up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ки сбыта проду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ва, Латвия, Германия, Болгария, Украина, Эстония, Беларусь, Кыргызстан, Молдова, Узбекистан, Туркменистан, Армения, Азербайджан, Таджикистан, Грузия, Приднестровье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 labe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рговых се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et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икси, Молния, Моне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, под ТМ «Русалоч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«Фитолайн»,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7" descr="центрум.jpg"/>
          <p:cNvPicPr/>
          <p:nvPr/>
        </p:nvPicPr>
        <p:blipFill>
          <a:blip r:embed="rId1"/>
          <a:stretch/>
        </p:blipFill>
        <p:spPr>
          <a:xfrm>
            <a:off x="285840" y="1050840"/>
            <a:ext cx="2305080" cy="307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Y:\BrendManagers\Шмерко\фотки дистров\IMG_0033.jpg"/>
          <p:cNvPicPr/>
          <p:nvPr/>
        </p:nvPicPr>
        <p:blipFill>
          <a:blip r:embed="rId2"/>
          <a:stretch/>
        </p:blipFill>
        <p:spPr>
          <a:xfrm>
            <a:off x="285840" y="4454640"/>
            <a:ext cx="2282760" cy="1711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РУССКАЯ КОСМЕТИКА»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«РУССКАЯ КОСМЕТИКА»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1"/>
          <p:cNvSpPr/>
          <p:nvPr/>
        </p:nvSpPr>
        <p:spPr>
          <a:xfrm>
            <a:off x="838080" y="914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ция «Красная Линия» представлена в крупнейших российских сет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52" descr="метро"/>
          <p:cNvPicPr/>
          <p:nvPr/>
        </p:nvPicPr>
        <p:blipFill>
          <a:blip r:embed="rId1"/>
          <a:stretch/>
        </p:blipFill>
        <p:spPr>
          <a:xfrm>
            <a:off x="1068480" y="1940040"/>
            <a:ext cx="1466640" cy="314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3" descr="пятерочка копия"/>
          <p:cNvPicPr/>
          <p:nvPr/>
        </p:nvPicPr>
        <p:blipFill>
          <a:blip r:embed="rId2"/>
          <a:stretch/>
        </p:blipFill>
        <p:spPr>
          <a:xfrm>
            <a:off x="3760920" y="2892600"/>
            <a:ext cx="1606320" cy="51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4" descr="магнит 1"/>
          <p:cNvPicPr/>
          <p:nvPr/>
        </p:nvPicPr>
        <p:blipFill>
          <a:blip r:embed="rId3"/>
          <a:stretch/>
        </p:blipFill>
        <p:spPr>
          <a:xfrm>
            <a:off x="4000680" y="5076720"/>
            <a:ext cx="142848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5" descr="ашан копия"/>
          <p:cNvPicPr/>
          <p:nvPr/>
        </p:nvPicPr>
        <p:blipFill>
          <a:blip r:embed="rId4"/>
          <a:stretch/>
        </p:blipFill>
        <p:spPr>
          <a:xfrm>
            <a:off x="6472080" y="1960560"/>
            <a:ext cx="1206720" cy="33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8" descr="перекресток копия"/>
          <p:cNvPicPr/>
          <p:nvPr/>
        </p:nvPicPr>
        <p:blipFill>
          <a:blip r:embed="rId5"/>
          <a:stretch/>
        </p:blipFill>
        <p:spPr>
          <a:xfrm>
            <a:off x="901800" y="2892600"/>
            <a:ext cx="180000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0" descr="Окей"/>
          <p:cNvPicPr/>
          <p:nvPr/>
        </p:nvPicPr>
        <p:blipFill>
          <a:blip r:embed="rId6"/>
          <a:stretch/>
        </p:blipFill>
        <p:spPr>
          <a:xfrm>
            <a:off x="3884760" y="3882960"/>
            <a:ext cx="1360440" cy="43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2" descr="dbrnjhbz"/>
          <p:cNvPicPr/>
          <p:nvPr/>
        </p:nvPicPr>
        <p:blipFill>
          <a:blip r:embed="rId7"/>
          <a:stretch/>
        </p:blipFill>
        <p:spPr>
          <a:xfrm>
            <a:off x="6472080" y="3828960"/>
            <a:ext cx="1609920" cy="43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4" descr="карусель"/>
          <p:cNvPicPr/>
          <p:nvPr/>
        </p:nvPicPr>
        <p:blipFill>
          <a:blip r:embed="rId8"/>
          <a:stretch/>
        </p:blipFill>
        <p:spPr>
          <a:xfrm>
            <a:off x="6313320" y="3070080"/>
            <a:ext cx="1524240" cy="34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6" descr="реал"/>
          <p:cNvPicPr/>
          <p:nvPr/>
        </p:nvPicPr>
        <p:blipFill>
          <a:blip r:embed="rId9"/>
          <a:stretch/>
        </p:blipFill>
        <p:spPr>
          <a:xfrm>
            <a:off x="3992400" y="1941480"/>
            <a:ext cx="1143000" cy="38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7" descr="утконос"/>
          <p:cNvPicPr/>
          <p:nvPr/>
        </p:nvPicPr>
        <p:blipFill>
          <a:blip r:embed="rId10"/>
          <a:stretch/>
        </p:blipFill>
        <p:spPr>
          <a:xfrm>
            <a:off x="1211400" y="3882960"/>
            <a:ext cx="1180800" cy="381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11"/>
          <a:stretch/>
        </p:blipFill>
        <p:spPr>
          <a:xfrm>
            <a:off x="6154560" y="5005440"/>
            <a:ext cx="1841760" cy="847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12"/>
          <a:stretch/>
        </p:blipFill>
        <p:spPr>
          <a:xfrm>
            <a:off x="954000" y="4851360"/>
            <a:ext cx="169704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8584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ШИ ТОРГОВЫЕ МА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Logo-Hello-Kitty_a.jpg"/>
          <p:cNvPicPr/>
          <p:nvPr/>
        </p:nvPicPr>
        <p:blipFill>
          <a:blip r:embed="rId1"/>
          <a:stretch/>
        </p:blipFill>
        <p:spPr>
          <a:xfrm>
            <a:off x="6967440" y="800280"/>
            <a:ext cx="1401840" cy="17748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Logo Shrek.tif"/>
          <p:cNvPicPr/>
          <p:nvPr/>
        </p:nvPicPr>
        <p:blipFill>
          <a:blip r:embed="rId2"/>
          <a:stretch/>
        </p:blipFill>
        <p:spPr>
          <a:xfrm>
            <a:off x="84240" y="3978360"/>
            <a:ext cx="252864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Logo Dental.tif"/>
          <p:cNvPicPr/>
          <p:nvPr/>
        </p:nvPicPr>
        <p:blipFill>
          <a:blip r:embed="rId3"/>
          <a:stretch/>
        </p:blipFill>
        <p:spPr>
          <a:xfrm>
            <a:off x="142920" y="3319560"/>
            <a:ext cx="2448000" cy="4525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Logo Fara.tif"/>
          <p:cNvPicPr/>
          <p:nvPr/>
        </p:nvPicPr>
        <p:blipFill>
          <a:blip r:embed="rId4"/>
          <a:stretch/>
        </p:blipFill>
        <p:spPr>
          <a:xfrm>
            <a:off x="6405480" y="2851200"/>
            <a:ext cx="2592360" cy="13111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Logo Viking.tif"/>
          <p:cNvPicPr/>
          <p:nvPr/>
        </p:nvPicPr>
        <p:blipFill>
          <a:blip r:embed="rId5"/>
          <a:stretch/>
        </p:blipFill>
        <p:spPr>
          <a:xfrm>
            <a:off x="6413400" y="4286160"/>
            <a:ext cx="2584440" cy="8002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Logo Winx Club.tif"/>
          <p:cNvPicPr/>
          <p:nvPr/>
        </p:nvPicPr>
        <p:blipFill>
          <a:blip r:embed="rId6"/>
          <a:stretch/>
        </p:blipFill>
        <p:spPr>
          <a:xfrm>
            <a:off x="3362400" y="907920"/>
            <a:ext cx="2543040" cy="15462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Logo Batist .tif"/>
          <p:cNvPicPr/>
          <p:nvPr/>
        </p:nvPicPr>
        <p:blipFill>
          <a:blip r:embed="rId7"/>
          <a:stretch/>
        </p:blipFill>
        <p:spPr>
          <a:xfrm>
            <a:off x="6811920" y="5421240"/>
            <a:ext cx="2027160" cy="1094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Logo CLIVEN.tif"/>
          <p:cNvPicPr/>
          <p:nvPr/>
        </p:nvPicPr>
        <p:blipFill>
          <a:blip r:embed="rId8"/>
          <a:stretch/>
        </p:blipFill>
        <p:spPr>
          <a:xfrm>
            <a:off x="84240" y="1200240"/>
            <a:ext cx="243036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3" descr="Logo Krasnaya Liniya.tif"/>
          <p:cNvPicPr/>
          <p:nvPr/>
        </p:nvPicPr>
        <p:blipFill>
          <a:blip r:embed="rId9"/>
          <a:stretch/>
        </p:blipFill>
        <p:spPr>
          <a:xfrm>
            <a:off x="3333600" y="2362320"/>
            <a:ext cx="2482920" cy="20034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4" descr="Logo Bfbushkina apteka.tif"/>
          <p:cNvPicPr/>
          <p:nvPr/>
        </p:nvPicPr>
        <p:blipFill>
          <a:blip r:embed="rId10"/>
          <a:stretch/>
        </p:blipFill>
        <p:spPr>
          <a:xfrm>
            <a:off x="2890800" y="4584600"/>
            <a:ext cx="1408320" cy="13035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Logo TRISA.tif"/>
          <p:cNvPicPr/>
          <p:nvPr/>
        </p:nvPicPr>
        <p:blipFill>
          <a:blip r:embed="rId11"/>
          <a:stretch/>
        </p:blipFill>
        <p:spPr>
          <a:xfrm>
            <a:off x="136440" y="2160720"/>
            <a:ext cx="2454480" cy="556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6" descr="Logo Osobaya seria.tif"/>
          <p:cNvPicPr/>
          <p:nvPr/>
        </p:nvPicPr>
        <p:blipFill>
          <a:blip r:embed="rId12"/>
          <a:stretch/>
        </p:blipFill>
        <p:spPr>
          <a:xfrm>
            <a:off x="4529160" y="4930920"/>
            <a:ext cx="1800360" cy="981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7" descr="Logo Azbuka chistoty.tif"/>
          <p:cNvPicPr/>
          <p:nvPr/>
        </p:nvPicPr>
        <p:blipFill>
          <a:blip r:embed="rId13"/>
          <a:stretch/>
        </p:blipFill>
        <p:spPr>
          <a:xfrm>
            <a:off x="309600" y="5297400"/>
            <a:ext cx="18003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47760" y="2206800"/>
            <a:ext cx="8467560" cy="21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Успешных продаж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Махров</cp:lastModifiedBy>
  <dcterms:modified xsi:type="dcterms:W3CDTF">2011-06-21T13:31:13Z</dcterms:modified>
  <cp:revision>194</cp:revision>
  <dc:subject/>
  <dc:title>Слайд 1</dc:title>
</cp:coreProperties>
</file>