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8.jpeg" ContentType="image/jpeg"/>
  <Override PartName="/ppt/media/image30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20.jpeg" ContentType="image/jpeg"/>
  <Override PartName="/ppt/media/image12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794-E66F-46FD-82AE-995EBAFA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13F-5565-4700-8E3F-EC2C3703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FD7-C0D5-4A9C-80DE-6FF9C45C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F59-F150-457A-A7A4-2519AC5F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42F5-6036-4059-9FAD-D1285AF9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1B1A-52C2-4CC6-A51D-E1BC6678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C7C3-99AA-431F-9644-FB2DEA86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E709-B9A0-45DF-A054-BFBAD8EC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9D18-89D9-47C2-9712-F42D6B68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896B-7C7B-49AD-AAA1-BA34798B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FBB9-B724-45AA-97E7-AD805B61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D32-5D3C-4A9D-89BC-649ED8D1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F523-A014-499C-A8B2-505BECBA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BB58-22E2-4E8A-9EB1-84E7174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55A1-2CA8-4C13-9E50-311C8AFF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6804-9EA9-41C1-BCCA-4218FB99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691D-472B-43DA-9C80-2B95C537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587EE6-126F-4E99-919C-5FA7CE3CD6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772073-F0A0-4C3E-98D7-5A341FECE1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50810A-86A6-4E20-A326-32B30B6E75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B3B346-3A0C-4367-8B37-6493372D02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4523A6-D960-4654-A101-1E9A76A63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4D3-AE46-4B9F-8DAF-80B64514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E1B43D-8A9A-4C52-ACC2-F4D52708BA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DB76C5-6D7C-49F4-A315-73CF51ACAF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ADAC76-4754-4326-B09F-554CEDC4B2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2D8BB-5DCC-4E1B-902F-8985C7AC49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6B6D4-9118-41FA-9560-B6FE1B434F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52FCB-AC4D-456B-A4B4-B072B9BDBF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97C69F-0653-4DE7-A907-463F2C60C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AE4-CF06-4895-9D71-DF9D9A4E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A48-B3F5-4A63-A7B1-7E04115C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FA1-AA86-4CC3-AD2C-70DECAEE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224-43FB-460A-9BE5-A1DEAEC3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3D8-896C-400B-B659-B58F908B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8D5-3A78-4C7D-A077-AEF85543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9F95-39C6-440E-855F-C76B066B4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495-982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aroma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AFC9-FDF9-4119-A725-B6010B0235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ОО  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+7-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495-982-92-00  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A556-B928-451E-9672-8F2F171A9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hyperlink" Target="http://www.iso9001.ru/form.php3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ru/imgres?imgurl=http://www.inglesidemachine.com/iso-9001-2000.gif&amp;imgrefurl=http://www.inglesidemachine.com/&amp;usg=__3s-ACXKRCC_91wyps7t-TtvenAI=&amp;h=536&amp;w=542&amp;sz=69&amp;hl=ru&amp;start=1&amp;um=1&amp;tbnid=niXouM-AbCXUOM:&amp;tbnh=131&amp;tbnw=132&amp;prev=/images%3Fq%3Diso%2B9001%26um%3D1%26hl%3Dru%26lr%3D%26newwindow%3D1%26sa%3DN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RusskayaKosmetika.jpg"/>
          <p:cNvPicPr/>
          <p:nvPr/>
        </p:nvPicPr>
        <p:blipFill>
          <a:blip r:embed="rId1"/>
          <a:stretch/>
        </p:blipFill>
        <p:spPr>
          <a:xfrm>
            <a:off x="1612800" y="1330200"/>
            <a:ext cx="6742080" cy="25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"/>
          <p:cNvPicPr/>
          <p:nvPr/>
        </p:nvPicPr>
        <p:blipFill>
          <a:blip r:embed="rId1"/>
          <a:stretch/>
        </p:blipFill>
        <p:spPr>
          <a:xfrm>
            <a:off x="285840" y="5430960"/>
            <a:ext cx="2292120" cy="734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285840" y="14292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СТОРИЯ КО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2908440" y="1143000"/>
            <a:ext cx="646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косметического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расная Линия» в России (Москов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.), 12000 м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3 г.    Международный сертифик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9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   Открытие косметического произво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Болгарии (Ихтиман), 3000 м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5 г.    Активное развитие экспо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твия, Эстония, Германия, Украина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6 г.    Расширение косме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а, открытие нового корп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0 м2 (Московская об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7 г.    Запуск производства средств бытов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и (кондиционер для белья,  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ытья посуды и п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8 г.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Красная Линия» стала лауреат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ой премии «Европе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» (Швейцария) и награж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тификатом за выдающиеся  заслуги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и косметическ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285840" y="1050840"/>
          <a:ext cx="2305080" cy="26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1050840"/>
                    <a:ext cx="230508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Picture 12" descr="http://www.iso9001.ru/image/is_5.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4133880"/>
            <a:ext cx="8571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http://tbn0.google.com/images?q=tbn:niXouM-AbCXUOM:http://www.inglesidemachine.com/iso-9001-2000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333440" y="4114800"/>
            <a:ext cx="12574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9" descr=""/>
          <p:cNvPicPr/>
          <p:nvPr/>
        </p:nvPicPr>
        <p:blipFill>
          <a:blip r:embed="rId1"/>
          <a:stretch/>
        </p:blipFill>
        <p:spPr>
          <a:xfrm>
            <a:off x="285840" y="5430960"/>
            <a:ext cx="2292120" cy="734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85840" y="14292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СТОРИЯ КО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2908440" y="1143000"/>
            <a:ext cx="6235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.  Запуск производства краски для вол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езаммиачная краска для волос, стой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м-краска для волос, отте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ьзамы). Начало производства краски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.  Бренд «Красная Линия» станов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уреатом премии «Лучший российский бре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тегории «Жидкое мыло» и полу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зду ТОВАР ГОДА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10 г.  Второй год подряд бренд «Красная Ли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новится лауреатом премии «Лучш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ий бренд  в категории «Жидкое мы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получает звезду ТОВАР ГОДА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10 г.  Реорганизация компании, новое назва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ОО «Русская Косм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2" descr="http://www.iso9001.ru/image/is_5.1.jpg"/>
          <p:cNvPicPr/>
          <p:nvPr/>
        </p:nvPicPr>
        <p:blipFill>
          <a:blip r:embed="rId2"/>
          <a:stretch/>
        </p:blipFill>
        <p:spPr>
          <a:xfrm>
            <a:off x="285840" y="4133880"/>
            <a:ext cx="857160" cy="1171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http://tbn0.google.com/images?q=tbn:niXouM-AbCXUOM:http://www.inglesidemachine.com/iso-9001-2000.gif"/>
          <p:cNvPicPr/>
          <p:nvPr/>
        </p:nvPicPr>
        <p:blipFill>
          <a:blip r:embed="rId3"/>
          <a:stretch/>
        </p:blipFill>
        <p:spPr>
          <a:xfrm>
            <a:off x="1333440" y="4114800"/>
            <a:ext cx="1257480" cy="12477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TovarGoda_2010.gif"/>
          <p:cNvPicPr/>
          <p:nvPr/>
        </p:nvPicPr>
        <p:blipFill>
          <a:blip r:embed="rId4"/>
          <a:stretch/>
        </p:blipFill>
        <p:spPr>
          <a:xfrm>
            <a:off x="341280" y="1057320"/>
            <a:ext cx="1182600" cy="2502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TovarGoda_2010.gif"/>
          <p:cNvPicPr/>
          <p:nvPr/>
        </p:nvPicPr>
        <p:blipFill>
          <a:blip r:embed="rId5"/>
          <a:stretch/>
        </p:blipFill>
        <p:spPr>
          <a:xfrm>
            <a:off x="1407960" y="1467000"/>
            <a:ext cx="118296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285840" y="14292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«РУССКАЯ КОСМЕТИКА» СЕГ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9" descr="_DSC0062.JPG"/>
          <p:cNvPicPr/>
          <p:nvPr/>
        </p:nvPicPr>
        <p:blipFill>
          <a:blip r:embed="rId1"/>
          <a:stretch/>
        </p:blipFill>
        <p:spPr>
          <a:xfrm>
            <a:off x="285840" y="2824200"/>
            <a:ext cx="2297160" cy="1538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0" descr="_DSC0139.JPG"/>
          <p:cNvPicPr/>
          <p:nvPr/>
        </p:nvPicPr>
        <p:blipFill>
          <a:blip r:embed="rId2"/>
          <a:stretch/>
        </p:blipFill>
        <p:spPr>
          <a:xfrm>
            <a:off x="285840" y="4633920"/>
            <a:ext cx="2303280" cy="15415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1" descr="_DSC0182.JPG"/>
          <p:cNvPicPr/>
          <p:nvPr/>
        </p:nvPicPr>
        <p:blipFill>
          <a:blip r:embed="rId3"/>
          <a:stretch/>
        </p:blipFill>
        <p:spPr>
          <a:xfrm>
            <a:off x="285840" y="1054080"/>
            <a:ext cx="2305080" cy="15429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3"/>
          <p:cNvSpPr/>
          <p:nvPr/>
        </p:nvSpPr>
        <p:spPr>
          <a:xfrm>
            <a:off x="2908440" y="1143000"/>
            <a:ext cx="53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2908440" y="1143000"/>
            <a:ext cx="60894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усская Косметика» сегодня – это одно из лидирующих предприятий в России по производству косметической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вода (Россия, Болгария) общей площадью 18 тыс. м2, производственные мощности 15 млн. единиц в мес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е современное оборудование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ex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мания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ifix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мания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сококачественное сырье, соответствующее международным стандартам ка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имущественное использование натуральных компон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ственная лаборатория отдела контроля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сортимент более 500 наименований в категор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дкое мыло, средства по уходу за волосами, гели для душа, средства по уходу за кожей лица и тела, краска для волос, бытовая химия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3"/>
          <p:cNvSpPr/>
          <p:nvPr/>
        </p:nvSpPr>
        <p:spPr>
          <a:xfrm>
            <a:off x="2908440" y="1143000"/>
            <a:ext cx="53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908440" y="1143000"/>
            <a:ext cx="59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ые торговые мар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ая Линия», «Бабушкина Аптека», «Особая Серия»,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ki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 «Батист», «Азбука Чистот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а  «Красная Линия» - № 1 по продажам в России в категориях жидкое мыло (дан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Nielsen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гели для душа (среди российских производителей, дан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Niels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занимает лидирующие позиции в категориях шампуни, средства для ухода за кожей лица и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20 млн. потребителей продукции ООО «Красная Линия» в России  (дан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lup 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ки сбыта проду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ва, Латвия, Германия, Болгария, Украина, Эстония, Беларусь, Кыргызстан, Молдова, Узбекистан, Туркменистан, Армения, Азербайджан, Таджикистан, Грузия, Приднестровье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 labe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рговых сет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etr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икси, Молния, Монет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 , под ТМ «Русалоч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«Фитолайн»,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7" descr="центрум.jpg"/>
          <p:cNvPicPr/>
          <p:nvPr/>
        </p:nvPicPr>
        <p:blipFill>
          <a:blip r:embed="rId1"/>
          <a:stretch/>
        </p:blipFill>
        <p:spPr>
          <a:xfrm>
            <a:off x="285840" y="1050840"/>
            <a:ext cx="2305080" cy="3073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Y:\BrendManagers\Шмерко\фотки дистров\IMG_0033.jpg"/>
          <p:cNvPicPr/>
          <p:nvPr/>
        </p:nvPicPr>
        <p:blipFill>
          <a:blip r:embed="rId2"/>
          <a:stretch/>
        </p:blipFill>
        <p:spPr>
          <a:xfrm>
            <a:off x="285840" y="4454640"/>
            <a:ext cx="2282760" cy="17110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85840" y="14292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«РУССКАЯ КОСМЕТИКА» СЕГ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285840" y="14292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«РУССКАЯ КОСМЕТИКА» СЕГ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1"/>
          <p:cNvSpPr/>
          <p:nvPr/>
        </p:nvSpPr>
        <p:spPr>
          <a:xfrm>
            <a:off x="838080" y="9144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ция «Красная Линия» представлена в крупнейших российских сет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52" descr="метро"/>
          <p:cNvPicPr/>
          <p:nvPr/>
        </p:nvPicPr>
        <p:blipFill>
          <a:blip r:embed="rId1"/>
          <a:stretch/>
        </p:blipFill>
        <p:spPr>
          <a:xfrm>
            <a:off x="1068480" y="1940040"/>
            <a:ext cx="1466640" cy="314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3" descr="пятерочка копия"/>
          <p:cNvPicPr/>
          <p:nvPr/>
        </p:nvPicPr>
        <p:blipFill>
          <a:blip r:embed="rId2"/>
          <a:stretch/>
        </p:blipFill>
        <p:spPr>
          <a:xfrm>
            <a:off x="3760920" y="2892600"/>
            <a:ext cx="1606320" cy="518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4" descr="магнит 1"/>
          <p:cNvPicPr/>
          <p:nvPr/>
        </p:nvPicPr>
        <p:blipFill>
          <a:blip r:embed="rId3"/>
          <a:stretch/>
        </p:blipFill>
        <p:spPr>
          <a:xfrm>
            <a:off x="4000680" y="5076720"/>
            <a:ext cx="1428480" cy="43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5" descr="ашан копия"/>
          <p:cNvPicPr/>
          <p:nvPr/>
        </p:nvPicPr>
        <p:blipFill>
          <a:blip r:embed="rId4"/>
          <a:stretch/>
        </p:blipFill>
        <p:spPr>
          <a:xfrm>
            <a:off x="6472080" y="1960560"/>
            <a:ext cx="1206720" cy="330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8" descr="перекресток копия"/>
          <p:cNvPicPr/>
          <p:nvPr/>
        </p:nvPicPr>
        <p:blipFill>
          <a:blip r:embed="rId5"/>
          <a:stretch/>
        </p:blipFill>
        <p:spPr>
          <a:xfrm>
            <a:off x="901800" y="2892600"/>
            <a:ext cx="1800000" cy="53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0" descr="Окей"/>
          <p:cNvPicPr/>
          <p:nvPr/>
        </p:nvPicPr>
        <p:blipFill>
          <a:blip r:embed="rId6"/>
          <a:stretch/>
        </p:blipFill>
        <p:spPr>
          <a:xfrm>
            <a:off x="3884760" y="3882960"/>
            <a:ext cx="1360440" cy="43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2" descr="dbrnjhbz"/>
          <p:cNvPicPr/>
          <p:nvPr/>
        </p:nvPicPr>
        <p:blipFill>
          <a:blip r:embed="rId7"/>
          <a:stretch/>
        </p:blipFill>
        <p:spPr>
          <a:xfrm>
            <a:off x="6472080" y="3828960"/>
            <a:ext cx="1609920" cy="435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4" descr="карусель"/>
          <p:cNvPicPr/>
          <p:nvPr/>
        </p:nvPicPr>
        <p:blipFill>
          <a:blip r:embed="rId8"/>
          <a:stretch/>
        </p:blipFill>
        <p:spPr>
          <a:xfrm>
            <a:off x="6313320" y="3070080"/>
            <a:ext cx="1524240" cy="34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6" descr="реал"/>
          <p:cNvPicPr/>
          <p:nvPr/>
        </p:nvPicPr>
        <p:blipFill>
          <a:blip r:embed="rId9"/>
          <a:stretch/>
        </p:blipFill>
        <p:spPr>
          <a:xfrm>
            <a:off x="3992400" y="1941480"/>
            <a:ext cx="1143000" cy="387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7" descr="утконос"/>
          <p:cNvPicPr/>
          <p:nvPr/>
        </p:nvPicPr>
        <p:blipFill>
          <a:blip r:embed="rId10"/>
          <a:stretch/>
        </p:blipFill>
        <p:spPr>
          <a:xfrm>
            <a:off x="1211400" y="3882960"/>
            <a:ext cx="1180800" cy="381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11"/>
          <a:stretch/>
        </p:blipFill>
        <p:spPr>
          <a:xfrm>
            <a:off x="6154560" y="5005440"/>
            <a:ext cx="1841760" cy="847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12"/>
          <a:stretch/>
        </p:blipFill>
        <p:spPr>
          <a:xfrm>
            <a:off x="954000" y="4851360"/>
            <a:ext cx="169704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85840" y="14292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АШИ ТОРГОВЫЕ МА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Logo-Hello-Kitty_a.jpg"/>
          <p:cNvPicPr/>
          <p:nvPr/>
        </p:nvPicPr>
        <p:blipFill>
          <a:blip r:embed="rId1"/>
          <a:stretch/>
        </p:blipFill>
        <p:spPr>
          <a:xfrm>
            <a:off x="6967440" y="800280"/>
            <a:ext cx="1401840" cy="17748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Logo Shrek.tif"/>
          <p:cNvPicPr/>
          <p:nvPr/>
        </p:nvPicPr>
        <p:blipFill>
          <a:blip r:embed="rId2"/>
          <a:stretch/>
        </p:blipFill>
        <p:spPr>
          <a:xfrm>
            <a:off x="84240" y="3978360"/>
            <a:ext cx="2528640" cy="10350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Logo Dental.tif"/>
          <p:cNvPicPr/>
          <p:nvPr/>
        </p:nvPicPr>
        <p:blipFill>
          <a:blip r:embed="rId3"/>
          <a:stretch/>
        </p:blipFill>
        <p:spPr>
          <a:xfrm>
            <a:off x="142920" y="3319560"/>
            <a:ext cx="2448000" cy="4525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Logo Fara.tif"/>
          <p:cNvPicPr/>
          <p:nvPr/>
        </p:nvPicPr>
        <p:blipFill>
          <a:blip r:embed="rId4"/>
          <a:stretch/>
        </p:blipFill>
        <p:spPr>
          <a:xfrm>
            <a:off x="6405480" y="2851200"/>
            <a:ext cx="2592360" cy="13111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Logo Viking.tif"/>
          <p:cNvPicPr/>
          <p:nvPr/>
        </p:nvPicPr>
        <p:blipFill>
          <a:blip r:embed="rId5"/>
          <a:stretch/>
        </p:blipFill>
        <p:spPr>
          <a:xfrm>
            <a:off x="6413400" y="4286160"/>
            <a:ext cx="2584440" cy="8002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Logo Winx Club.tif"/>
          <p:cNvPicPr/>
          <p:nvPr/>
        </p:nvPicPr>
        <p:blipFill>
          <a:blip r:embed="rId6"/>
          <a:stretch/>
        </p:blipFill>
        <p:spPr>
          <a:xfrm>
            <a:off x="3362400" y="907920"/>
            <a:ext cx="2543040" cy="15462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Logo Batist .tif"/>
          <p:cNvPicPr/>
          <p:nvPr/>
        </p:nvPicPr>
        <p:blipFill>
          <a:blip r:embed="rId7"/>
          <a:stretch/>
        </p:blipFill>
        <p:spPr>
          <a:xfrm>
            <a:off x="6811920" y="5421240"/>
            <a:ext cx="2027160" cy="10940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2" descr="Logo CLIVEN.tif"/>
          <p:cNvPicPr/>
          <p:nvPr/>
        </p:nvPicPr>
        <p:blipFill>
          <a:blip r:embed="rId8"/>
          <a:stretch/>
        </p:blipFill>
        <p:spPr>
          <a:xfrm>
            <a:off x="84240" y="1200240"/>
            <a:ext cx="243036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3" descr="Logo Krasnaya Liniya.tif"/>
          <p:cNvPicPr/>
          <p:nvPr/>
        </p:nvPicPr>
        <p:blipFill>
          <a:blip r:embed="rId9"/>
          <a:stretch/>
        </p:blipFill>
        <p:spPr>
          <a:xfrm>
            <a:off x="3333600" y="2362320"/>
            <a:ext cx="2482920" cy="20034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4" descr="Logo Bfbushkina apteka.tif"/>
          <p:cNvPicPr/>
          <p:nvPr/>
        </p:nvPicPr>
        <p:blipFill>
          <a:blip r:embed="rId10"/>
          <a:stretch/>
        </p:blipFill>
        <p:spPr>
          <a:xfrm>
            <a:off x="2890800" y="4584600"/>
            <a:ext cx="1408320" cy="13035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5" descr="Logo TRISA.tif"/>
          <p:cNvPicPr/>
          <p:nvPr/>
        </p:nvPicPr>
        <p:blipFill>
          <a:blip r:embed="rId11"/>
          <a:stretch/>
        </p:blipFill>
        <p:spPr>
          <a:xfrm>
            <a:off x="136440" y="2160720"/>
            <a:ext cx="2454480" cy="556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6" descr="Logo Osobaya seria.tif"/>
          <p:cNvPicPr/>
          <p:nvPr/>
        </p:nvPicPr>
        <p:blipFill>
          <a:blip r:embed="rId12"/>
          <a:stretch/>
        </p:blipFill>
        <p:spPr>
          <a:xfrm>
            <a:off x="4529160" y="4930920"/>
            <a:ext cx="1800360" cy="9810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7" descr="Logo Azbuka chistoty.tif"/>
          <p:cNvPicPr/>
          <p:nvPr/>
        </p:nvPicPr>
        <p:blipFill>
          <a:blip r:embed="rId13"/>
          <a:stretch/>
        </p:blipFill>
        <p:spPr>
          <a:xfrm>
            <a:off x="309600" y="5297400"/>
            <a:ext cx="18003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47760" y="2206800"/>
            <a:ext cx="8467560" cy="21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Успешных продаж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46:05Z</dcterms:created>
  <dc:creator>akhiyarova</dc:creator>
  <dc:description/>
  <dc:language>en-US</dc:language>
  <cp:lastModifiedBy>Махров</cp:lastModifiedBy>
  <dcterms:modified xsi:type="dcterms:W3CDTF">2011-06-21T13:31:13Z</dcterms:modified>
  <cp:revision>194</cp:revision>
  <dc:subject/>
  <dc:title>Слайд 1</dc:title>
</cp:coreProperties>
</file>