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29A-68F3-4F90-B992-9687017B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545-28EC-4CBD-9916-AE99DF4B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187-C15E-48F4-AB61-85F54219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9A3-EF40-401C-BB23-B851DC2D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E72-F6DD-40F5-83D6-F381F9C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813-C348-4E6F-B5CC-3056D3E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A75-214E-47C5-868C-010970B1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309-41AD-4755-B307-7684DC69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4FD-20B1-4A64-941B-F0E3EA25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9D5-8F3F-4E40-851F-DB716014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D84-073B-4C86-B6E8-B40D44D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43D-9CF3-4054-9E49-A68BFB3A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8CF-4DAD-404B-95A3-69C302F60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Слайд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Слайд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Слайд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Слайд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Слайд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лайд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Слайд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Слайд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лайд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Слайд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лайд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Слайд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Слайд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Слайд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Слайд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Слайд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Слайд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Слайд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Слайд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Слайд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Слайд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Слайд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06:33:28Z</dcterms:created>
  <dc:creator>kolomiets</dc:creator>
  <dc:description/>
  <dc:language>en-US</dc:language>
  <cp:lastModifiedBy>kolomiets</cp:lastModifiedBy>
  <dcterms:modified xsi:type="dcterms:W3CDTF">2011-04-22T06:34:11Z</dcterms:modified>
  <cp:revision>1</cp:revision>
  <dc:subject/>
  <dc:title>Слайд 1</dc:title>
</cp:coreProperties>
</file>