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875-97D8-477F-B943-03B833C2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2035-94D5-4F3E-8E1D-D946B50C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2F3-7F35-4EE8-9CB3-E1A2A0D6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227-C7CD-4F26-BEDC-F521943B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F6F2-F507-40A8-803E-1A01505F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296-E459-42DF-B415-B027C7D8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8E61-0FD8-4E51-BFCF-65B61992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336-A561-4F2C-AE52-66C33F5E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38AE-A24E-4567-A7A0-6A86FA07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F223-D6F6-409B-B6C5-6B57378B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BEE-CE48-416D-88F0-A62E9832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418-6B21-4421-9646-56CBC07A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C942-B311-4058-9EEF-B045E9B359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Слайд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Слайд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Слайд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Слайд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Слайд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Слайд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Слайд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Слайд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Слайд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Слайд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Слайд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Слайд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Слайд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Слайд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Слайд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Слайд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Слайд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Слайд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Слайд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Слайд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Слайд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Слайд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Слайд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Слайд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Слайд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Слайд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Слайд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Слайд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Слайд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Слайд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Слай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Слай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Слайд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Слайд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06:33:28Z</dcterms:created>
  <dc:creator>kolomiets</dc:creator>
  <dc:description/>
  <dc:language>en-US</dc:language>
  <cp:lastModifiedBy>kolomiets</cp:lastModifiedBy>
  <dcterms:modified xsi:type="dcterms:W3CDTF">2011-04-22T06:34:11Z</dcterms:modified>
  <cp:revision>1</cp:revision>
  <dc:subject/>
  <dc:title>Слайд 1</dc:title>
</cp:coreProperties>
</file>