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E6D-BFA9-4EA8-9F9F-78664B88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2F8-AA75-400C-99C3-0F8962A2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459-A73D-4F6F-AE68-3E6A27CF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AC0-72B6-4025-846E-8889C706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0C42-8EEF-4115-9EBE-F0743DD4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40AA-DD66-4B0E-BD8F-247E0EB8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626B-7552-4317-8819-EABCF894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81B3-88C2-48E2-9105-D5484C18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228E-BD17-492B-8484-657A5A89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AD12-0C6F-45CA-A4CE-76574527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2682-AA8A-4324-AF70-5C67E963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8B5-B474-41A0-82DC-2C08DBDB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A539-5C48-4132-B5A4-13D0C50F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2D43-9F67-4E04-8D38-3B105CF5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7608-EA2B-44E4-A52A-E7BDB2D9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4C94-D7C7-4814-9AD6-166B26A0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4F3B-AFD6-42D0-88CA-37A1F7F5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21D00D-04C5-4DA3-BBBE-6C6D52D39F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B440F3-FA46-4939-8CE8-EB3137AFFC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0CF08-8C54-43D9-92E7-F4CC136D7C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64B71-5828-4FE9-B8E0-1D177E6962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451F6-8DB4-4A66-B7C8-55A98BFBCE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9F8-D20C-4AA1-A67F-513A0253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CC927A-C881-49AF-9CF8-403A3B3D66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070E1-0E7F-46BE-9947-E475808FEB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C77E6-816D-4477-9AB5-9A7502E427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71354-6B30-45B7-A97C-83811C9B7F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B2C88-901A-40E2-A485-214223912D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CBCB81-C615-467F-8F81-4C02C87BF7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B1D5C-DAA8-46EE-A2E7-862BD2019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6DF-1304-4777-9A3C-4F9FC11E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CE8-05E5-404D-BBA9-1092C64B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A30-6335-4469-AB7A-4BAE2C03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52B-2500-4977-9BCE-C0DE673F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A79-88D5-40F4-996C-795F8963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C3D-9249-4E2B-922D-6222BBAF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CB53-2148-4CF5-B1DE-E7B3C1813E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495-982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aroma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C511-8120-45F6-9F87-4C172B3493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3"/>
          <p:cNvSpPr/>
          <p:nvPr/>
        </p:nvSpPr>
        <p:spPr>
          <a:xfrm>
            <a:off x="503280" y="6427800"/>
            <a:ext cx="5572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ООО ТД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, г. Одинцово, ул.Вокзальная, д.53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(495) 98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538200" y="6443640"/>
            <a:ext cx="400680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ECD7-47E1-4BE4-BAF0-9DF993ED46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515880" y="2962440"/>
            <a:ext cx="81964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 Black"/>
              </a:rPr>
              <a:t>AC NIELS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1-е полугодие 20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Arial Black"/>
              </a:rPr>
              <a:t>ЖИДКОЕ МЫЛ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Arial"/>
                <a:ea typeface="Arial"/>
              </a:rPr>
              <a:t>(*данные не включают категорию </a:t>
            </a:r>
            <a:r>
              <a:rPr b="0" i="1" lang="en-US" sz="1300" spc="-1" strike="noStrike">
                <a:solidFill>
                  <a:srgbClr val="c00000"/>
                </a:solidFill>
                <a:latin typeface="Arial"/>
                <a:ea typeface="Arial"/>
              </a:rPr>
              <a:t>“</a:t>
            </a:r>
            <a:r>
              <a:rPr b="0" i="1" lang="ru-RU" sz="1300" spc="-1" strike="noStrike">
                <a:solidFill>
                  <a:srgbClr val="c00000"/>
                </a:solidFill>
                <a:latin typeface="Arial"/>
                <a:ea typeface="Arial"/>
              </a:rPr>
              <a:t>интимное мыло</a:t>
            </a:r>
            <a:r>
              <a:rPr b="0" i="1" lang="en-US" sz="1300" spc="-1" strike="noStrike">
                <a:solidFill>
                  <a:srgbClr val="c00000"/>
                </a:solidFill>
                <a:latin typeface="Arial"/>
                <a:ea typeface="Arial"/>
              </a:rPr>
              <a:t>”</a:t>
            </a:r>
            <a:r>
              <a:rPr b="0" i="1" lang="ru-RU" sz="13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Arial Black"/>
              </a:rPr>
              <a:t>ГЕЛИ ДЛЯ ДУШ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Arial Black"/>
              </a:rPr>
              <a:t>КРАСКА ДЛЯ ВОЛО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6" descr="LOGOTIP_Red_Line.jpg"/>
          <p:cNvPicPr/>
          <p:nvPr/>
        </p:nvPicPr>
        <p:blipFill>
          <a:blip r:embed="rId1"/>
          <a:stretch/>
        </p:blipFill>
        <p:spPr>
          <a:xfrm>
            <a:off x="3435480" y="973080"/>
            <a:ext cx="17557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200160" y="987480"/>
            <a:ext cx="8591400" cy="56134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ГЕЛЕЙ ДЛ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налы продаж категории, 1-е полугодие 2009, в кг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10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5681520" y="219564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доля канала в продажах категории, в кг, 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2"/>
          <p:cNvSpPr/>
          <p:nvPr/>
        </p:nvSpPr>
        <p:spPr>
          <a:xfrm>
            <a:off x="5222880" y="2617920"/>
            <a:ext cx="309600" cy="147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5681520" y="259560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доля марк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расная Лини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 кг.,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ая прямоугольная выноска 15"/>
          <p:cNvSpPr/>
          <p:nvPr/>
        </p:nvSpPr>
        <p:spPr>
          <a:xfrm>
            <a:off x="2766960" y="2481120"/>
            <a:ext cx="2276640" cy="500040"/>
          </a:xfrm>
          <a:prstGeom prst="wedgeRoundRectCallout">
            <a:avLst>
              <a:gd name="adj1" fmla="val -23129"/>
              <a:gd name="adj2" fmla="val 46611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Основные каналы продаж категории Гели для ду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Прямая со стрелкой 18"/>
          <p:cNvCxnSpPr/>
          <p:nvPr/>
        </p:nvCxnSpPr>
        <p:spPr>
          <a:xfrm flipH="1">
            <a:off x="3257280" y="3029040"/>
            <a:ext cx="505440" cy="24840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  <p:cxnSp>
        <p:nvCxnSpPr>
          <p:cNvPr id="207" name="Прямая со стрелкой 20"/>
          <p:cNvCxnSpPr/>
          <p:nvPr/>
        </p:nvCxnSpPr>
        <p:spPr>
          <a:xfrm>
            <a:off x="4100400" y="3038400"/>
            <a:ext cx="424800" cy="24840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208" name="Прямая соединительная линия 22"/>
          <p:cNvSpPr/>
          <p:nvPr/>
        </p:nvSpPr>
        <p:spPr>
          <a:xfrm>
            <a:off x="2181240" y="1495440"/>
            <a:ext cx="0" cy="3494160"/>
          </a:xfrm>
          <a:prstGeom prst="line">
            <a:avLst/>
          </a:prstGeom>
          <a:ln w="255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515880" y="2190600"/>
            <a:ext cx="819648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КРАСКА ДЛЯ ВОЛ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95200" y="307800"/>
            <a:ext cx="8982000" cy="58690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7"/>
          <p:cNvSpPr/>
          <p:nvPr/>
        </p:nvSpPr>
        <p:spPr>
          <a:xfrm>
            <a:off x="2114640" y="3743280"/>
            <a:ext cx="371520" cy="2679840"/>
          </a:xfrm>
          <a:prstGeom prst="rect">
            <a:avLst/>
          </a:prstGeom>
          <a:solidFill>
            <a:srgbClr val="ffff00">
              <a:alpha val="26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СТОЙКОЙ КРАСКИ ДЛЯ В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5681520" y="219564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-е полугоди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68200" y="83340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ля рынк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марка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-е полугодие 2009,шт.,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ая прямоугольная выноска 10"/>
          <p:cNvSpPr/>
          <p:nvPr/>
        </p:nvSpPr>
        <p:spPr>
          <a:xfrm>
            <a:off x="2362320" y="1752480"/>
            <a:ext cx="2457360" cy="924120"/>
          </a:xfrm>
          <a:prstGeom prst="wedgeRoundRectCallout">
            <a:avLst>
              <a:gd name="adj1" fmla="val -45611"/>
              <a:gd name="adj2" fmla="val 149435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FARA 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занимает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4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-е место среди всех марок в категории Стойкая краска для волос по доле рынка и марка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N1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 в низком ценовом сегм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7191360" y="6248520"/>
            <a:ext cx="172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, не включают проф. крас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8" descr=""/>
          <p:cNvPicPr/>
          <p:nvPr/>
        </p:nvPicPr>
        <p:blipFill>
          <a:blip r:embed="rId2"/>
          <a:stretch/>
        </p:blipFill>
        <p:spPr>
          <a:xfrm>
            <a:off x="7372440" y="73080"/>
            <a:ext cx="158112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61880" y="347760"/>
            <a:ext cx="8615520" cy="56293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СТОЙКОЙ КРАСКИ ДЛЯ В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исленная и взвешенная дистрибьюци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марка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1-е полугодие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>
            <a:off x="2076480" y="3181320"/>
            <a:ext cx="457200" cy="3241800"/>
          </a:xfrm>
          <a:prstGeom prst="rect">
            <a:avLst/>
          </a:prstGeom>
          <a:solidFill>
            <a:srgbClr val="ffff00">
              <a:alpha val="26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5681520" y="2195640"/>
            <a:ext cx="32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исленн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истрибьюция, количество магазинов (в %), торговавших данной мар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2"/>
          <p:cNvSpPr/>
          <p:nvPr/>
        </p:nvSpPr>
        <p:spPr>
          <a:xfrm>
            <a:off x="5222880" y="2617920"/>
            <a:ext cx="309600" cy="147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5681520" y="2595600"/>
            <a:ext cx="328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звешенная дистрибьюция, количественный товарооборот этих магазинов (в %) по отношению к объему продаж категории в цел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ая прямоугольная выноска 15"/>
          <p:cNvSpPr/>
          <p:nvPr/>
        </p:nvSpPr>
        <p:spPr>
          <a:xfrm>
            <a:off x="2104920" y="1695600"/>
            <a:ext cx="2276640" cy="657000"/>
          </a:xfrm>
          <a:prstGeom prst="wedgeRoundRectCallout">
            <a:avLst>
              <a:gd name="adj1" fmla="val -35263"/>
              <a:gd name="adj2" fmla="val 132986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Задача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N1 – 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рост численной и взвешенной дистрибь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8" descr=""/>
          <p:cNvPicPr/>
          <p:nvPr/>
        </p:nvPicPr>
        <p:blipFill>
          <a:blip r:embed="rId2"/>
          <a:stretch/>
        </p:blipFill>
        <p:spPr>
          <a:xfrm>
            <a:off x="7372440" y="73080"/>
            <a:ext cx="158112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47520" y="1254240"/>
            <a:ext cx="8131320" cy="53132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СТОЙКОЙ КРАСКИ ДЛЯ В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налы продаж категории, 1-е полугодие 2009, в кг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0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5681520" y="219564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доля канала в продажах категории, в кг, 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2"/>
          <p:cNvSpPr/>
          <p:nvPr/>
        </p:nvSpPr>
        <p:spPr>
          <a:xfrm>
            <a:off x="5222880" y="2617920"/>
            <a:ext cx="309600" cy="147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5681520" y="259560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доля марк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FARA”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 кг.,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15"/>
          <p:cNvSpPr/>
          <p:nvPr/>
        </p:nvSpPr>
        <p:spPr>
          <a:xfrm>
            <a:off x="2766960" y="2481120"/>
            <a:ext cx="2276640" cy="500040"/>
          </a:xfrm>
          <a:prstGeom prst="wedgeRoundRectCallout">
            <a:avLst>
              <a:gd name="adj1" fmla="val -23129"/>
              <a:gd name="adj2" fmla="val 46611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Основной канал продаж категории Краска для вол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20"/>
          <p:cNvCxnSpPr/>
          <p:nvPr/>
        </p:nvCxnSpPr>
        <p:spPr>
          <a:xfrm>
            <a:off x="4995720" y="3038400"/>
            <a:ext cx="424800" cy="24840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243" name="Прямая соединительная линия 22"/>
          <p:cNvSpPr/>
          <p:nvPr/>
        </p:nvSpPr>
        <p:spPr>
          <a:xfrm>
            <a:off x="2295360" y="1495440"/>
            <a:ext cx="0" cy="3494160"/>
          </a:xfrm>
          <a:prstGeom prst="line">
            <a:avLst/>
          </a:prstGeom>
          <a:ln w="255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8" descr=""/>
          <p:cNvPicPr/>
          <p:nvPr/>
        </p:nvPicPr>
        <p:blipFill>
          <a:blip r:embed="rId2"/>
          <a:stretch/>
        </p:blipFill>
        <p:spPr>
          <a:xfrm>
            <a:off x="7372440" y="73080"/>
            <a:ext cx="1581120" cy="834840"/>
          </a:xfrm>
          <a:prstGeom prst="rect">
            <a:avLst/>
          </a:prstGeom>
          <a:ln w="0">
            <a:noFill/>
          </a:ln>
        </p:spPr>
      </p:pic>
      <p:sp>
        <p:nvSpPr>
          <p:cNvPr id="246" name="Скругленная прямоугольная выноска 19"/>
          <p:cNvSpPr/>
          <p:nvPr/>
        </p:nvSpPr>
        <p:spPr>
          <a:xfrm>
            <a:off x="6692760" y="3452760"/>
            <a:ext cx="2276640" cy="652680"/>
          </a:xfrm>
          <a:prstGeom prst="wedgeRoundRectCallout">
            <a:avLst>
              <a:gd name="adj1" fmla="val -23129"/>
              <a:gd name="adj2" fmla="val 46611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Очень сильные позиции марки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FARA 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, которые необходимо удержи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 стрелкой 21"/>
          <p:cNvCxnSpPr/>
          <p:nvPr/>
        </p:nvCxnSpPr>
        <p:spPr>
          <a:xfrm flipH="1">
            <a:off x="7648200" y="4209120"/>
            <a:ext cx="310320" cy="28620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8" descr=""/>
          <p:cNvPicPr/>
          <p:nvPr/>
        </p:nvPicPr>
        <p:blipFill>
          <a:blip r:embed="rId1"/>
          <a:stretch/>
        </p:blipFill>
        <p:spPr>
          <a:xfrm>
            <a:off x="7372440" y="73080"/>
            <a:ext cx="1581120" cy="8348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6"/>
          <p:cNvSpPr/>
          <p:nvPr/>
        </p:nvSpPr>
        <p:spPr>
          <a:xfrm>
            <a:off x="895320" y="676440"/>
            <a:ext cx="8074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ДКОЕ МЫ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ая Ли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нимает 2-е место по доле рынка в кг. среди всех марок и 1-е место среди отечественных мар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– рост численной и взвешенной дистрибьюций, жидкое мы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ая Ли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е менее 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 быть представлено везде, где есть жидкое мы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Palmolive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каналы прода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ипер_супермаркеты и парф.-хоз. магази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ЛИ ДЛЯ ДУ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ая Ли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нимает 8-е место по доле рынка в кг. среди всех марок и 1-е место среди отечественных мар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– рост численной и взвешенной дистрибьюций, гель для душ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ая Ли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енее 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ен быть представлен везде, где есть гель для душ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Palmolive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каналы прода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ипер_супермаркеты и парф.-хоз. магаз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КА ДЛЯ ВОЛ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FARA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нимает 4-е место по доле рынка среди всех марок и 1-е место среди марок в низком ценовом сегмен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 задача – рост численной и взвешенной дистрибьюций, крас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FARA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е менее 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а быть представлена в каждой торговой точке, где е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le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ой канал сбыта – парфюмерно-хозяйственные магазины, кроме того задача мар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FARA”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держание позиций лидера в  канале Открытые ры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515880" y="2190600"/>
            <a:ext cx="819648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ЖИДКОЕ МЫ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ЖИДКОГО МЫЛ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2009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аспределение рынк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рнациональные и локальные м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LOGOTIP_Red_Line.jpg"/>
          <p:cNvPicPr/>
          <p:nvPr/>
        </p:nvPicPr>
        <p:blipFill>
          <a:blip r:embed="rId1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1"/>
          <p:cNvSpPr/>
          <p:nvPr/>
        </p:nvSpPr>
        <p:spPr>
          <a:xfrm>
            <a:off x="704880" y="19335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к в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70488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к в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3454560" y="1266840"/>
            <a:ext cx="4590720" cy="276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3357720" y="3638520"/>
            <a:ext cx="4809960" cy="2886120"/>
          </a:xfrm>
          <a:prstGeom prst="rect">
            <a:avLst/>
          </a:prstGeom>
          <a:ln w="0">
            <a:noFill/>
          </a:ln>
        </p:spPr>
      </p:pic>
      <p:sp>
        <p:nvSpPr>
          <p:cNvPr id="135" name="Скругленная прямоугольная выноска 11"/>
          <p:cNvSpPr/>
          <p:nvPr/>
        </p:nvSpPr>
        <p:spPr>
          <a:xfrm>
            <a:off x="1628640" y="3805200"/>
            <a:ext cx="2276640" cy="728640"/>
          </a:xfrm>
          <a:prstGeom prst="wedgeRoundRectCallout">
            <a:avLst>
              <a:gd name="adj1" fmla="val 58041"/>
              <a:gd name="adj2" fmla="val 92398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Рынок жидкого мыла – это рынок российских произв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5" descr=""/>
          <p:cNvPicPr/>
          <p:nvPr/>
        </p:nvPicPr>
        <p:blipFill>
          <a:blip r:embed="rId1"/>
          <a:stretch/>
        </p:blipFill>
        <p:spPr>
          <a:xfrm>
            <a:off x="371520" y="1577880"/>
            <a:ext cx="7810560" cy="51087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7"/>
          <p:cNvSpPr/>
          <p:nvPr/>
        </p:nvSpPr>
        <p:spPr>
          <a:xfrm>
            <a:off x="1247760" y="1800360"/>
            <a:ext cx="371520" cy="4622760"/>
          </a:xfrm>
          <a:prstGeom prst="rect">
            <a:avLst/>
          </a:prstGeom>
          <a:solidFill>
            <a:srgbClr val="ffff00">
              <a:alpha val="26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ЖИДКОГО М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68200" y="83340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ля рынк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марка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1-е полугодие 2009, кг.,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sp>
        <p:nvSpPr>
          <p:cNvPr id="144" name="Скругленная прямоугольная выноска 10"/>
          <p:cNvSpPr/>
          <p:nvPr/>
        </p:nvSpPr>
        <p:spPr>
          <a:xfrm>
            <a:off x="2266920" y="1647720"/>
            <a:ext cx="2152800" cy="914400"/>
          </a:xfrm>
          <a:prstGeom prst="wedgeRoundRectCallout">
            <a:avLst>
              <a:gd name="adj1" fmla="val -71185"/>
              <a:gd name="adj2" fmla="val 28851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Марка Красная Линия занимает 2-е место по доле рынка в категории Жидкое мыло (не вкл. интимное мы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5681520" y="219564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-е полугоди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ЖИДКОГО М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исленная и взвешенная дистрибьюци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марка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1-е полугодие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LOGOTIP_Red_Line.jpg"/>
          <p:cNvPicPr/>
          <p:nvPr/>
        </p:nvPicPr>
        <p:blipFill>
          <a:blip r:embed="rId1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05" descr=""/>
          <p:cNvPicPr/>
          <p:nvPr/>
        </p:nvPicPr>
        <p:blipFill>
          <a:blip r:embed="rId2"/>
          <a:stretch/>
        </p:blipFill>
        <p:spPr>
          <a:xfrm>
            <a:off x="415800" y="1525680"/>
            <a:ext cx="7956720" cy="519912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9"/>
          <p:cNvSpPr/>
          <p:nvPr/>
        </p:nvSpPr>
        <p:spPr>
          <a:xfrm>
            <a:off x="1266840" y="1800360"/>
            <a:ext cx="352440" cy="4622760"/>
          </a:xfrm>
          <a:prstGeom prst="rect">
            <a:avLst/>
          </a:prstGeom>
          <a:solidFill>
            <a:srgbClr val="ffff00">
              <a:alpha val="26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5681520" y="2195640"/>
            <a:ext cx="32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исленн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истрибьюция, количество магазинов (в %), торговавших данной мар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2"/>
          <p:cNvSpPr/>
          <p:nvPr/>
        </p:nvSpPr>
        <p:spPr>
          <a:xfrm>
            <a:off x="5222880" y="2617920"/>
            <a:ext cx="309600" cy="147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5681520" y="2595600"/>
            <a:ext cx="328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звешенная дистрибьюция, количественный товарооборот этих магазинов (в %) по отношению к объему продаж категории в цел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ая прямоугольная выноска 15"/>
          <p:cNvSpPr/>
          <p:nvPr/>
        </p:nvSpPr>
        <p:spPr>
          <a:xfrm>
            <a:off x="2104920" y="1695600"/>
            <a:ext cx="2276640" cy="666720"/>
          </a:xfrm>
          <a:prstGeom prst="wedgeRoundRectCallout">
            <a:avLst>
              <a:gd name="adj1" fmla="val -70828"/>
              <a:gd name="adj2" fmla="val 82800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Задача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N1 – 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рост численной и взвешенной дистрибь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25440" y="1523880"/>
            <a:ext cx="7580160" cy="49532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ЖИДКОГО М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налы продаж категории, 1-е полугодие 2009, в кг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0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5681520" y="219564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доля канала в продажах категории, в кг, 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2"/>
          <p:cNvSpPr/>
          <p:nvPr/>
        </p:nvSpPr>
        <p:spPr>
          <a:xfrm>
            <a:off x="5222880" y="2617920"/>
            <a:ext cx="309600" cy="147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5681520" y="259560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доля марк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расная Лини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 кг.,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ая прямоугольная выноска 15"/>
          <p:cNvSpPr/>
          <p:nvPr/>
        </p:nvSpPr>
        <p:spPr>
          <a:xfrm>
            <a:off x="2766960" y="2481120"/>
            <a:ext cx="2276640" cy="500040"/>
          </a:xfrm>
          <a:prstGeom prst="wedgeRoundRectCallout">
            <a:avLst>
              <a:gd name="adj1" fmla="val -23129"/>
              <a:gd name="adj2" fmla="val 46611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Основные каналы продаж категории Жидкое м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Прямая со стрелкой 18"/>
          <p:cNvCxnSpPr/>
          <p:nvPr/>
        </p:nvCxnSpPr>
        <p:spPr>
          <a:xfrm flipH="1">
            <a:off x="3257280" y="3029040"/>
            <a:ext cx="505440" cy="24840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  <p:cxnSp>
        <p:nvCxnSpPr>
          <p:cNvPr id="170" name="Прямая со стрелкой 20"/>
          <p:cNvCxnSpPr/>
          <p:nvPr/>
        </p:nvCxnSpPr>
        <p:spPr>
          <a:xfrm>
            <a:off x="4100400" y="3038400"/>
            <a:ext cx="424800" cy="24840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1" name="Прямая соединительная линия 22"/>
          <p:cNvSpPr/>
          <p:nvPr/>
        </p:nvSpPr>
        <p:spPr>
          <a:xfrm>
            <a:off x="1962000" y="1495440"/>
            <a:ext cx="0" cy="3494160"/>
          </a:xfrm>
          <a:prstGeom prst="line">
            <a:avLst/>
          </a:prstGeom>
          <a:ln w="255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15880" y="2190600"/>
            <a:ext cx="819648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ГЕЛИ ДЛЯ ДУ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436680" y="1255680"/>
            <a:ext cx="7821360" cy="511020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7"/>
          <p:cNvSpPr/>
          <p:nvPr/>
        </p:nvSpPr>
        <p:spPr>
          <a:xfrm>
            <a:off x="3400560" y="3743280"/>
            <a:ext cx="371520" cy="2679840"/>
          </a:xfrm>
          <a:prstGeom prst="rect">
            <a:avLst/>
          </a:prstGeom>
          <a:solidFill>
            <a:srgbClr val="ffff00">
              <a:alpha val="26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ГЕЛЕЙ ДЛ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68200" y="83340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ля рынк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марка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1-е полугодие 2009, кг.,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sp>
        <p:nvSpPr>
          <p:cNvPr id="181" name="Скругленная прямоугольная выноска 10"/>
          <p:cNvSpPr/>
          <p:nvPr/>
        </p:nvSpPr>
        <p:spPr>
          <a:xfrm>
            <a:off x="2362320" y="1752480"/>
            <a:ext cx="2457360" cy="924120"/>
          </a:xfrm>
          <a:prstGeom prst="wedgeRoundRectCallout">
            <a:avLst>
              <a:gd name="adj1" fmla="val 2449"/>
              <a:gd name="adj2" fmla="val 151495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Красная Линия занимает 8-е место среди всех марок Гелей для душа по доле рынка и марка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N1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 среди российских произв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5681520" y="219564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-е полугоди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71520" y="1109520"/>
            <a:ext cx="8130960" cy="53136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ГЕЛЕЙ ДЛ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исленная и взвешенная дистрибьюци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марка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1-е полугодие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9"/>
          <p:cNvSpPr/>
          <p:nvPr/>
        </p:nvSpPr>
        <p:spPr>
          <a:xfrm>
            <a:off x="3552840" y="3181320"/>
            <a:ext cx="352440" cy="3241800"/>
          </a:xfrm>
          <a:prstGeom prst="rect">
            <a:avLst/>
          </a:prstGeom>
          <a:solidFill>
            <a:srgbClr val="ffff00">
              <a:alpha val="26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0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5681520" y="2195640"/>
            <a:ext cx="32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исленн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истрибьюция, количество магазинов (в %), торговавших данной мар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2"/>
          <p:cNvSpPr/>
          <p:nvPr/>
        </p:nvSpPr>
        <p:spPr>
          <a:xfrm>
            <a:off x="5222880" y="2617920"/>
            <a:ext cx="309600" cy="147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5681520" y="2595600"/>
            <a:ext cx="328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звешенная дистрибьюция, количественный товарооборот этих магазинов (в %) по отношению к объему продаж категории в цел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ая прямоугольная выноска 15"/>
          <p:cNvSpPr/>
          <p:nvPr/>
        </p:nvSpPr>
        <p:spPr>
          <a:xfrm>
            <a:off x="2104920" y="1619280"/>
            <a:ext cx="1995480" cy="781200"/>
          </a:xfrm>
          <a:prstGeom prst="wedgeRoundRectCallout">
            <a:avLst>
              <a:gd name="adj1" fmla="val 31731"/>
              <a:gd name="adj2" fmla="val 150726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Задача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N1 – 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рост численной и взвешенной дистрибь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46:05Z</dcterms:created>
  <dc:creator>akhiyarova</dc:creator>
  <dc:description/>
  <dc:language>en-US</dc:language>
  <cp:lastModifiedBy>akhiyarova</cp:lastModifiedBy>
  <dcterms:modified xsi:type="dcterms:W3CDTF">2010-02-09T11:36:39Z</dcterms:modified>
  <cp:revision>376</cp:revision>
  <dc:subject/>
  <dc:title>Слайд 1</dc:title>
</cp:coreProperties>
</file>