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0E0-8802-489A-8BB2-7E54B0A2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CF3-EE5D-4F16-9C0C-5C1DC3B4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AF0-5FD9-4529-94E8-9253DE3A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86D-7E60-432E-A754-AB256666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A1B4-ACE1-467B-80C4-C9D09730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E086-487F-45DE-B401-AD1EFD1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3CA-8C02-4BAC-A319-6A90BA3E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AE9-29B7-491D-8A41-E5DD50C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0FB-2521-4732-B4AF-DE9E1FE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FF5A-0B44-4A31-AA3E-C8233A7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55F6-C1A5-4E02-BF11-809B7DB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DFA-1994-4399-9313-A8C41CA9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A863-91B7-47C7-A49F-35C4548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0E2-A80F-498B-87DD-BB8B7EA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2744-BB1F-48EB-8FFD-0A90F754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662-B465-479F-AF8F-0B6EC9E1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30F-A509-40F5-B8E7-65A86A55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3DD61-7C1D-49A8-8715-9E4E51F562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DABA3-A55D-4AEC-8BD1-CB36C5F611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10744-C589-4646-B564-D2C07B610E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AE2D6-32FF-4446-ACC5-FC4017D336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E36DE-E63C-4675-BEF6-99E378E4BE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D76-B54E-4764-967A-D980D63E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BBF3F-C93A-4071-92DB-12BF9FEC16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2D92A7-032F-43D0-9783-23FF3AA6C2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89502-7682-4BDA-8E6B-D17E3CC9EF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DCA6B-2AD9-4DBC-9B79-04CD2180C7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B9E14-CA9F-41F5-9AA8-9A4900203A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7AD62-EB52-4CCC-BA67-EB648EB35A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93F67-BA79-4FE1-AAE4-7BCF12C5C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1A0-B9D6-4BE7-AAC7-39E77E9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837-633A-4C0A-AA02-64EC0E0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10A-7076-412B-AA05-DEBFFF6C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DCF-7165-4420-82F9-21D59DF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97D-F570-4722-A552-4F50B1D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AC2-9B7E-47CA-ABBE-7281F1A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CE6-F385-4872-9D67-144E34614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75BE-E1DB-4C6C-B870-06F1860AB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3"/>
          <p:cNvSpPr/>
          <p:nvPr/>
        </p:nvSpPr>
        <p:spPr>
          <a:xfrm>
            <a:off x="503280" y="6427800"/>
            <a:ext cx="5572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ООО ТД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, г. Одинцово, ул.Вокзальная, д.53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(495) 98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538200" y="6443640"/>
            <a:ext cx="400680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A956-5E7D-44C5-A5E0-27EB9E052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15880" y="2962440"/>
            <a:ext cx="81964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AC NIELS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1-е полугодие 2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ЖИДКОЕ МЫЛ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(*данные не включают категорию </a:t>
            </a:r>
            <a:r>
              <a:rPr b="0" i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интимное мыло</a:t>
            </a:r>
            <a:r>
              <a:rPr b="0" i="1" lang="en-US" sz="1300" spc="-1" strike="noStrike">
                <a:solidFill>
                  <a:srgbClr val="c00000"/>
                </a:solidFill>
                <a:latin typeface="Arial"/>
                <a:ea typeface="Arial"/>
              </a:rPr>
              <a:t>”</a:t>
            </a:r>
            <a:r>
              <a:rPr b="0" i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ГЕЛИ ДЛЯ ДУШ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Arial Black"/>
              </a:rPr>
              <a:t>КРАСКА ДЛЯ ВОЛО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3435480" y="973080"/>
            <a:ext cx="17557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200160" y="987480"/>
            <a:ext cx="8591400" cy="5613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ые каналы продаж категории Гели для ду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18"/>
          <p:cNvCxnSpPr/>
          <p:nvPr/>
        </p:nvCxnSpPr>
        <p:spPr>
          <a:xfrm flipH="1">
            <a:off x="3257280" y="3029040"/>
            <a:ext cx="50544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207" name="Прямая со стрелкой 20"/>
          <p:cNvCxnSpPr/>
          <p:nvPr/>
        </p:nvCxnSpPr>
        <p:spPr>
          <a:xfrm>
            <a:off x="410040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208" name="Прямая соединительная линия 22"/>
          <p:cNvSpPr/>
          <p:nvPr/>
        </p:nvSpPr>
        <p:spPr>
          <a:xfrm>
            <a:off x="218124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РАСКА ДЛЯ ВОЛ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95200" y="307800"/>
            <a:ext cx="8982000" cy="58690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2114640" y="3743280"/>
            <a:ext cx="371520" cy="267984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-е полугодие 2009,шт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ая прямоугольная выноска 10"/>
          <p:cNvSpPr/>
          <p:nvPr/>
        </p:nvSpPr>
        <p:spPr>
          <a:xfrm>
            <a:off x="2362320" y="1752480"/>
            <a:ext cx="2457360" cy="924120"/>
          </a:xfrm>
          <a:prstGeom prst="wedgeRoundRectCallout">
            <a:avLst>
              <a:gd name="adj1" fmla="val -45611"/>
              <a:gd name="adj2" fmla="val 149435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FARA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нимает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-е место среди всех марок в категории Стойкая краска для волос по доле рынка и марк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 в низком ценовом сег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7191360" y="6248520"/>
            <a:ext cx="17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, не включают проф. крас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61880" y="347760"/>
            <a:ext cx="8615520" cy="5629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2076480" y="3181320"/>
            <a:ext cx="457200" cy="324180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ая прямоугольная выноска 15"/>
          <p:cNvSpPr/>
          <p:nvPr/>
        </p:nvSpPr>
        <p:spPr>
          <a:xfrm>
            <a:off x="2104920" y="1695600"/>
            <a:ext cx="2276640" cy="657000"/>
          </a:xfrm>
          <a:prstGeom prst="wedgeRoundRectCallout">
            <a:avLst>
              <a:gd name="adj1" fmla="val -35263"/>
              <a:gd name="adj2" fmla="val 132986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7520" y="1254240"/>
            <a:ext cx="8131320" cy="5313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СТОЙКОЙ КРАСКИ ДЛЯ В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FARA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ой канал продаж категории Краска для вол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20"/>
          <p:cNvCxnSpPr/>
          <p:nvPr/>
        </p:nvCxnSpPr>
        <p:spPr>
          <a:xfrm>
            <a:off x="499572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243" name="Прямая соединительная линия 22"/>
          <p:cNvSpPr/>
          <p:nvPr/>
        </p:nvSpPr>
        <p:spPr>
          <a:xfrm>
            <a:off x="229536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8" descr=""/>
          <p:cNvPicPr/>
          <p:nvPr/>
        </p:nvPicPr>
        <p:blipFill>
          <a:blip r:embed="rId2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ая прямоугольная выноска 19"/>
          <p:cNvSpPr/>
          <p:nvPr/>
        </p:nvSpPr>
        <p:spPr>
          <a:xfrm>
            <a:off x="6692760" y="3452760"/>
            <a:ext cx="2276640" cy="65268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чень сильные позиции марки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FARA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, которые необходимо удержи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21"/>
          <p:cNvCxnSpPr/>
          <p:nvPr/>
        </p:nvCxnSpPr>
        <p:spPr>
          <a:xfrm flipH="1">
            <a:off x="7648200" y="4209120"/>
            <a:ext cx="310320" cy="2862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8" descr=""/>
          <p:cNvPicPr/>
          <p:nvPr/>
        </p:nvPicPr>
        <p:blipFill>
          <a:blip r:embed="rId1"/>
          <a:stretch/>
        </p:blipFill>
        <p:spPr>
          <a:xfrm>
            <a:off x="7372440" y="73080"/>
            <a:ext cx="1581120" cy="8348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6"/>
          <p:cNvSpPr/>
          <p:nvPr/>
        </p:nvSpPr>
        <p:spPr>
          <a:xfrm>
            <a:off x="895320" y="676440"/>
            <a:ext cx="8074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нимает 2-е место по доле рынка в кг. среди всех марок и 1-е место среди отечественных мар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– рост численной и взвешенной дистрибьюций, жидкое мы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е менее 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 быть представлено везде, где есть жидкое мы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almolive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каналы прода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ипер_супермаркеты и парф.-хоз. магази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ЛИ ДЛЯ Д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8-е место по доле рынка в кг. среди всех марок и 1-е место среди отечественных ма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– рост численной и взвешенной дистрибьюций, гель для душ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енее 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ен быть представлен везде, где есть гель для душ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Palmolive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каналы прода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ипер_супермаркеты и парф.-хоз. мага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КА ДЛЯ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имает 4-е место по доле рынка среди всех марок и 1-е место среди марок в низком ценовом сегмен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 задача – рост численной и взвешенной дистрибьюций, кра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е менее 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а быть представлена в каждой торговой точке, где е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llet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й канал сбыта – парфюмерно-хозяйственные магазины, кроме того задача мар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FARA”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держание позиций лидера в  канале Открытые ры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ЖИДКОЕ МЫ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2009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пределение рынк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ациональные и локальные м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704880" y="1933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 в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70488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к в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454560" y="1266840"/>
            <a:ext cx="4590720" cy="276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3357720" y="3638520"/>
            <a:ext cx="4809960" cy="2886120"/>
          </a:xfrm>
          <a:prstGeom prst="rect">
            <a:avLst/>
          </a:prstGeom>
          <a:ln w="0">
            <a:noFill/>
          </a:ln>
        </p:spPr>
      </p:pic>
      <p:sp>
        <p:nvSpPr>
          <p:cNvPr id="135" name="Скругленная прямоугольная выноска 11"/>
          <p:cNvSpPr/>
          <p:nvPr/>
        </p:nvSpPr>
        <p:spPr>
          <a:xfrm>
            <a:off x="1628640" y="3805200"/>
            <a:ext cx="2276640" cy="728640"/>
          </a:xfrm>
          <a:prstGeom prst="wedgeRoundRectCallout">
            <a:avLst>
              <a:gd name="adj1" fmla="val 58041"/>
              <a:gd name="adj2" fmla="val 92398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ынок жидкого мыла – это рынок российских произв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371520" y="1577880"/>
            <a:ext cx="7810560" cy="51087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7"/>
          <p:cNvSpPr/>
          <p:nvPr/>
        </p:nvSpPr>
        <p:spPr>
          <a:xfrm>
            <a:off x="1247760" y="1800360"/>
            <a:ext cx="371520" cy="462276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, кг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ая прямоугольная выноска 10"/>
          <p:cNvSpPr/>
          <p:nvPr/>
        </p:nvSpPr>
        <p:spPr>
          <a:xfrm>
            <a:off x="2266920" y="1647720"/>
            <a:ext cx="2152800" cy="914400"/>
          </a:xfrm>
          <a:prstGeom prst="wedgeRoundRectCallout">
            <a:avLst>
              <a:gd name="adj1" fmla="val -71185"/>
              <a:gd name="adj2" fmla="val 2885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Марка Красная Линия занимает 2-е место по доле рынка в категории Жидкое мыло (не вкл. интимное мы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LOGOTIP_Red_Line.jpg"/>
          <p:cNvPicPr/>
          <p:nvPr/>
        </p:nvPicPr>
        <p:blipFill>
          <a:blip r:embed="rId1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5" descr=""/>
          <p:cNvPicPr/>
          <p:nvPr/>
        </p:nvPicPr>
        <p:blipFill>
          <a:blip r:embed="rId2"/>
          <a:stretch/>
        </p:blipFill>
        <p:spPr>
          <a:xfrm>
            <a:off x="415800" y="1525680"/>
            <a:ext cx="7956720" cy="519912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9"/>
          <p:cNvSpPr/>
          <p:nvPr/>
        </p:nvSpPr>
        <p:spPr>
          <a:xfrm>
            <a:off x="1266840" y="1800360"/>
            <a:ext cx="352440" cy="462276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ая прямоугольная выноска 15"/>
          <p:cNvSpPr/>
          <p:nvPr/>
        </p:nvSpPr>
        <p:spPr>
          <a:xfrm>
            <a:off x="2104920" y="1695600"/>
            <a:ext cx="2276640" cy="666720"/>
          </a:xfrm>
          <a:prstGeom prst="wedgeRoundRectCallout">
            <a:avLst>
              <a:gd name="adj1" fmla="val -70828"/>
              <a:gd name="adj2" fmla="val 82800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25440" y="1523880"/>
            <a:ext cx="758016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ЖИДКОГО М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налы продаж категории, 1-е полугодие 2009, в кг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5681520" y="219564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канала в продажах категории, в кг,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5681520" y="2595600"/>
            <a:ext cx="328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доля мар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ная Ли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 кг.,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ая прямоугольная выноска 15"/>
          <p:cNvSpPr/>
          <p:nvPr/>
        </p:nvSpPr>
        <p:spPr>
          <a:xfrm>
            <a:off x="2766960" y="2481120"/>
            <a:ext cx="2276640" cy="500040"/>
          </a:xfrm>
          <a:prstGeom prst="wedgeRoundRectCallout">
            <a:avLst>
              <a:gd name="adj1" fmla="val -23129"/>
              <a:gd name="adj2" fmla="val 46611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Основные каналы продаж категории Жидкое м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18"/>
          <p:cNvCxnSpPr/>
          <p:nvPr/>
        </p:nvCxnSpPr>
        <p:spPr>
          <a:xfrm flipH="1">
            <a:off x="3257280" y="3029040"/>
            <a:ext cx="50544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cxnSp>
        <p:nvCxnSpPr>
          <p:cNvPr id="170" name="Прямая со стрелкой 20"/>
          <p:cNvCxnSpPr/>
          <p:nvPr/>
        </p:nvCxnSpPr>
        <p:spPr>
          <a:xfrm>
            <a:off x="4100400" y="3038400"/>
            <a:ext cx="424800" cy="248400"/>
          </a:xfrm>
          <a:prstGeom prst="straightConnector1">
            <a:avLst/>
          </a:prstGeom>
          <a:ln w="38160">
            <a:solidFill>
              <a:srgbClr val="a6a6a6"/>
            </a:solidFill>
            <a:miter/>
            <a:tailEnd len="med" type="arrow" w="med"/>
          </a:ln>
        </p:spPr>
      </p:cxnSp>
      <p:sp>
        <p:nvSpPr>
          <p:cNvPr id="171" name="Прямая соединительная линия 22"/>
          <p:cNvSpPr/>
          <p:nvPr/>
        </p:nvSpPr>
        <p:spPr>
          <a:xfrm>
            <a:off x="1962000" y="1495440"/>
            <a:ext cx="0" cy="3494160"/>
          </a:xfrm>
          <a:prstGeom prst="line">
            <a:avLst/>
          </a:prstGeom>
          <a:ln w="2556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15880" y="2190600"/>
            <a:ext cx="819648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ГЕЛИ ДЛЯ ДУ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36680" y="1255680"/>
            <a:ext cx="7821360" cy="51102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7"/>
          <p:cNvSpPr/>
          <p:nvPr/>
        </p:nvSpPr>
        <p:spPr>
          <a:xfrm>
            <a:off x="3400560" y="3743280"/>
            <a:ext cx="371520" cy="267984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68200" y="8334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ля рынк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, кг.,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ая прямоугольная выноска 10"/>
          <p:cNvSpPr/>
          <p:nvPr/>
        </p:nvSpPr>
        <p:spPr>
          <a:xfrm>
            <a:off x="2362320" y="1752480"/>
            <a:ext cx="2457360" cy="924120"/>
          </a:xfrm>
          <a:prstGeom prst="wedgeRoundRectCallout">
            <a:avLst>
              <a:gd name="adj1" fmla="val 2449"/>
              <a:gd name="adj2" fmla="val 151495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Красная Линия занимает 8-е место среди всех марок Гелей для душа по доле рынка и марк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 среди российских произв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5681520" y="2195640"/>
            <a:ext cx="16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-е полугоди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71520" y="1109520"/>
            <a:ext cx="8130960" cy="5313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68200" y="123840"/>
            <a:ext cx="75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>
            <a:off x="304920" y="647640"/>
            <a:ext cx="6333840" cy="180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8200" y="833400"/>
            <a:ext cx="75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исленная и взвешенная дистрибьюци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о марка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1-е полугодие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7718400" y="123840"/>
            <a:ext cx="1260360" cy="12384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9"/>
          <p:cNvSpPr/>
          <p:nvPr/>
        </p:nvSpPr>
        <p:spPr>
          <a:xfrm>
            <a:off x="3552840" y="3181320"/>
            <a:ext cx="352440" cy="3241800"/>
          </a:xfrm>
          <a:prstGeom prst="rect">
            <a:avLst/>
          </a:prstGeom>
          <a:solidFill>
            <a:srgbClr val="ffff00">
              <a:alpha val="26000"/>
            </a:srgbClr>
          </a:solidFill>
          <a:ln w="25560">
            <a:solidFill>
              <a:srgbClr val="95373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5222880" y="2265480"/>
            <a:ext cx="309600" cy="147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5681520" y="2195640"/>
            <a:ext cx="32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сленн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стрибьюция, количество магазинов (в %), торговавших данной мар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2"/>
          <p:cNvSpPr/>
          <p:nvPr/>
        </p:nvSpPr>
        <p:spPr>
          <a:xfrm>
            <a:off x="5222880" y="2617920"/>
            <a:ext cx="309600" cy="147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681520" y="2595600"/>
            <a:ext cx="328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взвешенная дистрибьюция, количественный товарооборот этих магазинов (в %) по отношению к объему продаж категории в цел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ая прямоугольная выноска 15"/>
          <p:cNvSpPr/>
          <p:nvPr/>
        </p:nvSpPr>
        <p:spPr>
          <a:xfrm>
            <a:off x="2104920" y="1619280"/>
            <a:ext cx="1995480" cy="781200"/>
          </a:xfrm>
          <a:prstGeom prst="wedgeRoundRectCallout">
            <a:avLst>
              <a:gd name="adj1" fmla="val 31731"/>
              <a:gd name="adj2" fmla="val 150726"/>
              <a:gd name="adj3" fmla="val 16667"/>
            </a:avLst>
          </a:prstGeom>
          <a:solidFill>
            <a:srgbClr val="bfbfbf">
              <a:alpha val="46000"/>
            </a:srgbClr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Задача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N1 – </a:t>
            </a: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Arial"/>
              </a:rPr>
              <a:t>рост численной и взвешенной дистрибь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372440" y="6248520"/>
            <a:ext cx="15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* Данные </a:t>
            </a:r>
            <a:r>
              <a:rPr b="0" i="1" lang="en-US" sz="1000" spc="-1" strike="noStrike">
                <a:solidFill>
                  <a:srgbClr val="7f7f7f"/>
                </a:solidFill>
                <a:latin typeface="Arial"/>
              </a:rPr>
              <a:t>AC Nielsen</a:t>
            </a:r>
            <a:r>
              <a:rPr b="0" i="1" lang="ru-RU" sz="1000" spc="-1" strike="noStrike">
                <a:solidFill>
                  <a:srgbClr val="7f7f7f"/>
                </a:solidFill>
                <a:latin typeface="Arial"/>
              </a:rPr>
              <a:t>, 1-е полугодие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akhiyarova</cp:lastModifiedBy>
  <dcterms:modified xsi:type="dcterms:W3CDTF">2010-02-09T11:36:39Z</dcterms:modified>
  <cp:revision>376</cp:revision>
  <dc:subject/>
  <dc:title>Слайд 1</dc:title>
</cp:coreProperties>
</file>