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9BB-F0E7-4B84-9481-71C6CAFE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7A5A-4565-42BE-A393-12811A6F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456-261A-499F-80D4-A0824E80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CC2-3829-4835-8A60-FCB0E187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66BF-406F-4ACC-BB50-4AD42B99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5FE3-37E9-41FD-8370-964A779D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3AF2-6F71-45CB-BB5C-7FF6030E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F5D-3A2A-4224-91F7-D7719B73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DC37-D20A-4C29-9EE6-4D1FA3D1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E7E1-D916-4D98-9E38-52BB3D90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2AD-8932-4E2A-A6AF-99FECCE6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EEA-E991-4861-B3BA-35BC4C4A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A8C75-C77E-4892-811E-2FC8329D0C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AA6D4-4324-4281-97E0-8475A9256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2691"/>
                </a:solidFill>
                <a:latin typeface="Charcoal CY"/>
              </a:rPr>
              <a:t>Новинк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omfort-soft.jpg"/>
          <p:cNvPicPr/>
          <p:nvPr/>
        </p:nvPicPr>
        <p:blipFill>
          <a:blip r:embed="rId2"/>
          <a:stretch/>
        </p:blipFill>
        <p:spPr>
          <a:xfrm>
            <a:off x="3908520" y="1936800"/>
            <a:ext cx="5235480" cy="320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Panty-normal.jpg"/>
          <p:cNvPicPr/>
          <p:nvPr/>
        </p:nvPicPr>
        <p:blipFill>
          <a:blip r:embed="rId3"/>
          <a:stretch/>
        </p:blipFill>
        <p:spPr>
          <a:xfrm>
            <a:off x="0" y="1924200"/>
            <a:ext cx="341136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2691"/>
                </a:solidFill>
                <a:latin typeface="Charcoal CY"/>
              </a:rPr>
              <a:t>Прокладки </a:t>
            </a:r>
            <a:r>
              <a:rPr b="0" lang="en-US" sz="4400" spc="-1" strike="noStrike">
                <a:solidFill>
                  <a:srgbClr val="ff2691"/>
                </a:solidFill>
                <a:latin typeface="Charcoal CY"/>
              </a:rPr>
              <a:t>Hello Kit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862280"/>
          <a:ext cx="8229600" cy="34257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12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родукт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т. в упак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трих коды ш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тику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кладки для критических дней COMFORT SO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70149511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кладки  для критических дней COMFORT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70149511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кладки ежедневны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O FLOW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70149512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кладки ежедневны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O STRAWBER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7014951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3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2691"/>
                </a:solidFill>
                <a:latin typeface="Charcoal CY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3:57:05Z</dcterms:created>
  <dc:creator>Антон Баклан</dc:creator>
  <dc:description/>
  <dc:language>en-US</dc:language>
  <cp:lastModifiedBy>solovieva</cp:lastModifiedBy>
  <dcterms:modified xsi:type="dcterms:W3CDTF">2011-05-11T10:54:13Z</dcterms:modified>
  <cp:revision>2</cp:revision>
  <dc:subject/>
  <dc:title>Slide 1</dc:title>
</cp:coreProperties>
</file>