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937-1388-4FB6-B9D0-F3A125A9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BB8-7464-4E3C-8A61-3220857E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5E1-034C-4BA2-AC44-A40D4B61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7F5-73F1-4985-B5EA-A7BE5A1C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419-F97B-4061-A09D-0AC95008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5BF-455E-480A-8D9E-5900018E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C73-6BE0-47B5-90AB-DA9B3823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47B-20C9-4032-9C9B-2C088350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E31-52D3-47BB-AA6F-E743E1E0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187-5ED2-4E58-9DCF-D388AF74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40F-570F-48E1-882D-DB935FEB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176-EC7F-49DA-A2B4-4587D8BF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B972B-DCCB-48A3-8FD1-CFD5C07ED3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4571B-8FE8-45AD-B3DC-CACCF37B3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2691"/>
                </a:solidFill>
                <a:latin typeface="Charcoal CY"/>
              </a:rPr>
              <a:t>Новинк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omfort-soft.jpg"/>
          <p:cNvPicPr/>
          <p:nvPr/>
        </p:nvPicPr>
        <p:blipFill>
          <a:blip r:embed="rId2"/>
          <a:stretch/>
        </p:blipFill>
        <p:spPr>
          <a:xfrm>
            <a:off x="3908520" y="1936800"/>
            <a:ext cx="5235480" cy="32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Panty-normal.jpg"/>
          <p:cNvPicPr/>
          <p:nvPr/>
        </p:nvPicPr>
        <p:blipFill>
          <a:blip r:embed="rId3"/>
          <a:stretch/>
        </p:blipFill>
        <p:spPr>
          <a:xfrm>
            <a:off x="0" y="1924200"/>
            <a:ext cx="34113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2691"/>
                </a:solidFill>
                <a:latin typeface="Charcoal CY"/>
              </a:rPr>
              <a:t>Прокладки </a:t>
            </a:r>
            <a:r>
              <a:rPr b="0" lang="en-US" sz="4400" spc="-1" strike="noStrike">
                <a:solidFill>
                  <a:srgbClr val="ff2691"/>
                </a:solidFill>
                <a:latin typeface="Charcoal CY"/>
              </a:rPr>
              <a:t>Hello Kit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62280"/>
          <a:ext cx="8229600" cy="34257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1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родук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т. в упак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трих коды 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тику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кладки для критических дней COMFORT SO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7014951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кладки  для критических дней COMFOR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70149511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кладки ежедневны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O FLOW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7014951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кладки ежедневны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O STRAWBER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701495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3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2691"/>
                </a:solidFill>
                <a:latin typeface="Charcoal CY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3:57:05Z</dcterms:created>
  <dc:creator>Антон Баклан</dc:creator>
  <dc:description/>
  <dc:language>en-US</dc:language>
  <cp:lastModifiedBy>solovieva</cp:lastModifiedBy>
  <dcterms:modified xsi:type="dcterms:W3CDTF">2011-05-11T10:54:13Z</dcterms:modified>
  <cp:revision>2</cp:revision>
  <dc:subject/>
  <dc:title>Slide 1</dc:title>
</cp:coreProperties>
</file>