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AA8-60BD-4A23-B2E3-571B9696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A42-A567-4E8A-AF29-79A3384F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7BC-07C4-40EB-A83C-C1E7090E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355-BB91-4AED-88C4-E878DEB8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676-1CDA-4C1A-9797-EA2E2BC5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81A-C0B5-4BC8-BEBD-E7F6AE9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67D-1CEF-488D-BEA8-11F65310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93C-B217-4D8A-B6AF-88C36869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0F4-A5FB-49DB-9A02-54CB719B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B09-C7F5-4181-928C-3E77AD0C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771-63FF-4871-AB8D-A87F8786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3C5-6F39-46F2-8AA0-E5D774D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F9C9-DC1A-4385-A2E7-BBAF3F547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лайд1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лайд2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айд3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айд4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Слайд5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лайд6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1:45:03Z</dcterms:created>
  <dc:creator>kolomiets</dc:creator>
  <dc:description/>
  <dc:language>en-US</dc:language>
  <cp:lastModifiedBy>kolomiets</cp:lastModifiedBy>
  <dcterms:modified xsi:type="dcterms:W3CDTF">2010-10-04T11:46:10Z</dcterms:modified>
  <cp:revision>1</cp:revision>
  <dc:subject/>
  <dc:title>Слайд 1</dc:title>
</cp:coreProperties>
</file>