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9E3-15BD-4221-85A6-10D2E55D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AA0-D515-466D-AA7A-8F7E4F8D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66D-3D05-47A5-876F-6D0B5DC6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566-8D46-4424-A1E6-AEF0BDB7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2AD-CAB2-493F-969E-D3A25EFA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ABF-DA30-4B17-AE74-92715B05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064-00AA-4725-BAF4-3D99D2AC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2411-17B1-4E48-8BE6-29FBBAAB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4C38-0203-4E0E-875D-D4C87330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ECD-3156-4E99-81D3-EE827791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61A-07D9-4245-8117-A28936BB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34D-F42F-49A1-B69D-D8F10294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A82F-C9F7-4969-B6B7-673D9C99E3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Слайд1.JPG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Слайд2.JPG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Слайд3.JPG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Слайд4.JPG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Слайд5.JPG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Слайд6.JPG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1:45:03Z</dcterms:created>
  <dc:creator>kolomiets</dc:creator>
  <dc:description/>
  <dc:language>en-US</dc:language>
  <cp:lastModifiedBy>kolomiets</cp:lastModifiedBy>
  <dcterms:modified xsi:type="dcterms:W3CDTF">2010-10-04T11:46:10Z</dcterms:modified>
  <cp:revision>1</cp:revision>
  <dc:subject/>
  <dc:title>Слайд 1</dc:title>
</cp:coreProperties>
</file>