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2.png" ContentType="image/png"/>
  <Override PartName="/ppt/media/image1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wmf" ContentType="image/x-wmf"/>
  <Override PartName="/ppt/media/image1.wmf" ContentType="image/x-wmf"/>
  <Override PartName="/ppt/media/image2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1440" y="9000"/>
            <a:ext cx="294768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1"/>
          </p:nvPr>
        </p:nvSpPr>
        <p:spPr>
          <a:xfrm>
            <a:off x="3850920" y="9000"/>
            <a:ext cx="294804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2"/>
          </p:nvPr>
        </p:nvSpPr>
        <p:spPr>
          <a:xfrm>
            <a:off x="-1440" y="9450000"/>
            <a:ext cx="294768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3"/>
          </p:nvPr>
        </p:nvSpPr>
        <p:spPr>
          <a:xfrm>
            <a:off x="3850920" y="9450000"/>
            <a:ext cx="294804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fld id="{94DEF612-7C47-4832-AB21-CFCB3B01351B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382320" y="2406600"/>
            <a:ext cx="6111720" cy="743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Img"/>
          </p:nvPr>
        </p:nvSpPr>
        <p:spPr>
          <a:xfrm>
            <a:off x="1870200" y="252360"/>
            <a:ext cx="2768400" cy="20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valon"/>
              </a:rPr>
              <a:t>Click to move the slide</a:t>
            </a:r>
            <a:endParaRPr b="1" lang="en-US" sz="5200" spc="-1" strike="noStrike">
              <a:solidFill>
                <a:srgbClr val="ffffff"/>
              </a:solidFill>
              <a:latin typeface="Avalo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5065920" y="301680"/>
            <a:ext cx="8175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7944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Dokument: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PL-mi484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7944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Ausgabe: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7944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Seite: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fld id="{F6C5E417-CA12-4098-AD43-329F8B9F2FE6}" type="slidenum">
              <a:rPr b="0" lang="de-DE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3851280" y="9450360"/>
            <a:ext cx="2948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fld id="{73886470-7431-4584-AEBB-E4F18B9FD057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874880" y="258840"/>
            <a:ext cx="2752560" cy="2063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82320" y="2406600"/>
            <a:ext cx="6111720" cy="74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51280" y="9450360"/>
            <a:ext cx="2948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fld id="{1FC38EDB-E0E5-4BB9-9206-7D21B34412F3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874880" y="258840"/>
            <a:ext cx="2752560" cy="2063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382320" y="2406600"/>
            <a:ext cx="6111720" cy="74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851280" y="9450360"/>
            <a:ext cx="2948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fld id="{125EC49D-9BA4-45CD-8398-3B910E1D7FEB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876320" y="258840"/>
            <a:ext cx="2752920" cy="20635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82320" y="2406600"/>
            <a:ext cx="6111720" cy="74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3851280" y="9450360"/>
            <a:ext cx="2948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fld id="{B32C4FCE-0C3E-45E2-9C04-322DFD4E960D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876320" y="258840"/>
            <a:ext cx="2752920" cy="20635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2320" y="2406600"/>
            <a:ext cx="6111720" cy="74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3851280" y="9450360"/>
            <a:ext cx="2948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fld id="{C485DF9A-B944-431A-8912-C70AB70316D9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876320" y="258840"/>
            <a:ext cx="2752920" cy="20635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382320" y="2406600"/>
            <a:ext cx="6111720" cy="74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3851280" y="9450360"/>
            <a:ext cx="2948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fld id="{0F780233-C6B0-4BC0-B0F8-47B1044CC281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876320" y="258840"/>
            <a:ext cx="2752920" cy="20635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82320" y="2406600"/>
            <a:ext cx="6111720" cy="74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5200" spc="-1" strike="noStrike">
              <a:solidFill>
                <a:srgbClr val="ffffff"/>
              </a:solidFill>
              <a:latin typeface="Aval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5200" spc="-1" strike="noStrike">
              <a:solidFill>
                <a:srgbClr val="ffffff"/>
              </a:solidFill>
              <a:latin typeface="Avalo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5200" spc="-1" strike="noStrike">
              <a:solidFill>
                <a:srgbClr val="ffffff"/>
              </a:solidFill>
              <a:latin typeface="Aval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5200" spc="-1" strike="noStrike">
              <a:solidFill>
                <a:srgbClr val="ffffff"/>
              </a:solidFill>
              <a:latin typeface="Aval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5200" spc="-1" strike="noStrike">
              <a:solidFill>
                <a:srgbClr val="ffffff"/>
              </a:solidFill>
              <a:latin typeface="Aval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5200" spc="-1" strike="noStrike">
              <a:solidFill>
                <a:srgbClr val="ffffff"/>
              </a:solidFill>
              <a:latin typeface="Aval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5200" spc="-1" strike="noStrike">
              <a:solidFill>
                <a:srgbClr val="ffffff"/>
              </a:solidFill>
              <a:latin typeface="Aval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5200" spc="-1" strike="noStrike">
              <a:solidFill>
                <a:srgbClr val="ffffff"/>
              </a:solidFill>
              <a:latin typeface="Aval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5200" spc="-1" strike="noStrike">
              <a:solidFill>
                <a:srgbClr val="ffffff"/>
              </a:solidFill>
              <a:latin typeface="Aval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5200" spc="-1" strike="noStrike">
              <a:solidFill>
                <a:srgbClr val="ffffff"/>
              </a:solidFill>
              <a:latin typeface="Avalo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0" y="6635880"/>
            <a:ext cx="7383600" cy="31680"/>
          </a:xfrm>
          <a:custGeom>
            <a:avLst/>
            <a:gdLst>
              <a:gd name="textAreaLeft" fmla="*/ 0 w 7383600"/>
              <a:gd name="textAreaRight" fmla="*/ 7383960 w 73836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756" h="23">
                <a:moveTo>
                  <a:pt x="7" y="0"/>
                </a:moveTo>
                <a:lnTo>
                  <a:pt x="5751" y="0"/>
                </a:lnTo>
                <a:lnTo>
                  <a:pt x="5754" y="1"/>
                </a:lnTo>
                <a:lnTo>
                  <a:pt x="5755" y="1"/>
                </a:lnTo>
                <a:lnTo>
                  <a:pt x="5740" y="22"/>
                </a:lnTo>
                <a:lnTo>
                  <a:pt x="28" y="22"/>
                </a:lnTo>
                <a:lnTo>
                  <a:pt x="21" y="22"/>
                </a:lnTo>
                <a:lnTo>
                  <a:pt x="12" y="22"/>
                </a:lnTo>
                <a:lnTo>
                  <a:pt x="5" y="22"/>
                </a:lnTo>
                <a:lnTo>
                  <a:pt x="1" y="22"/>
                </a:lnTo>
                <a:lnTo>
                  <a:pt x="0" y="0"/>
                </a:lnTo>
                <a:lnTo>
                  <a:pt x="1" y="0"/>
                </a:lnTo>
                <a:lnTo>
                  <a:pt x="4" y="0"/>
                </a:lnTo>
                <a:lnTo>
                  <a:pt x="5" y="0"/>
                </a:lnTo>
                <a:lnTo>
                  <a:pt x="7" y="0"/>
                </a:lnTo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240840" y="6399360"/>
            <a:ext cx="8883720" cy="442440"/>
            <a:chOff x="240840" y="6399360"/>
            <a:chExt cx="8883720" cy="442440"/>
          </a:xfrm>
        </p:grpSpPr>
        <p:sp>
          <p:nvSpPr>
            <p:cNvPr id="2" name="Freeform 4"/>
            <p:cNvSpPr/>
            <p:nvPr/>
          </p:nvSpPr>
          <p:spPr>
            <a:xfrm>
              <a:off x="7363440" y="6399360"/>
              <a:ext cx="486000" cy="26964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79" h="198">
                  <a:moveTo>
                    <a:pt x="17" y="0"/>
                  </a:moveTo>
                  <a:lnTo>
                    <a:pt x="378" y="0"/>
                  </a:lnTo>
                  <a:lnTo>
                    <a:pt x="363" y="30"/>
                  </a:lnTo>
                  <a:lnTo>
                    <a:pt x="260" y="30"/>
                  </a:lnTo>
                  <a:lnTo>
                    <a:pt x="165" y="195"/>
                  </a:lnTo>
                  <a:lnTo>
                    <a:pt x="83" y="197"/>
                  </a:lnTo>
                  <a:lnTo>
                    <a:pt x="178" y="32"/>
                  </a:lnTo>
                  <a:lnTo>
                    <a:pt x="0" y="32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0" bIns="0" anchor="b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197200" y="6399360"/>
              <a:ext cx="120600" cy="309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94" h="23">
                  <a:moveTo>
                    <a:pt x="18" y="0"/>
                  </a:moveTo>
                  <a:lnTo>
                    <a:pt x="93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0" bIns="0" anchor="b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691760" y="6467040"/>
              <a:ext cx="443520" cy="20160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46" h="148">
                  <a:moveTo>
                    <a:pt x="91" y="0"/>
                  </a:moveTo>
                  <a:lnTo>
                    <a:pt x="345" y="0"/>
                  </a:lnTo>
                  <a:lnTo>
                    <a:pt x="290" y="94"/>
                  </a:lnTo>
                  <a:lnTo>
                    <a:pt x="209" y="94"/>
                  </a:lnTo>
                  <a:lnTo>
                    <a:pt x="243" y="33"/>
                  </a:lnTo>
                  <a:lnTo>
                    <a:pt x="153" y="33"/>
                  </a:lnTo>
                  <a:lnTo>
                    <a:pt x="84" y="147"/>
                  </a:lnTo>
                  <a:lnTo>
                    <a:pt x="0" y="147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0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0" bIns="0" anchor="b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064000" y="6467040"/>
              <a:ext cx="212760" cy="2016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166" h="148">
                  <a:moveTo>
                    <a:pt x="89" y="0"/>
                  </a:moveTo>
                  <a:lnTo>
                    <a:pt x="165" y="0"/>
                  </a:lnTo>
                  <a:lnTo>
                    <a:pt x="80" y="147"/>
                  </a:lnTo>
                  <a:lnTo>
                    <a:pt x="0" y="147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89" y="0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0" bIns="0" anchor="b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215200" y="6467040"/>
              <a:ext cx="442440" cy="20160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45" h="148">
                  <a:moveTo>
                    <a:pt x="90" y="0"/>
                  </a:moveTo>
                  <a:lnTo>
                    <a:pt x="344" y="0"/>
                  </a:lnTo>
                  <a:lnTo>
                    <a:pt x="327" y="32"/>
                  </a:lnTo>
                  <a:lnTo>
                    <a:pt x="150" y="31"/>
                  </a:lnTo>
                  <a:lnTo>
                    <a:pt x="147" y="37"/>
                  </a:lnTo>
                  <a:lnTo>
                    <a:pt x="143" y="42"/>
                  </a:lnTo>
                  <a:lnTo>
                    <a:pt x="141" y="50"/>
                  </a:lnTo>
                  <a:lnTo>
                    <a:pt x="140" y="56"/>
                  </a:lnTo>
                  <a:lnTo>
                    <a:pt x="309" y="57"/>
                  </a:lnTo>
                  <a:lnTo>
                    <a:pt x="257" y="147"/>
                  </a:lnTo>
                  <a:lnTo>
                    <a:pt x="0" y="147"/>
                  </a:lnTo>
                  <a:lnTo>
                    <a:pt x="22" y="115"/>
                  </a:lnTo>
                  <a:lnTo>
                    <a:pt x="189" y="115"/>
                  </a:lnTo>
                  <a:lnTo>
                    <a:pt x="205" y="92"/>
                  </a:lnTo>
                  <a:lnTo>
                    <a:pt x="34" y="92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0" y="0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0" bIns="0" anchor="b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8596440" y="6467040"/>
              <a:ext cx="444960" cy="20160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47" h="148">
                  <a:moveTo>
                    <a:pt x="90" y="0"/>
                  </a:moveTo>
                  <a:lnTo>
                    <a:pt x="346" y="0"/>
                  </a:lnTo>
                  <a:lnTo>
                    <a:pt x="256" y="147"/>
                  </a:lnTo>
                  <a:lnTo>
                    <a:pt x="0" y="147"/>
                  </a:lnTo>
                  <a:lnTo>
                    <a:pt x="53" y="58"/>
                  </a:lnTo>
                  <a:lnTo>
                    <a:pt x="228" y="57"/>
                  </a:lnTo>
                  <a:lnTo>
                    <a:pt x="232" y="52"/>
                  </a:lnTo>
                  <a:lnTo>
                    <a:pt x="237" y="46"/>
                  </a:lnTo>
                  <a:lnTo>
                    <a:pt x="242" y="39"/>
                  </a:lnTo>
                  <a:lnTo>
                    <a:pt x="244" y="33"/>
                  </a:lnTo>
                  <a:lnTo>
                    <a:pt x="69" y="33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0" y="0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0" bIns="0" anchor="b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731080" y="6602040"/>
              <a:ext cx="117720" cy="230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92" h="17">
                  <a:moveTo>
                    <a:pt x="13" y="0"/>
                  </a:moveTo>
                  <a:lnTo>
                    <a:pt x="91" y="0"/>
                  </a:lnTo>
                  <a:lnTo>
                    <a:pt x="91" y="3"/>
                  </a:lnTo>
                  <a:lnTo>
                    <a:pt x="89" y="6"/>
                  </a:lnTo>
                  <a:lnTo>
                    <a:pt x="86" y="11"/>
                  </a:lnTo>
                  <a:lnTo>
                    <a:pt x="83" y="16"/>
                  </a:lnTo>
                  <a:lnTo>
                    <a:pt x="0" y="16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0" bIns="0" anchor="b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40840" y="6494760"/>
              <a:ext cx="2014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0" bIns="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54200"/>
                  <a:tab algn="l" pos="1508040"/>
                  <a:tab algn="l" pos="2262240"/>
                  <a:tab algn="l" pos="3016080"/>
                  <a:tab algn="l" pos="3770280"/>
                  <a:tab algn="l" pos="4524480"/>
                  <a:tab algn="l" pos="5278320"/>
                  <a:tab algn="l" pos="6032520"/>
                  <a:tab algn="l" pos="6786720"/>
                  <a:tab algn="l" pos="7540560"/>
                  <a:tab algn="l" pos="8294760"/>
                  <a:tab algn="l" pos="9048600"/>
                  <a:tab algn="l" pos="9802800"/>
                  <a:tab algn="l" pos="105570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Ottawa"/>
                </a:rPr>
                <a:t>BÜRSTEN - BROSSES - BRUSH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5875920" y="6601320"/>
              <a:ext cx="68472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0" bIns="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54200"/>
                  <a:tab algn="l" pos="1508040"/>
                  <a:tab algn="l" pos="2262240"/>
                  <a:tab algn="l" pos="3016080"/>
                  <a:tab algn="l" pos="3770280"/>
                  <a:tab algn="l" pos="4524480"/>
                  <a:tab algn="l" pos="5278320"/>
                  <a:tab algn="l" pos="6032520"/>
                  <a:tab algn="l" pos="6786720"/>
                  <a:tab algn="l" pos="7540560"/>
                  <a:tab algn="l" pos="8294760"/>
                  <a:tab algn="l" pos="9048600"/>
                  <a:tab algn="l" pos="9802800"/>
                  <a:tab algn="l" pos="10557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Ottawa"/>
                </a:rPr>
                <a:t>SINCE 188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348680" y="6704640"/>
              <a:ext cx="1627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0" bIns="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54200"/>
                  <a:tab algn="l" pos="1508040"/>
                  <a:tab algn="l" pos="2262240"/>
                  <a:tab algn="l" pos="3016080"/>
                  <a:tab algn="l" pos="3770280"/>
                  <a:tab algn="l" pos="4524480"/>
                  <a:tab algn="l" pos="5278320"/>
                  <a:tab algn="l" pos="6032520"/>
                  <a:tab algn="l" pos="6786720"/>
                  <a:tab algn="l" pos="7540560"/>
                  <a:tab algn="l" pos="8294760"/>
                  <a:tab algn="l" pos="9048600"/>
                  <a:tab algn="l" pos="9802800"/>
                  <a:tab algn="l" pos="105570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Ottawa"/>
                </a:rPr>
                <a:t>O F   S W I T Z E R L A N 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" name="Object 14"/>
            <p:cNvGraphicFramePr/>
            <p:nvPr/>
          </p:nvGraphicFramePr>
          <p:xfrm>
            <a:off x="9060840" y="6530040"/>
            <a:ext cx="63720" cy="69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" name="Object 1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060840" y="6530040"/>
                      <a:ext cx="63720" cy="6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" name="Rectangle 15"/>
          <p:cNvSpPr/>
          <p:nvPr/>
        </p:nvSpPr>
        <p:spPr>
          <a:xfrm>
            <a:off x="1952640" y="1789200"/>
            <a:ext cx="523872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ext Box 5" descr=""/>
          <p:cNvPicPr/>
          <p:nvPr/>
        </p:nvPicPr>
        <p:blipFill>
          <a:blip r:embed="rId1"/>
          <a:stretch/>
        </p:blipFill>
        <p:spPr>
          <a:xfrm>
            <a:off x="676440" y="328680"/>
            <a:ext cx="7729200" cy="7444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003640" y="1844640"/>
            <a:ext cx="3835440" cy="4335120"/>
          </a:xfrm>
          <a:prstGeom prst="rect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Зубная паста TRISA Clinical – это швейцарская продукция высочайшего качества, разработанная в сотрудничестве со швейцарскими университетами, имеющими самую высокую репутацию в области профилактической зубной медицины. Действие зубных паст TRISA Clinical подтверждено результатами клинических испыт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031105_zp_5sorten_stehend"/>
          <p:cNvPicPr/>
          <p:nvPr/>
        </p:nvPicPr>
        <p:blipFill>
          <a:blip r:embed="rId2"/>
          <a:stretch/>
        </p:blipFill>
        <p:spPr>
          <a:xfrm>
            <a:off x="34920" y="2565360"/>
            <a:ext cx="3816360" cy="2594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Clinical Sensitive"/>
          <p:cNvPicPr/>
          <p:nvPr/>
        </p:nvPicPr>
        <p:blipFill>
          <a:blip r:embed="rId3"/>
          <a:stretch/>
        </p:blipFill>
        <p:spPr>
          <a:xfrm>
            <a:off x="3492360" y="2492280"/>
            <a:ext cx="100836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6"/>
          <p:cNvGrpSpPr/>
          <p:nvPr/>
        </p:nvGrpSpPr>
        <p:grpSpPr>
          <a:xfrm>
            <a:off x="1908000" y="189000"/>
            <a:ext cx="7170840" cy="922320"/>
            <a:chOff x="1908000" y="189000"/>
            <a:chExt cx="7170840" cy="922320"/>
          </a:xfrm>
        </p:grpSpPr>
        <p:pic>
          <p:nvPicPr>
            <p:cNvPr id="104" name="Picture 4" descr=""/>
            <p:cNvPicPr/>
            <p:nvPr/>
          </p:nvPicPr>
          <p:blipFill>
            <a:blip r:embed="rId1"/>
            <a:stretch/>
          </p:blipFill>
          <p:spPr>
            <a:xfrm>
              <a:off x="1908000" y="189000"/>
              <a:ext cx="717084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"/>
            <p:cNvPicPr/>
            <p:nvPr/>
          </p:nvPicPr>
          <p:blipFill>
            <a:blip r:embed="rId2"/>
            <a:stretch/>
          </p:blipFill>
          <p:spPr>
            <a:xfrm>
              <a:off x="6645240" y="549360"/>
              <a:ext cx="2390760" cy="56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Text Box 7"/>
          <p:cNvSpPr/>
          <p:nvPr/>
        </p:nvSpPr>
        <p:spPr>
          <a:xfrm>
            <a:off x="2916360" y="1731960"/>
            <a:ext cx="6075360" cy="407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marL="457200" indent="-457200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уб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аста «ТРИЗА Клиникл Херб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99"/>
              </a:buClr>
              <a:buFont typeface="Arial"/>
              <a:buAutoNum type="arabicPeriod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дотвращает образование бактериального налета и заболевания дес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четание активных компонентов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плексом лечебных трав, в сост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торого входят ромашка, шалфей, мирра и м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99"/>
              </a:buClr>
              <a:buFont typeface="Arial"/>
              <a:buAutoNum type="arabicPeriod" startAt="2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крепляет эм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99"/>
              </a:buClr>
              <a:buFont typeface="Arial"/>
              <a:buAutoNum type="arabicPeriod" startAt="2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дотвращает возникновение кари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99"/>
              </a:buClr>
              <a:buFont typeface="Arial"/>
              <a:buAutoNum type="arabicPeriod" startAt="2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дотвраща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разование зубного нал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99"/>
              </a:buClr>
              <a:buFont typeface="Arial"/>
              <a:buAutoNum type="arabicPeriod" startAt="2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дотвращает образование зубного кам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99"/>
              </a:buClr>
              <a:buFont typeface="Arial"/>
              <a:buAutoNum type="arabicPeriod" startAt="2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крепляет десн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ействие подтверждено результатами клинических испыт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381680" y="914400"/>
            <a:ext cx="4553280" cy="3909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Century Gothic"/>
              </a:rPr>
              <a:t>С комплексом лечебных тра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031105_zp_herbal_tube_steht"/>
          <p:cNvPicPr/>
          <p:nvPr/>
        </p:nvPicPr>
        <p:blipFill>
          <a:blip r:embed="rId4"/>
          <a:stretch/>
        </p:blipFill>
        <p:spPr>
          <a:xfrm>
            <a:off x="820800" y="2016000"/>
            <a:ext cx="159048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"/>
          <p:cNvGrpSpPr/>
          <p:nvPr/>
        </p:nvGrpSpPr>
        <p:grpSpPr>
          <a:xfrm>
            <a:off x="1908000" y="404640"/>
            <a:ext cx="7170840" cy="922320"/>
            <a:chOff x="1908000" y="404640"/>
            <a:chExt cx="7170840" cy="922320"/>
          </a:xfrm>
        </p:grpSpPr>
        <p:pic>
          <p:nvPicPr>
            <p:cNvPr id="110" name="Picture 5" descr=""/>
            <p:cNvPicPr/>
            <p:nvPr/>
          </p:nvPicPr>
          <p:blipFill>
            <a:blip r:embed="rId1"/>
            <a:stretch/>
          </p:blipFill>
          <p:spPr>
            <a:xfrm>
              <a:off x="1908000" y="404640"/>
              <a:ext cx="717084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6" descr=""/>
            <p:cNvPicPr/>
            <p:nvPr/>
          </p:nvPicPr>
          <p:blipFill>
            <a:blip r:embed="rId2"/>
            <a:stretch/>
          </p:blipFill>
          <p:spPr>
            <a:xfrm>
              <a:off x="6645240" y="765000"/>
              <a:ext cx="2390760" cy="56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Text Box 7"/>
          <p:cNvSpPr/>
          <p:nvPr/>
        </p:nvSpPr>
        <p:spPr>
          <a:xfrm>
            <a:off x="2987640" y="1947960"/>
            <a:ext cx="6075360" cy="3982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marL="457200" indent="-457200"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Фторид натрия реминерализует эмаль и защищает от кари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Хлорид цинка в сочетании с комплексом лечебных трав предотвращает образование бактериального нал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еханическое удаление налета с использованием абразива диоксида кремния гидратированного дополняемое антибактериальным эффектом защищает от кари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Хлорид цинка в сочетании с комплексом лечебных трав предотвращает образование зубного камня и заболевания дес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1597680" y="1130400"/>
            <a:ext cx="4553280" cy="3909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Century Gothic"/>
              </a:rPr>
              <a:t>С комплексом лечебных тра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031105_zp_herbal_tube_steht"/>
          <p:cNvPicPr/>
          <p:nvPr/>
        </p:nvPicPr>
        <p:blipFill>
          <a:blip r:embed="rId4"/>
          <a:stretch/>
        </p:blipFill>
        <p:spPr>
          <a:xfrm>
            <a:off x="1036800" y="2232000"/>
            <a:ext cx="159048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203640" y="2852640"/>
            <a:ext cx="5761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47680" indent="-24768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Высокоэффективные соединения фтора в комбинации с ксилитом восстанавливают</a:t>
            </a: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структуру эмали, поддерживая ее</a:t>
            </a: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минеральный сост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едотвращает</a:t>
            </a: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образование зубного нале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едотвращает возникновение кариеса</a:t>
            </a: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едотвращает образование бактериального налета и снижает</a:t>
            </a: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чувствительность зубов на продолжительное</a:t>
            </a: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Clinical Sensitive"/>
          <p:cNvPicPr/>
          <p:nvPr/>
        </p:nvPicPr>
        <p:blipFill>
          <a:blip r:embed="rId1"/>
          <a:stretch/>
        </p:blipFill>
        <p:spPr>
          <a:xfrm>
            <a:off x="250920" y="216000"/>
            <a:ext cx="2616120" cy="6308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"/>
          <p:cNvPicPr/>
          <p:nvPr/>
        </p:nvPicPr>
        <p:blipFill>
          <a:blip r:embed="rId2"/>
          <a:stretch/>
        </p:blipFill>
        <p:spPr>
          <a:xfrm>
            <a:off x="3492360" y="44280"/>
            <a:ext cx="4464360" cy="2421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5"/>
          <p:cNvSpPr/>
          <p:nvPr/>
        </p:nvSpPr>
        <p:spPr>
          <a:xfrm>
            <a:off x="3276720" y="2349360"/>
            <a:ext cx="47512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"/>
              </a:rPr>
              <a:t>Для чувствительных зу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258920" y="549360"/>
            <a:ext cx="6589800" cy="448200"/>
          </a:xfrm>
          <a:prstGeom prst="rect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17819" dir="2700000" blurRad="0" rotWithShape="0">
              <a:srgbClr val="3365f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algn="ctr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700" spc="-1" strike="noStrike">
                <a:solidFill>
                  <a:srgbClr val="003399"/>
                </a:solidFill>
                <a:latin typeface="Century Gothic"/>
              </a:rPr>
              <a:t>Сводная таблиц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2"/>
          <p:cNvGraphicFramePr/>
          <p:nvPr/>
        </p:nvGraphicFramePr>
        <p:xfrm>
          <a:off x="44280" y="1270080"/>
          <a:ext cx="8991720" cy="499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" y="1270080"/>
                    <a:ext cx="899172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571920" y="1916280"/>
            <a:ext cx="5172120" cy="41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Зубная паста TRISA Clinical Fresh GEL - оптимальная защита от кари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Активные компоненты фтор и кальций укрепляют структуру эмали, поддерживая ее минеральный сост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TRISA Clinical Fresh GEL дарит Вам длительное ощущение чистоты и свеже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Действие подтверждено результатами клинических испыт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5"/>
          <p:cNvGraphicFramePr/>
          <p:nvPr/>
        </p:nvGraphicFramePr>
        <p:xfrm>
          <a:off x="3657600" y="76320"/>
          <a:ext cx="5486400" cy="97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76320"/>
                    <a:ext cx="548640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Rectangle 14"/>
          <p:cNvSpPr/>
          <p:nvPr/>
        </p:nvSpPr>
        <p:spPr>
          <a:xfrm>
            <a:off x="923760" y="1125360"/>
            <a:ext cx="6096240" cy="3909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17819" dir="27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Century Gothic"/>
              </a:rPr>
              <a:t>Свежее дыхание и защита от кариес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7" descr="031105_zp_freshgel_tub_steh"/>
          <p:cNvPicPr/>
          <p:nvPr/>
        </p:nvPicPr>
        <p:blipFill>
          <a:blip r:embed="rId4"/>
          <a:stretch/>
        </p:blipFill>
        <p:spPr>
          <a:xfrm>
            <a:off x="971640" y="2205000"/>
            <a:ext cx="1589040" cy="3861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203640" y="1916280"/>
            <a:ext cx="5540400" cy="3687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онофторфосфат натрия и дикальция фосфат, реминерализуют эмаль, восстанавливая ее структуру, что повышает сопротивляемость кариесу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мимо а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ктивны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х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 компонент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в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 фтор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 и кальци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я, защите от кариеса способствует механическое удаление налета с использованием абразива диоксида кремния гидратированного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тдушка и натрия сахарин обеспечивают чистое дыхание длительное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 ощущение свеже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5"/>
          <p:cNvGraphicFramePr/>
          <p:nvPr/>
        </p:nvGraphicFramePr>
        <p:xfrm>
          <a:off x="3657600" y="76320"/>
          <a:ext cx="5486400" cy="97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76320"/>
                    <a:ext cx="548640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6"/>
          <p:cNvSpPr/>
          <p:nvPr/>
        </p:nvSpPr>
        <p:spPr>
          <a:xfrm>
            <a:off x="923760" y="1158840"/>
            <a:ext cx="6096240" cy="3909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17819" dir="27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Century Gothic"/>
              </a:rPr>
              <a:t>Свежее дыхание и защита от кариес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031105_zp_freshgel_tub_steh"/>
          <p:cNvPicPr/>
          <p:nvPr/>
        </p:nvPicPr>
        <p:blipFill>
          <a:blip r:embed="rId4"/>
          <a:stretch/>
        </p:blipFill>
        <p:spPr>
          <a:xfrm>
            <a:off x="971640" y="2205000"/>
            <a:ext cx="158904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987640" y="1413000"/>
            <a:ext cx="6004080" cy="494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Зубная паста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 TRISA Clinical ACTIVE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предотвращает образование зубного налета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,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являющегося основной причиной возникновения заболеваний десен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,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и способствует укреплению десен бла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г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одаря активным компонентам аллантоину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,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бизабололу и пантенолу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.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Обладает противовоспалительным действ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Обеспечивает очень щадящую чистку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,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благодаря низкой абразивности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Фтор укрепляет структуру эмали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,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поддерживая ее минеральный состав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,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что предотвращает возникновение кариеса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Действие подтверждено результатами клинических испытаний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HelveticaCyr-Uprigh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5"/>
          <p:cNvGraphicFramePr/>
          <p:nvPr/>
        </p:nvGraphicFramePr>
        <p:xfrm>
          <a:off x="3583080" y="76320"/>
          <a:ext cx="5560920" cy="98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3080" y="76320"/>
                    <a:ext cx="556092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Rectangle 12"/>
          <p:cNvSpPr/>
          <p:nvPr/>
        </p:nvSpPr>
        <p:spPr>
          <a:xfrm>
            <a:off x="1330920" y="914400"/>
            <a:ext cx="5430960" cy="390960"/>
          </a:xfrm>
          <a:prstGeom prst="rect">
            <a:avLst/>
          </a:prstGeom>
          <a:solidFill>
            <a:srgbClr val="ffd7eb"/>
          </a:solidFill>
          <a:ln w="0">
            <a:noFill/>
          </a:ln>
          <a:effectLst>
            <a:outerShdw dist="17819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Century Gothic"/>
              </a:rPr>
              <a:t>Укрепляет чувствительные десн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6" descr="031105_zp_active_tube_steht"/>
          <p:cNvPicPr/>
          <p:nvPr/>
        </p:nvPicPr>
        <p:blipFill>
          <a:blip r:embed="rId4"/>
          <a:stretch/>
        </p:blipFill>
        <p:spPr>
          <a:xfrm>
            <a:off x="893880" y="2016000"/>
            <a:ext cx="1590480" cy="3861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2771640" y="1413000"/>
            <a:ext cx="6220080" cy="439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онофторфосфат натрия и дикальция фосфат, реминерализуют эмаль, восстанавливая ее структуру, что повышает сопротивляемость кари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нтибактериальное вещество бромхлорофен в сочетании с пантенолом (провитамином В5), бизабололом и аллантоином укрепляют дес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еханическое удаление налета с использованием абразива и дигидрата дикальция фосфата препятствует образованию нал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изкий индекс абразивности </a:t>
            </a:r>
            <a:r>
              <a:rPr b="1" lang="de-CH" sz="2000" spc="-1" strike="noStrike">
                <a:solidFill>
                  <a:srgbClr val="000099"/>
                </a:solidFill>
                <a:latin typeface="Arial"/>
              </a:rPr>
              <a:t>RDA </a:t>
            </a:r>
            <a:r>
              <a:rPr b="1" lang="de-CH" sz="2000" spc="-1" strike="noStrike">
                <a:solidFill>
                  <a:srgbClr val="000099"/>
                </a:solidFill>
                <a:latin typeface="Arial"/>
                <a:ea typeface="Arial"/>
              </a:rPr>
              <a:t>≈25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обеспечивают особенно щадящую чист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3583080" y="76320"/>
          <a:ext cx="5560920" cy="98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3080" y="76320"/>
                    <a:ext cx="556092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6"/>
          <p:cNvSpPr/>
          <p:nvPr/>
        </p:nvSpPr>
        <p:spPr>
          <a:xfrm>
            <a:off x="1330920" y="914400"/>
            <a:ext cx="5430960" cy="390960"/>
          </a:xfrm>
          <a:prstGeom prst="rect">
            <a:avLst/>
          </a:prstGeom>
          <a:solidFill>
            <a:srgbClr val="ffd7eb"/>
          </a:solidFill>
          <a:ln w="0">
            <a:noFill/>
          </a:ln>
          <a:effectLst>
            <a:outerShdw dist="17819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Century Gothic"/>
              </a:rPr>
              <a:t>Укрепляет чувствительные десн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031105_zp_active_tube_steht"/>
          <p:cNvPicPr/>
          <p:nvPr/>
        </p:nvPicPr>
        <p:blipFill>
          <a:blip r:embed="rId4"/>
          <a:stretch/>
        </p:blipFill>
        <p:spPr>
          <a:xfrm>
            <a:off x="893880" y="2016000"/>
            <a:ext cx="159048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693960" y="2090880"/>
            <a:ext cx="5172120" cy="3466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HelveticaCyr-Upright"/>
              </a:rPr>
              <a:t>TRISA Clinical WHITE - зубная паста для здоровья и натуральной белизны Ваших зу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Обеспечивает щадящую и одновременно эффективную чистку благодаря особой формуле с микрокристал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HelveticaCyr-Upright"/>
              </a:rPr>
              <a:t>TRISA Clinical WHITE предотвращает возникновение кариеса, образование налета и зубного кам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Действие подтверждено результатами клинических испыт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13"/>
          <p:cNvGraphicFramePr/>
          <p:nvPr/>
        </p:nvGraphicFramePr>
        <p:xfrm>
          <a:off x="3505320" y="61920"/>
          <a:ext cx="559908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61920"/>
                    <a:ext cx="55990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15"/>
          <p:cNvSpPr/>
          <p:nvPr/>
        </p:nvSpPr>
        <p:spPr>
          <a:xfrm>
            <a:off x="609480" y="1220400"/>
            <a:ext cx="8153640" cy="408960"/>
          </a:xfrm>
          <a:prstGeom prst="rect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17819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i="1" lang="ru-RU" sz="2300" spc="-1" strike="noStrike">
                <a:solidFill>
                  <a:srgbClr val="3365fb"/>
                </a:solidFill>
                <a:latin typeface="Century Gothic"/>
              </a:rPr>
              <a:t>Здоровье и естественная белизна Ваших зуб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6" descr="031105_zp_white_tube_steht"/>
          <p:cNvPicPr/>
          <p:nvPr/>
        </p:nvPicPr>
        <p:blipFill>
          <a:blip r:embed="rId4"/>
          <a:stretch/>
        </p:blipFill>
        <p:spPr>
          <a:xfrm>
            <a:off x="1042920" y="1944720"/>
            <a:ext cx="1590840" cy="3860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203640" y="2090880"/>
            <a:ext cx="5662440" cy="3475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еханическое удаление налета с использованием абразива диоксида кремния гидратированного дополняемое действием фторида натрия защищает от кари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разованию налета препятствуют хлорид цинка, цетилпиридиниума хлорид и домифена броми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трасодиум пирофосфат и дисодиум пирофосфат препятствуют возникновению зубного кам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5"/>
          <p:cNvGraphicFramePr/>
          <p:nvPr/>
        </p:nvGraphicFramePr>
        <p:xfrm>
          <a:off x="3505320" y="61920"/>
          <a:ext cx="559908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61920"/>
                    <a:ext cx="55990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6"/>
          <p:cNvSpPr/>
          <p:nvPr/>
        </p:nvSpPr>
        <p:spPr>
          <a:xfrm>
            <a:off x="609480" y="1220400"/>
            <a:ext cx="8153640" cy="408960"/>
          </a:xfrm>
          <a:prstGeom prst="rect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17819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i="1" lang="ru-RU" sz="2300" spc="-1" strike="noStrike">
                <a:solidFill>
                  <a:srgbClr val="3365fb"/>
                </a:solidFill>
                <a:latin typeface="Century Gothic"/>
              </a:rPr>
              <a:t>Здоровье и естественная белизна Ваших зуб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031105_zp_white_tube_steht"/>
          <p:cNvPicPr/>
          <p:nvPr/>
        </p:nvPicPr>
        <p:blipFill>
          <a:blip r:embed="rId4"/>
          <a:stretch/>
        </p:blipFill>
        <p:spPr>
          <a:xfrm>
            <a:off x="1042920" y="1944720"/>
            <a:ext cx="159084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201840" y="1628640"/>
            <a:ext cx="5788080" cy="465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marL="401760" indent="-401760">
              <a:lnSpc>
                <a:spcPct val="90000"/>
              </a:lnSpc>
              <a:spcBef>
                <a:spcPts val="1063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Зубная паста TRISA Clinical CARE 6 в 1 с зелеными полосками обеспечивает комплексную защиту - результат уникального сочетания высокоэффективных активных компонентов и фтор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063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TRISA Clinical CARE 6 в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1.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Times New Roman"/>
              </a:rPr>
              <a:t>     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укрепляет эмал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2.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Times New Roman"/>
              </a:rPr>
              <a:t>     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предотвращает возникновение кариес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3.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Times New Roman"/>
              </a:rPr>
              <a:t>     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укрепляет десн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4.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Times New Roman"/>
              </a:rPr>
              <a:t>     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удаляет нале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5.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Times New Roman"/>
              </a:rPr>
              <a:t>     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предотвращает образование зубного камн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6.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Times New Roman"/>
              </a:rPr>
              <a:t>     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дарит Вам длительное ощущение чистоты и свежест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063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  <a:ea typeface="HelveticaCyr-Upright"/>
              </a:rPr>
              <a:t>Действие подтверждено результатами клинических испыта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14"/>
          <p:cNvGraphicFramePr/>
          <p:nvPr/>
        </p:nvGraphicFramePr>
        <p:xfrm>
          <a:off x="3505320" y="25560"/>
          <a:ext cx="5610240" cy="102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5560"/>
                    <a:ext cx="561024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16"/>
          <p:cNvSpPr/>
          <p:nvPr/>
        </p:nvSpPr>
        <p:spPr>
          <a:xfrm>
            <a:off x="1206360" y="914400"/>
            <a:ext cx="5234400" cy="390960"/>
          </a:xfrm>
          <a:prstGeom prst="rect">
            <a:avLst/>
          </a:prstGeom>
          <a:solidFill>
            <a:srgbClr val="9bffd4"/>
          </a:solidFill>
          <a:ln w="0">
            <a:noFill/>
          </a:ln>
          <a:effectLst>
            <a:outerShdw dist="17819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Century Gothic"/>
              </a:rPr>
              <a:t>6-ти ступенчатая защита и ухо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7" descr="031105_zp_care6i1_tube_steh"/>
          <p:cNvPicPr/>
          <p:nvPr/>
        </p:nvPicPr>
        <p:blipFill>
          <a:blip r:embed="rId4"/>
          <a:stretch/>
        </p:blipFill>
        <p:spPr>
          <a:xfrm>
            <a:off x="755640" y="1944720"/>
            <a:ext cx="1590840" cy="3860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763640" y="981000"/>
            <a:ext cx="7226280" cy="538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Фторид натрия, натрия монофторфосфат и дикальция фосфат реминерализуют эма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мимо механического удаления налета с использованием абразива диоксида кремния гидратированного (силика), происходит антибактериальное удаление налета с помощью лактата цинка, цетилперидиниума хлорида и домифен бром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ряду с механическим и антибактериальным удалением налета, защите от кариеса способствует использование фторида нат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нтибактериальные вещества в сочетании с пантенолом (провитамин В5) и ацетатом токоперила укрепляют дес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трасодиум пирофосфат и дисодиум пирофосфат препятствуют возникновению зубного кам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тдушка и натрия сахарин обеспечивают чистое дыхание длительное ощущение свеж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3505320" y="25560"/>
          <a:ext cx="5610240" cy="102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5560"/>
                    <a:ext cx="561024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6"/>
          <p:cNvSpPr/>
          <p:nvPr/>
        </p:nvSpPr>
        <p:spPr>
          <a:xfrm>
            <a:off x="352440" y="476280"/>
            <a:ext cx="5234400" cy="390960"/>
          </a:xfrm>
          <a:prstGeom prst="rect">
            <a:avLst/>
          </a:prstGeom>
          <a:solidFill>
            <a:srgbClr val="9bffd4"/>
          </a:solidFill>
          <a:ln w="0">
            <a:noFill/>
          </a:ln>
          <a:effectLst>
            <a:outerShdw dist="17819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Century Gothic"/>
              </a:rPr>
              <a:t>6-ти ступенчатая защита и ухо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031105_zp_care6i1_tube_steh"/>
          <p:cNvPicPr/>
          <p:nvPr/>
        </p:nvPicPr>
        <p:blipFill>
          <a:blip r:embed="rId4"/>
          <a:stretch/>
        </p:blipFill>
        <p:spPr>
          <a:xfrm>
            <a:off x="108000" y="1944720"/>
            <a:ext cx="15904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1T15:25:00Z</dcterms:created>
  <dc:creator>TRISA</dc:creator>
  <dc:description/>
  <cp:keywords/>
  <dc:language>en-US</dc:language>
  <cp:lastModifiedBy>kolomiets</cp:lastModifiedBy>
  <cp:lastPrinted>2002-01-08T09:34:28Z</cp:lastPrinted>
  <dcterms:modified xsi:type="dcterms:W3CDTF">2010-08-20T09:54:58Z</dcterms:modified>
  <cp:revision>177</cp:revision>
  <dc:subject>Trisa Clinical Toothpaste</dc:subject>
  <dc:title>Presentation Sales and Marketing Seminar Russia 2004</dc:title>
</cp:coreProperties>
</file>