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14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092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2"/>
          </p:nvPr>
        </p:nvSpPr>
        <p:spPr>
          <a:xfrm>
            <a:off x="-1440" y="9450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3"/>
          </p:nvPr>
        </p:nvSpPr>
        <p:spPr>
          <a:xfrm>
            <a:off x="3850920" y="9450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59F97762-3DAD-45E8-B6A3-D891DD622B3B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Img"/>
          </p:nvPr>
        </p:nvSpPr>
        <p:spPr>
          <a:xfrm>
            <a:off x="1870200" y="252360"/>
            <a:ext cx="276840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valon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065920" y="301680"/>
            <a:ext cx="8175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7944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Dokument: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L-mi484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944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Ausgabe: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944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Seite: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fld id="{A89B2708-076B-4FBC-B9A7-FE5CE85411BA}" type="slidenum">
              <a:rPr b="0" lang="de-DE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AC752708-098C-4F35-B289-FE5B262E5258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874880" y="258840"/>
            <a:ext cx="2752560" cy="206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FED10B8D-D0C0-4B53-AC57-9D76FD215DC8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874880" y="258840"/>
            <a:ext cx="2752560" cy="206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9A8748C8-AA55-4E18-8B2B-6E7AC876C893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EFB17AB6-2C44-4C01-B711-AD9976D2082A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142D6662-B3A7-4D8C-A43C-200A95EEBF09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A10E5C88-906F-4A4A-AB5C-00D4BDAA34EF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6635880"/>
            <a:ext cx="7383600" cy="3168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756" h="23">
                <a:moveTo>
                  <a:pt x="7" y="0"/>
                </a:moveTo>
                <a:lnTo>
                  <a:pt x="5751" y="0"/>
                </a:lnTo>
                <a:lnTo>
                  <a:pt x="5754" y="1"/>
                </a:lnTo>
                <a:lnTo>
                  <a:pt x="5755" y="1"/>
                </a:lnTo>
                <a:lnTo>
                  <a:pt x="5740" y="22"/>
                </a:lnTo>
                <a:lnTo>
                  <a:pt x="28" y="22"/>
                </a:lnTo>
                <a:lnTo>
                  <a:pt x="21" y="22"/>
                </a:lnTo>
                <a:lnTo>
                  <a:pt x="12" y="22"/>
                </a:lnTo>
                <a:lnTo>
                  <a:pt x="5" y="22"/>
                </a:lnTo>
                <a:lnTo>
                  <a:pt x="1" y="22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5" y="0"/>
                </a:lnTo>
                <a:lnTo>
                  <a:pt x="7" y="0"/>
                </a:lnTo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40840" y="6399360"/>
            <a:ext cx="8883720" cy="442440"/>
            <a:chOff x="240840" y="6399360"/>
            <a:chExt cx="8883720" cy="442440"/>
          </a:xfrm>
        </p:grpSpPr>
        <p:sp>
          <p:nvSpPr>
            <p:cNvPr id="2" name="Freeform 4"/>
            <p:cNvSpPr/>
            <p:nvPr/>
          </p:nvSpPr>
          <p:spPr>
            <a:xfrm>
              <a:off x="7363440" y="6399360"/>
              <a:ext cx="486000" cy="26964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79" h="198">
                  <a:moveTo>
                    <a:pt x="17" y="0"/>
                  </a:moveTo>
                  <a:lnTo>
                    <a:pt x="378" y="0"/>
                  </a:lnTo>
                  <a:lnTo>
                    <a:pt x="363" y="30"/>
                  </a:lnTo>
                  <a:lnTo>
                    <a:pt x="260" y="30"/>
                  </a:lnTo>
                  <a:lnTo>
                    <a:pt x="165" y="195"/>
                  </a:lnTo>
                  <a:lnTo>
                    <a:pt x="83" y="197"/>
                  </a:lnTo>
                  <a:lnTo>
                    <a:pt x="178" y="32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197200" y="6399360"/>
              <a:ext cx="120600" cy="30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94" h="23">
                  <a:moveTo>
                    <a:pt x="18" y="0"/>
                  </a:moveTo>
                  <a:lnTo>
                    <a:pt x="93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691760" y="6467040"/>
              <a:ext cx="443520" cy="201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46" h="148">
                  <a:moveTo>
                    <a:pt x="91" y="0"/>
                  </a:moveTo>
                  <a:lnTo>
                    <a:pt x="345" y="0"/>
                  </a:lnTo>
                  <a:lnTo>
                    <a:pt x="290" y="94"/>
                  </a:lnTo>
                  <a:lnTo>
                    <a:pt x="209" y="94"/>
                  </a:lnTo>
                  <a:lnTo>
                    <a:pt x="243" y="33"/>
                  </a:lnTo>
                  <a:lnTo>
                    <a:pt x="153" y="33"/>
                  </a:lnTo>
                  <a:lnTo>
                    <a:pt x="84" y="147"/>
                  </a:lnTo>
                  <a:lnTo>
                    <a:pt x="0" y="147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064000" y="6467040"/>
              <a:ext cx="212760" cy="201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66" h="148">
                  <a:moveTo>
                    <a:pt x="89" y="0"/>
                  </a:moveTo>
                  <a:lnTo>
                    <a:pt x="165" y="0"/>
                  </a:lnTo>
                  <a:lnTo>
                    <a:pt x="80" y="147"/>
                  </a:lnTo>
                  <a:lnTo>
                    <a:pt x="0" y="147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215200" y="6467040"/>
              <a:ext cx="442440" cy="2016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45" h="148">
                  <a:moveTo>
                    <a:pt x="90" y="0"/>
                  </a:moveTo>
                  <a:lnTo>
                    <a:pt x="344" y="0"/>
                  </a:lnTo>
                  <a:lnTo>
                    <a:pt x="327" y="32"/>
                  </a:lnTo>
                  <a:lnTo>
                    <a:pt x="150" y="31"/>
                  </a:lnTo>
                  <a:lnTo>
                    <a:pt x="147" y="37"/>
                  </a:lnTo>
                  <a:lnTo>
                    <a:pt x="143" y="42"/>
                  </a:lnTo>
                  <a:lnTo>
                    <a:pt x="141" y="50"/>
                  </a:lnTo>
                  <a:lnTo>
                    <a:pt x="140" y="56"/>
                  </a:lnTo>
                  <a:lnTo>
                    <a:pt x="309" y="57"/>
                  </a:lnTo>
                  <a:lnTo>
                    <a:pt x="257" y="147"/>
                  </a:lnTo>
                  <a:lnTo>
                    <a:pt x="0" y="147"/>
                  </a:lnTo>
                  <a:lnTo>
                    <a:pt x="22" y="115"/>
                  </a:lnTo>
                  <a:lnTo>
                    <a:pt x="189" y="115"/>
                  </a:lnTo>
                  <a:lnTo>
                    <a:pt x="205" y="92"/>
                  </a:lnTo>
                  <a:lnTo>
                    <a:pt x="34" y="92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0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596440" y="6467040"/>
              <a:ext cx="444960" cy="2016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47" h="148">
                  <a:moveTo>
                    <a:pt x="90" y="0"/>
                  </a:moveTo>
                  <a:lnTo>
                    <a:pt x="346" y="0"/>
                  </a:lnTo>
                  <a:lnTo>
                    <a:pt x="256" y="147"/>
                  </a:lnTo>
                  <a:lnTo>
                    <a:pt x="0" y="147"/>
                  </a:lnTo>
                  <a:lnTo>
                    <a:pt x="53" y="58"/>
                  </a:lnTo>
                  <a:lnTo>
                    <a:pt x="228" y="57"/>
                  </a:lnTo>
                  <a:lnTo>
                    <a:pt x="232" y="52"/>
                  </a:lnTo>
                  <a:lnTo>
                    <a:pt x="237" y="46"/>
                  </a:lnTo>
                  <a:lnTo>
                    <a:pt x="242" y="39"/>
                  </a:lnTo>
                  <a:lnTo>
                    <a:pt x="244" y="33"/>
                  </a:lnTo>
                  <a:lnTo>
                    <a:pt x="69" y="33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0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31080" y="6602040"/>
              <a:ext cx="117720" cy="230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2" h="17">
                  <a:moveTo>
                    <a:pt x="13" y="0"/>
                  </a:moveTo>
                  <a:lnTo>
                    <a:pt x="91" y="0"/>
                  </a:lnTo>
                  <a:lnTo>
                    <a:pt x="91" y="3"/>
                  </a:lnTo>
                  <a:lnTo>
                    <a:pt x="89" y="6"/>
                  </a:lnTo>
                  <a:lnTo>
                    <a:pt x="86" y="11"/>
                  </a:lnTo>
                  <a:lnTo>
                    <a:pt x="83" y="16"/>
                  </a:lnTo>
                  <a:lnTo>
                    <a:pt x="0" y="16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40840" y="6494760"/>
              <a:ext cx="2014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54200"/>
                  <a:tab algn="l" pos="1508040"/>
                  <a:tab algn="l" pos="226224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Ottawa"/>
                </a:rPr>
                <a:t>BÜRSTEN - BROSSES - BRUSH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5875920" y="6601320"/>
              <a:ext cx="68472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54200"/>
                  <a:tab algn="l" pos="1508040"/>
                  <a:tab algn="l" pos="226224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Ottawa"/>
                </a:rPr>
                <a:t>SINCE 188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348680" y="6704640"/>
              <a:ext cx="1627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54200"/>
                  <a:tab algn="l" pos="1508040"/>
                  <a:tab algn="l" pos="226224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Ottawa"/>
                </a:rPr>
                <a:t>O F   S W I T Z E R L A N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" name="Object 14"/>
            <p:cNvGraphicFramePr/>
            <p:nvPr/>
          </p:nvGraphicFramePr>
          <p:xfrm>
            <a:off x="9060840" y="6530040"/>
            <a:ext cx="63720" cy="69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" name="Object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060840" y="6530040"/>
                      <a:ext cx="63720" cy="6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" name="Rectangle 15"/>
          <p:cNvSpPr/>
          <p:nvPr/>
        </p:nvSpPr>
        <p:spPr>
          <a:xfrm>
            <a:off x="1952640" y="1789200"/>
            <a:ext cx="523872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 Box 5" descr=""/>
          <p:cNvPicPr/>
          <p:nvPr/>
        </p:nvPicPr>
        <p:blipFill>
          <a:blip r:embed="rId1"/>
          <a:stretch/>
        </p:blipFill>
        <p:spPr>
          <a:xfrm>
            <a:off x="676440" y="328680"/>
            <a:ext cx="7729200" cy="744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003640" y="1844640"/>
            <a:ext cx="3835440" cy="433512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Зубная паста TRISA Clinical – это швейцарская продукция высочайшего качества, разработанная в сотрудничестве со швейцарскими университетами, имеющими самую высокую репутацию в области профилактической зубной медицины. Действие зубных паст TRISA Clinical подтверждено результатами клинических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031105_zp_5sorten_stehend"/>
          <p:cNvPicPr/>
          <p:nvPr/>
        </p:nvPicPr>
        <p:blipFill>
          <a:blip r:embed="rId2"/>
          <a:stretch/>
        </p:blipFill>
        <p:spPr>
          <a:xfrm>
            <a:off x="34920" y="2565360"/>
            <a:ext cx="3816360" cy="259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linical Sensitive"/>
          <p:cNvPicPr/>
          <p:nvPr/>
        </p:nvPicPr>
        <p:blipFill>
          <a:blip r:embed="rId3"/>
          <a:stretch/>
        </p:blipFill>
        <p:spPr>
          <a:xfrm>
            <a:off x="3492360" y="2492280"/>
            <a:ext cx="10083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"/>
          <p:cNvGrpSpPr/>
          <p:nvPr/>
        </p:nvGrpSpPr>
        <p:grpSpPr>
          <a:xfrm>
            <a:off x="1908000" y="189000"/>
            <a:ext cx="7170840" cy="922320"/>
            <a:chOff x="1908000" y="189000"/>
            <a:chExt cx="7170840" cy="922320"/>
          </a:xfrm>
        </p:grpSpPr>
        <p:pic>
          <p:nvPicPr>
            <p:cNvPr id="104" name="Picture 4" descr=""/>
            <p:cNvPicPr/>
            <p:nvPr/>
          </p:nvPicPr>
          <p:blipFill>
            <a:blip r:embed="rId1"/>
            <a:stretch/>
          </p:blipFill>
          <p:spPr>
            <a:xfrm>
              <a:off x="1908000" y="189000"/>
              <a:ext cx="71708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"/>
            <p:cNvPicPr/>
            <p:nvPr/>
          </p:nvPicPr>
          <p:blipFill>
            <a:blip r:embed="rId2"/>
            <a:stretch/>
          </p:blipFill>
          <p:spPr>
            <a:xfrm>
              <a:off x="6645240" y="549360"/>
              <a:ext cx="239076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7"/>
          <p:cNvSpPr/>
          <p:nvPr/>
        </p:nvSpPr>
        <p:spPr>
          <a:xfrm>
            <a:off x="2916360" y="1731960"/>
            <a:ext cx="6075360" cy="407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уб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аста «ТРИЗА Клиникл Херб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 образование бактериального налета и заболевания де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четание активных компонентов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лексом лечебных трав, в 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торого входят ромашка, шалфей, мирра и м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крепляет эм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 возникновение кари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ние зубного на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 образование зубного кам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крепляет десн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йствие подтверждено результатами клинически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381680" y="914400"/>
            <a:ext cx="4553280" cy="3909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 комплексом лечебных тра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031105_zp_herbal_tube_steht"/>
          <p:cNvPicPr/>
          <p:nvPr/>
        </p:nvPicPr>
        <p:blipFill>
          <a:blip r:embed="rId4"/>
          <a:stretch/>
        </p:blipFill>
        <p:spPr>
          <a:xfrm>
            <a:off x="820800" y="2016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1908000" y="404640"/>
            <a:ext cx="7170840" cy="922320"/>
            <a:chOff x="1908000" y="404640"/>
            <a:chExt cx="7170840" cy="922320"/>
          </a:xfrm>
        </p:grpSpPr>
        <p:pic>
          <p:nvPicPr>
            <p:cNvPr id="110" name="Picture 5" descr=""/>
            <p:cNvPicPr/>
            <p:nvPr/>
          </p:nvPicPr>
          <p:blipFill>
            <a:blip r:embed="rId1"/>
            <a:stretch/>
          </p:blipFill>
          <p:spPr>
            <a:xfrm>
              <a:off x="1908000" y="404640"/>
              <a:ext cx="71708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"/>
            <p:cNvPicPr/>
            <p:nvPr/>
          </p:nvPicPr>
          <p:blipFill>
            <a:blip r:embed="rId2"/>
            <a:stretch/>
          </p:blipFill>
          <p:spPr>
            <a:xfrm>
              <a:off x="6645240" y="765000"/>
              <a:ext cx="239076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7"/>
          <p:cNvSpPr/>
          <p:nvPr/>
        </p:nvSpPr>
        <p:spPr>
          <a:xfrm>
            <a:off x="2987640" y="1947960"/>
            <a:ext cx="6075360" cy="398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торид натрия реминерализует эмаль и защищает от кари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лорид цинка в сочетании с комплексом лечебных трав предотвращает образование бактериального нал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ханическое удаление налета с использованием абразива диоксида кремния гидратированного дополняемое антибактериальным эффектом защищает от кари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лорид цинка в сочетании с комплексом лечебных трав предотвращает образование зубного камня и заболевания де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597680" y="1130400"/>
            <a:ext cx="4553280" cy="3909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 комплексом лечебных тра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031105_zp_herbal_tube_steht"/>
          <p:cNvPicPr/>
          <p:nvPr/>
        </p:nvPicPr>
        <p:blipFill>
          <a:blip r:embed="rId4"/>
          <a:stretch/>
        </p:blipFill>
        <p:spPr>
          <a:xfrm>
            <a:off x="1036800" y="2232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203640" y="2852640"/>
            <a:ext cx="5761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ысокоэффективные соединения фтора в комбинации с ксилитом восстанавливают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труктуру эмали, поддерживая ее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минеральный сост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едотвращает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образование зубного нал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едотвращает возникновение кариеса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едотвращает образование бактериального налета и снижает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чувствительность зубов на продолжительное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Clinical Sensitive"/>
          <p:cNvPicPr/>
          <p:nvPr/>
        </p:nvPicPr>
        <p:blipFill>
          <a:blip r:embed="rId1"/>
          <a:stretch/>
        </p:blipFill>
        <p:spPr>
          <a:xfrm>
            <a:off x="250920" y="216000"/>
            <a:ext cx="2616120" cy="630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"/>
          <p:cNvPicPr/>
          <p:nvPr/>
        </p:nvPicPr>
        <p:blipFill>
          <a:blip r:embed="rId2"/>
          <a:stretch/>
        </p:blipFill>
        <p:spPr>
          <a:xfrm>
            <a:off x="3492360" y="44280"/>
            <a:ext cx="446436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5"/>
          <p:cNvSpPr/>
          <p:nvPr/>
        </p:nvSpPr>
        <p:spPr>
          <a:xfrm>
            <a:off x="3276720" y="2349360"/>
            <a:ext cx="47512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"/>
              </a:rPr>
              <a:t>Для чувствительных зу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58920" y="549360"/>
            <a:ext cx="6589800" cy="44820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Century Gothic"/>
              </a:rPr>
              <a:t>Сводная таблиц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44280" y="1270080"/>
          <a:ext cx="8991720" cy="49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1270080"/>
                    <a:ext cx="899172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571920" y="1916280"/>
            <a:ext cx="5172120" cy="41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Зубная паста TRISA Clinical Fresh GEL - оптимальная защита от кари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Активные компоненты фтор и кальций укрепляют структуру эмали, поддерживая ее минеральный сост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Fresh GEL дарит Вам длительное ощущение чистоты и свеж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5"/>
          <p:cNvGraphicFramePr/>
          <p:nvPr/>
        </p:nvGraphicFramePr>
        <p:xfrm>
          <a:off x="3657600" y="76320"/>
          <a:ext cx="548640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76320"/>
                    <a:ext cx="54864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4"/>
          <p:cNvSpPr/>
          <p:nvPr/>
        </p:nvSpPr>
        <p:spPr>
          <a:xfrm>
            <a:off x="923760" y="1125360"/>
            <a:ext cx="6096240" cy="3909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вежее дыхание и защита от карие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031105_zp_freshgel_tub_steh"/>
          <p:cNvPicPr/>
          <p:nvPr/>
        </p:nvPicPr>
        <p:blipFill>
          <a:blip r:embed="rId4"/>
          <a:stretch/>
        </p:blipFill>
        <p:spPr>
          <a:xfrm>
            <a:off x="971640" y="2205000"/>
            <a:ext cx="1589040" cy="3861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03640" y="1916280"/>
            <a:ext cx="5540400" cy="368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онофторфосфат натрия и дикальция фосфат, реминерализуют эмаль, восстанавливая ее структуру, что повышает сопротивляемость кариес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мимо 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ктивны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компонент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в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фтор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и кальц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, защите от кариеса способствует механическое удаление налета с использованием абразива диоксида кремния гидратированного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душка и натрия сахарин обеспечивают чистое дыхание длительное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ощущение свеж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3657600" y="76320"/>
          <a:ext cx="548640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76320"/>
                    <a:ext cx="54864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6"/>
          <p:cNvSpPr/>
          <p:nvPr/>
        </p:nvSpPr>
        <p:spPr>
          <a:xfrm>
            <a:off x="923760" y="1158840"/>
            <a:ext cx="6096240" cy="3909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вежее дыхание и защита от карие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031105_zp_freshgel_tub_steh"/>
          <p:cNvPicPr/>
          <p:nvPr/>
        </p:nvPicPr>
        <p:blipFill>
          <a:blip r:embed="rId4"/>
          <a:stretch/>
        </p:blipFill>
        <p:spPr>
          <a:xfrm>
            <a:off x="971640" y="2205000"/>
            <a:ext cx="15890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987640" y="1413000"/>
            <a:ext cx="6004080" cy="494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Зубная паст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TRISA Clinical ACTIVE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редотвращает образование зубного налет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являющегося основной причиной возникновения заболеваний десен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и способствует укреплению десен бла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г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одаря активным компонентам аллантоин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бизабололу и пантенол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Обладает противовоспалительным дей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Обеспечивает очень щадящую чистк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благодаря низкой абразивност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Фтор укрепляет структуру эмал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оддерживая ее минеральный состав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что предотвращает возникновение кариес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5"/>
          <p:cNvGraphicFramePr/>
          <p:nvPr/>
        </p:nvGraphicFramePr>
        <p:xfrm>
          <a:off x="3583080" y="76320"/>
          <a:ext cx="556092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76320"/>
                    <a:ext cx="55609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12"/>
          <p:cNvSpPr/>
          <p:nvPr/>
        </p:nvSpPr>
        <p:spPr>
          <a:xfrm>
            <a:off x="1330920" y="914400"/>
            <a:ext cx="5430960" cy="390960"/>
          </a:xfrm>
          <a:prstGeom prst="rect">
            <a:avLst/>
          </a:prstGeom>
          <a:solidFill>
            <a:srgbClr val="ffd7eb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Укрепляет чувствительные дес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031105_zp_active_tube_steht"/>
          <p:cNvPicPr/>
          <p:nvPr/>
        </p:nvPicPr>
        <p:blipFill>
          <a:blip r:embed="rId4"/>
          <a:stretch/>
        </p:blipFill>
        <p:spPr>
          <a:xfrm>
            <a:off x="893880" y="2016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771640" y="1413000"/>
            <a:ext cx="6220080" cy="439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онофторфосфат натрия и дикальция фосфат, реминерализуют эмаль, восстанавливая ее структуру, что повышает сопротивляемость кари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тибактериальное вещество бромхлорофен в сочетании с пантенолом (провитамином В5), бизабололом и аллантоином укрепляют д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ханическое удаление налета с использованием абразива и дигидрата дикальция фосфата препятствует образованию на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изкий индекс абразивности </a:t>
            </a:r>
            <a:r>
              <a:rPr b="1" lang="de-CH" sz="2000" spc="-1" strike="noStrike">
                <a:solidFill>
                  <a:srgbClr val="000099"/>
                </a:solidFill>
                <a:latin typeface="Arial"/>
              </a:rPr>
              <a:t>RDA </a:t>
            </a:r>
            <a:r>
              <a:rPr b="1" lang="de-CH" sz="2000" spc="-1" strike="noStrike">
                <a:solidFill>
                  <a:srgbClr val="000099"/>
                </a:solidFill>
                <a:latin typeface="Arial"/>
                <a:ea typeface="Arial"/>
              </a:rPr>
              <a:t>≈25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обеспечивают особенно щадящую чис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3583080" y="76320"/>
          <a:ext cx="556092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76320"/>
                    <a:ext cx="55609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6"/>
          <p:cNvSpPr/>
          <p:nvPr/>
        </p:nvSpPr>
        <p:spPr>
          <a:xfrm>
            <a:off x="1330920" y="914400"/>
            <a:ext cx="5430960" cy="390960"/>
          </a:xfrm>
          <a:prstGeom prst="rect">
            <a:avLst/>
          </a:prstGeom>
          <a:solidFill>
            <a:srgbClr val="ffd7eb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Укрепляет чувствительные дес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031105_zp_active_tube_steht"/>
          <p:cNvPicPr/>
          <p:nvPr/>
        </p:nvPicPr>
        <p:blipFill>
          <a:blip r:embed="rId4"/>
          <a:stretch/>
        </p:blipFill>
        <p:spPr>
          <a:xfrm>
            <a:off x="893880" y="2016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693960" y="2090880"/>
            <a:ext cx="5172120" cy="346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WHITE - зубная паста для здоровья и натуральной белизны Ваших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Обеспечивает щадящую и одновременно эффективную чистку благодаря особой формуле с микрокристал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WHITE предотвращает возникновение кариеса, образование налета и зубного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3"/>
          <p:cNvGraphicFramePr/>
          <p:nvPr/>
        </p:nvGraphicFramePr>
        <p:xfrm>
          <a:off x="3505320" y="61920"/>
          <a:ext cx="55990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61920"/>
                    <a:ext cx="5599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5"/>
          <p:cNvSpPr/>
          <p:nvPr/>
        </p:nvSpPr>
        <p:spPr>
          <a:xfrm>
            <a:off x="609480" y="1220400"/>
            <a:ext cx="8153640" cy="40896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i="1" lang="ru-RU" sz="2300" spc="-1" strike="noStrike">
                <a:solidFill>
                  <a:srgbClr val="3365fb"/>
                </a:solidFill>
                <a:latin typeface="Century Gothic"/>
              </a:rPr>
              <a:t>Здоровье и естественная белизна Ваших зуб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031105_zp_white_tube_steht"/>
          <p:cNvPicPr/>
          <p:nvPr/>
        </p:nvPicPr>
        <p:blipFill>
          <a:blip r:embed="rId4"/>
          <a:stretch/>
        </p:blipFill>
        <p:spPr>
          <a:xfrm>
            <a:off x="1042920" y="1944720"/>
            <a:ext cx="159084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03640" y="2090880"/>
            <a:ext cx="5662440" cy="347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ханическое удаление налета с использованием абразива диоксида кремния гидратированного дополняемое действием фторида натрия защищает от кари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нию налета препятствуют хлорид цинка, цетилпиридиниума хлорид и домифена бром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трасодиум пирофосфат и дисодиум пирофосфат препятствуют возникновению зубного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3505320" y="61920"/>
          <a:ext cx="55990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61920"/>
                    <a:ext cx="5599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6"/>
          <p:cNvSpPr/>
          <p:nvPr/>
        </p:nvSpPr>
        <p:spPr>
          <a:xfrm>
            <a:off x="609480" y="1220400"/>
            <a:ext cx="8153640" cy="40896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i="1" lang="ru-RU" sz="2300" spc="-1" strike="noStrike">
                <a:solidFill>
                  <a:srgbClr val="3365fb"/>
                </a:solidFill>
                <a:latin typeface="Century Gothic"/>
              </a:rPr>
              <a:t>Здоровье и естественная белизна Ваших зуб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031105_zp_white_tube_steht"/>
          <p:cNvPicPr/>
          <p:nvPr/>
        </p:nvPicPr>
        <p:blipFill>
          <a:blip r:embed="rId4"/>
          <a:stretch/>
        </p:blipFill>
        <p:spPr>
          <a:xfrm>
            <a:off x="1042920" y="1944720"/>
            <a:ext cx="15908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01840" y="1628640"/>
            <a:ext cx="5788080" cy="465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Зубная паста TRISA Clinical CARE 6 в 1 с зелеными полосками обеспечивает комплексную защиту - результат уникального сочетания высокоэффективных активных компонентов и фтор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CARE 6 в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1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укрепляет эма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2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редотвращает возникновение карие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3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укрепляет десн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4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удаляет нал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5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редотвращает образование зубного кам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6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арит Вам длительное ощущение чистоты и свеже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14"/>
          <p:cNvGraphicFramePr/>
          <p:nvPr/>
        </p:nvGraphicFramePr>
        <p:xfrm>
          <a:off x="3505320" y="25560"/>
          <a:ext cx="561024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560"/>
                    <a:ext cx="56102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6"/>
          <p:cNvSpPr/>
          <p:nvPr/>
        </p:nvSpPr>
        <p:spPr>
          <a:xfrm>
            <a:off x="1206360" y="914400"/>
            <a:ext cx="5234400" cy="390960"/>
          </a:xfrm>
          <a:prstGeom prst="rect">
            <a:avLst/>
          </a:prstGeom>
          <a:solidFill>
            <a:srgbClr val="9bffd4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6-ти ступенчатая защита и ухо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031105_zp_care6i1_tube_steh"/>
          <p:cNvPicPr/>
          <p:nvPr/>
        </p:nvPicPr>
        <p:blipFill>
          <a:blip r:embed="rId4"/>
          <a:stretch/>
        </p:blipFill>
        <p:spPr>
          <a:xfrm>
            <a:off x="755640" y="1944720"/>
            <a:ext cx="159084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763640" y="981000"/>
            <a:ext cx="7226280" cy="538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торид натрия, натрия монофторфосфат и дикальция фосфат реминерализуют эма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мимо механического удаления налета с использованием абразива диоксида кремния гидратированного (силика), происходит антибактериальное удаление налета с помощью лактата цинка, цетилперидиниума хлорида и домифен бром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ряду с механическим и антибактериальным удалением налета, защите от кариеса способствует использование фторида на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нтибактериальные вещества в сочетании с пантенолом (провитамин В5) и ацетатом токоперила укрепляют де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трасодиум пирофосфат и дисодиум пирофосфат препятствуют возникновению зубного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душка и натрия сахарин обеспечивают чистое дыхание длительное ощущение све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3505320" y="25560"/>
          <a:ext cx="561024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560"/>
                    <a:ext cx="56102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6"/>
          <p:cNvSpPr/>
          <p:nvPr/>
        </p:nvSpPr>
        <p:spPr>
          <a:xfrm>
            <a:off x="352440" y="476280"/>
            <a:ext cx="5234400" cy="390960"/>
          </a:xfrm>
          <a:prstGeom prst="rect">
            <a:avLst/>
          </a:prstGeom>
          <a:solidFill>
            <a:srgbClr val="9bffd4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6-ти ступенчатая защита и ухо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031105_zp_care6i1_tube_steh"/>
          <p:cNvPicPr/>
          <p:nvPr/>
        </p:nvPicPr>
        <p:blipFill>
          <a:blip r:embed="rId4"/>
          <a:stretch/>
        </p:blipFill>
        <p:spPr>
          <a:xfrm>
            <a:off x="108000" y="1944720"/>
            <a:ext cx="15904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15:25:00Z</dcterms:created>
  <dc:creator>TRISA</dc:creator>
  <dc:description/>
  <cp:keywords/>
  <dc:language>en-US</dc:language>
  <cp:lastModifiedBy>kolomiets</cp:lastModifiedBy>
  <cp:lastPrinted>2002-01-08T09:34:28Z</cp:lastPrinted>
  <dcterms:modified xsi:type="dcterms:W3CDTF">2010-08-20T09:54:58Z</dcterms:modified>
  <cp:revision>177</cp:revision>
  <dc:subject>Trisa Clinical Toothpaste</dc:subject>
  <dc:title>Presentation Sales and Marketing Seminar Russia 2004</dc:title>
</cp:coreProperties>
</file>