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DF3-8E69-40CC-85B5-EE3C1046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63E-2216-4E3E-B812-EAC25AF0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486-B1A1-459D-B2D2-56C2C9BA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6E3-B053-48C9-84BE-64B6F09A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68E-7F01-4599-B090-D855CC9C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BED-AFE2-4AE7-8539-60BFEA3B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F84-87AD-447E-8D86-92394FD0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D7C-0180-4761-94D6-18E3B07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B78-DF04-41A5-9448-9F9033F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E47-3579-435B-B392-9281635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F91-36D4-4D63-ACAC-B509816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3E4-5067-4B18-8D94-B7714FC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8601-3720-4062-A6C2-74E1BFBA2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63520"/>
            <a:ext cx="9144000" cy="633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3:04:29Z</dcterms:created>
  <dc:creator>Коломиец</dc:creator>
  <dc:description/>
  <dc:language>en-US</dc:language>
  <cp:lastModifiedBy>kolomiets</cp:lastModifiedBy>
  <dcterms:modified xsi:type="dcterms:W3CDTF">2010-09-29T08:41:16Z</dcterms:modified>
  <cp:revision>2</cp:revision>
  <dc:subject/>
  <dc:title>Фотоальбом</dc:title>
</cp:coreProperties>
</file>