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7445-1628-4C8D-8845-7FDEA46B1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988E-A8ED-4B4C-A273-5E540387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5980-5CB6-40C8-B290-22663C03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4382-5044-420D-B508-EBF04079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414E-DAC7-4165-AF09-D46E70E0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20A-F4AE-43B1-9968-6EB32406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6092-B76D-4C6F-9241-5DADC795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0117-A9F1-41BB-A4BF-A89853D9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246F-2E5F-4EAC-8492-79F935CA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BDF0-23D4-4776-8F52-B8A647B6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FC3D-C3A6-4B3A-97D7-7922EB69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6EC7-DA97-42AF-8820-A454AE85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631F-76A3-491B-8BD1-2A662D1FEB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3:04:29Z</dcterms:created>
  <dc:creator>Коломиец</dc:creator>
  <dc:description/>
  <dc:language>en-US</dc:language>
  <cp:lastModifiedBy>kolomiets</cp:lastModifiedBy>
  <dcterms:modified xsi:type="dcterms:W3CDTF">2010-09-29T08:41:16Z</dcterms:modified>
  <cp:revision>2</cp:revision>
  <dc:subject/>
  <dc:title>Фотоальбом</dc:title>
</cp:coreProperties>
</file>