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7.png" ContentType="image/png"/>
  <Override PartName="/ppt/media/image15.wmf" ContentType="image/x-wmf"/>
  <Override PartName="/ppt/media/image14.jpeg" ContentType="image/jpeg"/>
  <Override PartName="/ppt/media/image2.wmf" ContentType="image/x-wmf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D728-1A07-4EFA-AF3C-6C1EDFFBEA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1FCF-BB1F-4ADE-8B87-26C2AB0B84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D211-819D-493C-A221-12D0F4189A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E3F3-43C1-4C01-9593-6E323762CF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1077-61B8-4561-BF41-2B600FB1F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5B8B-C941-4D51-A993-0F68EC6B74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176D-B387-4D89-B911-638A846BF9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8941-5D69-4AC6-971B-4485EE6AC8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19A-27BD-4754-B2FD-CD65B4E0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B67-04A1-4380-85E3-9477A0E5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4CD-F570-43D7-96B9-12D15DCE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784-9873-4049-AED9-E69A7640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5DB-8EAF-4EBD-A841-86E1F0D6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9D6-0506-42C3-9A45-F976F0AE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3C2-A484-4481-9715-B9F0716B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A0F-4CCC-452B-A62C-31080D4A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F0C-2A17-4923-8564-5A357F4A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C86-E1E7-4FFB-8890-764E1FBB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FEE-91EB-41D0-B36D-E6C3FDB2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F0E-BA84-4ED9-AE2C-3B2F478A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DF53-86F6-4FFA-96F9-7BF1075B3B3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«Русская Косметика», ул. Вокзальная, 53, г. Одинцово, Московская обл., Россия 143005. Тел. +7 (495) 981-92-00,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45EC-46E4-4FA0-B19A-C608CEB63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118f"/>
                </a:solidFill>
                <a:latin typeface="Calibri"/>
              </a:rPr>
              <a:t>Часто обычное моющее средство не в состоянии вернуть чистоту рукам после работы в гараже, на даче, с химическими загрязнителями, после чистки ры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4051080" cy="269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W:\--Азбука чистоты--\Мыло для грязных рук\Финал\Картинки рук\hands460x276.jpg"/>
          <p:cNvPicPr/>
          <p:nvPr/>
        </p:nvPicPr>
        <p:blipFill>
          <a:blip r:embed="rId3"/>
          <a:stretch/>
        </p:blipFill>
        <p:spPr>
          <a:xfrm>
            <a:off x="4140360" y="3333600"/>
            <a:ext cx="4421160" cy="265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4633920" y="981000"/>
            <a:ext cx="3927600" cy="25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5"/>
          <a:stretch/>
        </p:blipFill>
        <p:spPr>
          <a:xfrm>
            <a:off x="611280" y="359892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1" descr=""/>
          <p:cNvPicPr/>
          <p:nvPr/>
        </p:nvPicPr>
        <p:blipFill>
          <a:blip r:embed="rId6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"/>
          <p:cNvPicPr/>
          <p:nvPr/>
        </p:nvPicPr>
        <p:blipFill>
          <a:blip r:embed="rId2"/>
          <a:stretch/>
        </p:blipFill>
        <p:spPr>
          <a:xfrm rot="21261600">
            <a:off x="576000" y="1104480"/>
            <a:ext cx="4029120" cy="906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0"/>
          <p:cNvSpPr/>
          <p:nvPr/>
        </p:nvSpPr>
        <p:spPr>
          <a:xfrm>
            <a:off x="536400" y="2013120"/>
            <a:ext cx="58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Неприятные запахи, грязь и чернозем, ржавчина и горюче-смазочные материалы – все, с чем не справится обычное средство, легко смоет новое специальное МЫЛО ДЛЯ СИЛЬНО ЗАГРЯЗНЕННЫХ РУК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1" descr=""/>
          <p:cNvPicPr/>
          <p:nvPr/>
        </p:nvPicPr>
        <p:blipFill>
          <a:blip r:embed="rId3"/>
          <a:stretch/>
        </p:blipFill>
        <p:spPr>
          <a:xfrm>
            <a:off x="971640" y="2523960"/>
            <a:ext cx="4414680" cy="4434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2" descr=""/>
          <p:cNvPicPr/>
          <p:nvPr/>
        </p:nvPicPr>
        <p:blipFill>
          <a:blip r:embed="rId4"/>
          <a:stretch/>
        </p:blipFill>
        <p:spPr>
          <a:xfrm>
            <a:off x="5724360" y="527040"/>
            <a:ext cx="3216600" cy="62625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3" descr=""/>
          <p:cNvPicPr/>
          <p:nvPr/>
        </p:nvPicPr>
        <p:blipFill>
          <a:blip r:embed="rId5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"/>
          <p:cNvPicPr/>
          <p:nvPr/>
        </p:nvPicPr>
        <p:blipFill>
          <a:blip r:embed="rId2"/>
          <a:stretch/>
        </p:blipFill>
        <p:spPr>
          <a:xfrm rot="20750400">
            <a:off x="1312920" y="1174680"/>
            <a:ext cx="3459240" cy="8636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6"/>
          <p:cNvSpPr/>
          <p:nvPr/>
        </p:nvSpPr>
        <p:spPr>
          <a:xfrm>
            <a:off x="3203640" y="530064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Содержит смягчающие добавки. Не содержит вредных растворителей. Подходит для частого использования. Дерматологически тестирова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577800" y="2330280"/>
            <a:ext cx="246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Полиэтиленовые микро-гранулы</a:t>
            </a:r>
            <a:r>
              <a:rPr b="0" lang="en-US" sz="1800" spc="-1" strike="noStrike">
                <a:solidFill>
                  <a:srgbClr val="0b118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удаляют</a:t>
            </a:r>
            <a:r>
              <a:rPr b="0" lang="en-US" sz="1800" spc="-1" strike="noStrike">
                <a:solidFill>
                  <a:srgbClr val="0b118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«въевшуюся» грязь, не повреждая кож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8" descr=""/>
          <p:cNvPicPr/>
          <p:nvPr/>
        </p:nvPicPr>
        <p:blipFill>
          <a:blip r:embed="rId3"/>
          <a:stretch/>
        </p:blipFill>
        <p:spPr>
          <a:xfrm>
            <a:off x="3203640" y="890640"/>
            <a:ext cx="5832360" cy="4356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9" descr=""/>
          <p:cNvPicPr/>
          <p:nvPr/>
        </p:nvPicPr>
        <p:blipFill>
          <a:blip r:embed="rId4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"/>
          <p:cNvPicPr/>
          <p:nvPr/>
        </p:nvPicPr>
        <p:blipFill>
          <a:blip r:embed="rId5"/>
          <a:stretch/>
        </p:blipFill>
        <p:spPr>
          <a:xfrm>
            <a:off x="468360" y="376560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2"/>
          <a:stretch/>
        </p:blipFill>
        <p:spPr>
          <a:xfrm>
            <a:off x="3473280" y="2043000"/>
            <a:ext cx="5113440" cy="38782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"/>
          <p:cNvPicPr/>
          <p:nvPr/>
        </p:nvPicPr>
        <p:blipFill>
          <a:blip r:embed="rId3"/>
          <a:stretch/>
        </p:blipFill>
        <p:spPr>
          <a:xfrm rot="20250000">
            <a:off x="500040" y="1373040"/>
            <a:ext cx="4044960" cy="936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84360" y="30592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118f"/>
                </a:solidFill>
                <a:latin typeface="Calibri"/>
              </a:rPr>
              <a:t>Способ применения: </a:t>
            </a: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нанести и тщательно растереть мыло на сухих загрязненных руках, затем добавить немного воды и вспенить. Тщательно смыть большим количеством в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4570560" y="1052640"/>
            <a:ext cx="40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Густая формула позволяет достичь отличного результата даже с небольшим количеством средств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8" descr=""/>
          <p:cNvPicPr/>
          <p:nvPr/>
        </p:nvPicPr>
        <p:blipFill>
          <a:blip r:embed="rId4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"/>
          <p:cNvPicPr/>
          <p:nvPr/>
        </p:nvPicPr>
        <p:blipFill>
          <a:blip r:embed="rId2"/>
          <a:stretch/>
        </p:blipFill>
        <p:spPr>
          <a:xfrm>
            <a:off x="299880" y="4184640"/>
            <a:ext cx="2237040" cy="2246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"/>
          <p:cNvPicPr/>
          <p:nvPr/>
        </p:nvPicPr>
        <p:blipFill>
          <a:blip r:embed="rId3"/>
          <a:stretch/>
        </p:blipFill>
        <p:spPr>
          <a:xfrm>
            <a:off x="1908000" y="4184640"/>
            <a:ext cx="2237040" cy="2246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"/>
          <p:cNvPicPr/>
          <p:nvPr/>
        </p:nvPicPr>
        <p:blipFill>
          <a:blip r:embed="rId4"/>
          <a:stretch/>
        </p:blipFill>
        <p:spPr>
          <a:xfrm>
            <a:off x="4932360" y="4184640"/>
            <a:ext cx="2236680" cy="22464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3" descr=""/>
          <p:cNvPicPr/>
          <p:nvPr/>
        </p:nvPicPr>
        <p:blipFill>
          <a:blip r:embed="rId5"/>
          <a:stretch/>
        </p:blipFill>
        <p:spPr>
          <a:xfrm>
            <a:off x="6516720" y="4184640"/>
            <a:ext cx="2236680" cy="2246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6"/>
          <a:stretch/>
        </p:blipFill>
        <p:spPr>
          <a:xfrm>
            <a:off x="349200" y="746280"/>
            <a:ext cx="1630440" cy="31734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4" descr=""/>
          <p:cNvPicPr/>
          <p:nvPr/>
        </p:nvPicPr>
        <p:blipFill>
          <a:blip r:embed="rId7"/>
          <a:stretch/>
        </p:blipFill>
        <p:spPr>
          <a:xfrm>
            <a:off x="1501920" y="746280"/>
            <a:ext cx="1630080" cy="3173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5" descr=""/>
          <p:cNvPicPr/>
          <p:nvPr/>
        </p:nvPicPr>
        <p:blipFill>
          <a:blip r:embed="rId8"/>
          <a:stretch/>
        </p:blipFill>
        <p:spPr>
          <a:xfrm>
            <a:off x="2676600" y="746280"/>
            <a:ext cx="1630440" cy="3173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6" descr=""/>
          <p:cNvPicPr/>
          <p:nvPr/>
        </p:nvPicPr>
        <p:blipFill>
          <a:blip r:embed="rId9"/>
          <a:stretch/>
        </p:blipFill>
        <p:spPr>
          <a:xfrm>
            <a:off x="4913280" y="749160"/>
            <a:ext cx="1630440" cy="31734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7" descr=""/>
          <p:cNvPicPr/>
          <p:nvPr/>
        </p:nvPicPr>
        <p:blipFill>
          <a:blip r:embed="rId10"/>
          <a:stretch/>
        </p:blipFill>
        <p:spPr>
          <a:xfrm>
            <a:off x="6100920" y="749160"/>
            <a:ext cx="1630080" cy="3173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"/>
          <p:cNvPicPr/>
          <p:nvPr/>
        </p:nvPicPr>
        <p:blipFill>
          <a:blip r:embed="rId11"/>
          <a:stretch/>
        </p:blipFill>
        <p:spPr>
          <a:xfrm>
            <a:off x="7286760" y="747720"/>
            <a:ext cx="1630080" cy="31748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9"/>
          <p:cNvSpPr/>
          <p:nvPr/>
        </p:nvSpPr>
        <p:spPr>
          <a:xfrm>
            <a:off x="606600" y="3586320"/>
            <a:ext cx="798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Мыло практически не имеет аналогов в розничной продаже, а благодаря относительно невысокой стоимости выглядит привлекательнее аналогичных технически-направленных продук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27" descr=""/>
          <p:cNvPicPr/>
          <p:nvPr/>
        </p:nvPicPr>
        <p:blipFill>
          <a:blip r:embed="rId12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sp>
        <p:nvSpPr>
          <p:cNvPr id="100" name="Заголовок 1"/>
          <p:cNvSpPr/>
          <p:nvPr/>
        </p:nvSpPr>
        <p:spPr>
          <a:xfrm>
            <a:off x="434880" y="150660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ОГИСТИЧЕСКАЯ ИНФОР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2276640"/>
          <a:ext cx="7920000" cy="2286000"/>
        </p:xfrm>
        <a:graphic>
          <a:graphicData uri="http://schemas.openxmlformats.org/drawingml/2006/table">
            <a:tbl>
              <a:tblPr/>
              <a:tblGrid>
                <a:gridCol w="896760"/>
                <a:gridCol w="2127240"/>
                <a:gridCol w="1511280"/>
                <a:gridCol w="1584360"/>
                <a:gridCol w="1008000"/>
                <a:gridCol w="792360"/>
              </a:tblGrid>
              <a:tr h="641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Артик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Объем единицы продукции, м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Штрих-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Количество в гофроко-робе,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Срок годно-сти, 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</a:tr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306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ГУСТОЕ М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ДЛЯ СИЛЬНО ЗАГРЯЗНЕННЫХ Р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4607014951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290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ГУСТОЕ М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ДЛЯ СИЛЬНО ЗАГРЯЗНЕННЫХ Р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4607014951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02" name="Рисунок 6" descr=""/>
          <p:cNvPicPr/>
          <p:nvPr/>
        </p:nvPicPr>
        <p:blipFill>
          <a:blip r:embed="rId2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СПАСИБО ЗА ВНИМАНИЕ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И ХОРОШИХ ПРОДАЖ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45720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6" descr=""/>
          <p:cNvPicPr/>
          <p:nvPr/>
        </p:nvPicPr>
        <p:blipFill>
          <a:blip r:embed="rId2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"/>
          <p:cNvPicPr/>
          <p:nvPr/>
        </p:nvPicPr>
        <p:blipFill>
          <a:blip r:embed="rId3"/>
          <a:stretch/>
        </p:blipFill>
        <p:spPr>
          <a:xfrm>
            <a:off x="5710320" y="3994200"/>
            <a:ext cx="2314440" cy="23241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"/>
          <p:cNvPicPr/>
          <p:nvPr/>
        </p:nvPicPr>
        <p:blipFill>
          <a:blip r:embed="rId4"/>
          <a:stretch/>
        </p:blipFill>
        <p:spPr>
          <a:xfrm>
            <a:off x="7182000" y="2946240"/>
            <a:ext cx="1687320" cy="3284640"/>
          </a:xfrm>
          <a:prstGeom prst="rect">
            <a:avLst/>
          </a:prstGeom>
          <a:ln w="0">
            <a:noFill/>
          </a:ln>
        </p:spPr>
      </p:pic>
      <p:sp>
        <p:nvSpPr>
          <p:cNvPr id="110" name="Пятно 1 9"/>
          <p:cNvSpPr/>
          <p:nvPr/>
        </p:nvSpPr>
        <p:spPr>
          <a:xfrm rot="10578000">
            <a:off x="314280" y="3867840"/>
            <a:ext cx="2519280" cy="200844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646200" y="4511520"/>
            <a:ext cx="185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ЫПУ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АПРЕЛ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7:43:26Z</dcterms:created>
  <dc:creator>Botyan</dc:creator>
  <dc:description/>
  <dc:language>en-US</dc:language>
  <cp:lastModifiedBy>solovieva</cp:lastModifiedBy>
  <dcterms:modified xsi:type="dcterms:W3CDTF">2012-03-30T10:30:16Z</dcterms:modified>
  <cp:revision>27</cp:revision>
  <dc:subject/>
  <dc:title>Презентация PowerPoint</dc:title>
</cp:coreProperties>
</file>