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0.png" ContentType="image/pn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37.jpeg" ContentType="image/jpeg"/>
  <Override PartName="/ppt/media/image30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00000" y="739440"/>
            <a:ext cx="4935600" cy="370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E627-DA42-4945-920D-67CA019E3B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56BD-FEB9-486F-B012-3919654F38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121F-9A5D-4020-9AC2-61D3412018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F2E2-17F7-4E07-B8E7-767CB797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FFE1-BFE2-46A7-96B5-56DCC147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44F-1999-4FCC-998C-609B38FA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F19B-8ABA-4103-9663-D140D142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DFD2-BA32-4A44-9338-C6BA9228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E494-12D3-45DC-B650-B757EFB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F15C-1329-4A71-99BD-91AE5BCD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BB8E-8BF0-492F-87CC-8D8C46FF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6362-B0CB-48F6-86C9-331B395E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1E20-CF0F-454B-9D2F-D5185705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56B-11B2-492E-BE04-339E8CA18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B51-C496-43F1-9878-D2E0FAC8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57B04-9E06-4C20-B364-45127B5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ED75-3451-4ECE-AF23-E867F2C0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6258-2F55-4DFE-B926-383E6B91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6C3E-8688-460E-8C24-AD1BD77D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7AD7D-4981-4E9E-B172-28321A43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8D186-9A34-477A-80E6-5F3DB3BC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51D05-455F-41DD-95B3-C5D895C4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2710-5376-4E97-8194-CA87A639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78E7-2611-4A30-B4A7-7644D168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302A4-94E1-406A-BD87-31473778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040D-10FB-4AF9-A04D-9DEE0343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4DFBC-9901-4FB0-BD94-1734590B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F63EB-3658-488C-9763-976D13C0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F7804-4B1B-4ED6-A4D8-01CD29E63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D24FE-6BAD-4D1C-BB12-79343729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BF9D9-6A2B-49A1-B37F-37600206B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46362-CD82-46FD-9214-F97D065F3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B378A-FF34-4DB5-A296-03C3DCA9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F5D-440A-4D74-879A-DEC0CB5C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47B-C068-4080-8A36-143FF686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D940-6833-4FF3-A0B7-6A5D0C94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3375-256E-47B0-8D48-F3831A7F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5AC-0DA2-4C05-839D-5B563813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FA1-FF05-4257-993B-92665C1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03C4-7463-420D-99A3-1A0C43D0E5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8031240" y="76320"/>
            <a:ext cx="9666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B94DA-B914-441A-8F3F-260A27B02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EB959-8315-4842-95BC-7CDFEF17C2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image" Target="../media/image20.png"/><Relationship Id="rId5" Type="http://schemas.openxmlformats.org/officeDocument/2006/relationships/image" Target="../media/image14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gettyimages.com/detail/104087259/Lifesize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gettyimages.com/detail/103216524/Lifesize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ww.gettyimages.com/detail/92391237/Photodisc" TargetMode="External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2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351"/>
          <p:cNvSpPr/>
          <p:nvPr/>
        </p:nvSpPr>
        <p:spPr>
          <a:xfrm>
            <a:off x="730080" y="4259160"/>
            <a:ext cx="815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РЕДСТВА ДЛЯ ИНТИМНОЙ ГИГИ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201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3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2724120" y="69840"/>
            <a:ext cx="38959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Картинка 4 из 254"/>
          <p:cNvPicPr/>
          <p:nvPr/>
        </p:nvPicPr>
        <p:blipFill>
          <a:blip r:embed="rId1"/>
          <a:stretch/>
        </p:blipFill>
        <p:spPr>
          <a:xfrm>
            <a:off x="6308640" y="1482840"/>
            <a:ext cx="260352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51"/>
          <p:cNvSpPr/>
          <p:nvPr/>
        </p:nvSpPr>
        <p:spPr>
          <a:xfrm>
            <a:off x="60480" y="41436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ЦЕНОВОЕ ПОЗИЦИОН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9"/>
          <p:cNvSpPr/>
          <p:nvPr/>
        </p:nvSpPr>
        <p:spPr>
          <a:xfrm>
            <a:off x="2809800" y="40672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5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37"/>
          <p:cNvSpPr/>
          <p:nvPr/>
        </p:nvSpPr>
        <p:spPr>
          <a:xfrm>
            <a:off x="7459560" y="458316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средняя цена на полке (Росс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трелка вправо 38"/>
          <p:cNvSpPr/>
          <p:nvPr/>
        </p:nvSpPr>
        <p:spPr>
          <a:xfrm>
            <a:off x="733320" y="4762440"/>
            <a:ext cx="7439040" cy="152100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ЦЕНА Жидкого мыла для интимной гигиены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 «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КРАСНАЯ ЛИ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=  - 45% от ЦЕНЫ Жидкого мыла для интимной гигиены  «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Nivea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Рисунок 18" descr="Красная-линия-Новый-подправленный-лого.gif"/>
          <p:cNvPicPr/>
          <p:nvPr/>
        </p:nvPicPr>
        <p:blipFill>
          <a:blip r:embed="rId2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17" descr="KL_intm_mylo_tea_tree.tif"/>
          <p:cNvPicPr/>
          <p:nvPr/>
        </p:nvPicPr>
        <p:blipFill>
          <a:blip r:embed="rId3"/>
          <a:stretch/>
        </p:blipFill>
        <p:spPr>
          <a:xfrm>
            <a:off x="284040" y="1863720"/>
            <a:ext cx="1606680" cy="223524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22" descr="KL_intm_mylo_aloe_vera.tif"/>
          <p:cNvPicPr/>
          <p:nvPr/>
        </p:nvPicPr>
        <p:blipFill>
          <a:blip r:embed="rId4"/>
          <a:stretch/>
        </p:blipFill>
        <p:spPr>
          <a:xfrm>
            <a:off x="1901880" y="1852560"/>
            <a:ext cx="1620720" cy="22557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6" descr="KL_intm_mylo_kalendula.tif"/>
          <p:cNvPicPr/>
          <p:nvPr/>
        </p:nvPicPr>
        <p:blipFill>
          <a:blip r:embed="rId5"/>
          <a:stretch/>
        </p:blipFill>
        <p:spPr>
          <a:xfrm>
            <a:off x="3551400" y="1863720"/>
            <a:ext cx="1608120" cy="223992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23" descr="KL_intm_mylo_young.tif"/>
          <p:cNvPicPr/>
          <p:nvPr/>
        </p:nvPicPr>
        <p:blipFill>
          <a:blip r:embed="rId6"/>
          <a:stretch/>
        </p:blipFill>
        <p:spPr>
          <a:xfrm>
            <a:off x="5170320" y="1900080"/>
            <a:ext cx="1552680" cy="219888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9"/>
          <p:cNvSpPr/>
          <p:nvPr/>
        </p:nvSpPr>
        <p:spPr>
          <a:xfrm>
            <a:off x="6581880" y="4067280"/>
            <a:ext cx="203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351"/>
          <p:cNvSpPr/>
          <p:nvPr/>
        </p:nvSpPr>
        <p:spPr>
          <a:xfrm>
            <a:off x="957240" y="323388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ХОРОШИХ ПРОД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Рисунок 3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6" descr=""/>
          <p:cNvPicPr/>
          <p:nvPr/>
        </p:nvPicPr>
        <p:blipFill>
          <a:blip r:embed="rId1"/>
          <a:stretch/>
        </p:blipFill>
        <p:spPr>
          <a:xfrm>
            <a:off x="106200" y="2043000"/>
            <a:ext cx="8963280" cy="3781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спользование средст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7238880" y="63244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9EE9-D2C8-4A42-9BA3-79416F3F6703}" type="slidenum">
              <a:rPr b="1" lang="ru-RU" sz="12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190440" y="1422360"/>
            <a:ext cx="81154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6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Средства для интимной гигиены используют 76% взрослых женщин, 28% девочек до 16 лет. Категория молодых девушек – перспективная и растуща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515880" y="5353200"/>
            <a:ext cx="1419120" cy="457200"/>
          </a:xfrm>
          <a:prstGeom prst="rect">
            <a:avLst/>
          </a:prstGeom>
          <a:noFill/>
          <a:ln w="158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944720" y="5353200"/>
            <a:ext cx="1419120" cy="457200"/>
          </a:xfrm>
          <a:prstGeom prst="rect">
            <a:avLst/>
          </a:prstGeom>
          <a:noFill/>
          <a:ln w="158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2" descr="104087259">
            <a:hlinkClick r:id="rId2"/>
          </p:cNvPr>
          <p:cNvPicPr/>
          <p:nvPr/>
        </p:nvPicPr>
        <p:blipFill>
          <a:blip r:embed="rId3"/>
          <a:srcRect l="0" t="7662" r="0" b="0"/>
          <a:stretch/>
        </p:blipFill>
        <p:spPr>
          <a:xfrm>
            <a:off x="868320" y="2981160"/>
            <a:ext cx="674640" cy="93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View image detail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316240" y="3133800"/>
            <a:ext cx="614160" cy="933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View image detail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92640" y="3591000"/>
            <a:ext cx="525600" cy="790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8" descr="View image detail"/>
          <p:cNvPicPr/>
          <p:nvPr/>
        </p:nvPicPr>
        <p:blipFill>
          <a:blip r:embed="rId8"/>
          <a:stretch/>
        </p:blipFill>
        <p:spPr>
          <a:xfrm>
            <a:off x="7954920" y="3895560"/>
            <a:ext cx="625680" cy="93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0" descr="View image detail"/>
          <p:cNvPicPr/>
          <p:nvPr/>
        </p:nvPicPr>
        <p:blipFill>
          <a:blip r:embed="rId9"/>
          <a:stretch/>
        </p:blipFill>
        <p:spPr>
          <a:xfrm>
            <a:off x="3687840" y="3286080"/>
            <a:ext cx="753840" cy="1009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View image detail"/>
          <p:cNvPicPr/>
          <p:nvPr/>
        </p:nvPicPr>
        <p:blipFill>
          <a:blip r:embed="rId10"/>
          <a:stretch/>
        </p:blipFill>
        <p:spPr>
          <a:xfrm>
            <a:off x="6659640" y="3743280"/>
            <a:ext cx="625320" cy="93348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4" descr="Красная-линия-Новый-подправленный-лого.gif"/>
          <p:cNvPicPr/>
          <p:nvPr/>
        </p:nvPicPr>
        <p:blipFill>
          <a:blip r:embed="rId1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"/>
          <p:cNvPicPr/>
          <p:nvPr/>
        </p:nvPicPr>
        <p:blipFill>
          <a:blip r:embed="rId12"/>
          <a:stretch/>
        </p:blipFill>
        <p:spPr>
          <a:xfrm>
            <a:off x="7819920" y="5997600"/>
            <a:ext cx="1171800" cy="44604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0"/>
          <p:cNvSpPr/>
          <p:nvPr/>
        </p:nvSpPr>
        <p:spPr>
          <a:xfrm>
            <a:off x="7210440" y="63817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Исследование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324000" y="1986120"/>
            <a:ext cx="8584920" cy="36604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71360" y="1368360"/>
            <a:ext cx="86043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10800" anchor="t">
            <a:spAutoFit/>
          </a:bodyPr>
          <a:p>
            <a:pPr marL="9036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Целевая аудитория демонстрирует положительное отношение к интимной гигиене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0360">
              <a:lnSpc>
                <a:spcPct val="105000"/>
              </a:lnSpc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Средством для интимной гигиены должна пользоваться любая женщина, достигшая половой зрел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7238880" y="63244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4C76-1E41-4096-B9F4-6344E9897FC4}" type="slidenum">
              <a:rPr b="1" lang="ru-RU" sz="12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7848720" y="2324160"/>
            <a:ext cx="533160" cy="31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8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7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7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4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3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2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f81bd"/>
                </a:solidFill>
                <a:latin typeface="Tahoma"/>
              </a:rPr>
              <a:t>1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304920" y="2362320"/>
            <a:ext cx="4029120" cy="1238040"/>
          </a:xfrm>
          <a:prstGeom prst="rect">
            <a:avLst/>
          </a:prstGeom>
          <a:noFill/>
          <a:ln w="1584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51"/>
          <p:cNvSpPr/>
          <p:nvPr/>
        </p:nvSpPr>
        <p:spPr>
          <a:xfrm>
            <a:off x="60480" y="414360"/>
            <a:ext cx="70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Отношение к использованию средств для 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Рисунок 4" descr="Красная-линия-Новый-подправленный-лого.gif"/>
          <p:cNvPicPr/>
          <p:nvPr/>
        </p:nvPicPr>
        <p:blipFill>
          <a:blip r:embed="rId2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"/>
          <p:cNvPicPr/>
          <p:nvPr/>
        </p:nvPicPr>
        <p:blipFill>
          <a:blip r:embed="rId3"/>
          <a:stretch/>
        </p:blipFill>
        <p:spPr>
          <a:xfrm>
            <a:off x="7819920" y="5997600"/>
            <a:ext cx="1171800" cy="446040"/>
          </a:xfrm>
          <a:prstGeom prst="rect">
            <a:avLst/>
          </a:prstGeom>
          <a:ln w="0">
            <a:noFill/>
          </a:ln>
        </p:spPr>
      </p:pic>
      <p:sp>
        <p:nvSpPr>
          <p:cNvPr id="197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7210440" y="63817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Исследование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отивы использования средст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79280" y="1444680"/>
            <a:ext cx="896472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76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7f7f7f"/>
                </a:solidFill>
                <a:latin typeface="Tahoma"/>
              </a:rPr>
              <a:t>Основным мотивом использования средств для интимной гигиены является стремление к «идеальной» чистоте всего тела и в том числе деликатных зон: ежедневная гигиена и уход за собой (81%), профилактика интимного здоровья (52%),  желание комплексно ухаживать за собой (40%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28600" y="2505240"/>
            <a:ext cx="3429000" cy="446040"/>
          </a:xfrm>
          <a:prstGeom prst="rect">
            <a:avLst/>
          </a:prstGeom>
          <a:noFill/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7238880" y="63244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1B13-E92B-43AD-8F02-A25396338877}" type="slidenum">
              <a:rPr b="1" lang="ru-RU" sz="12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28600" y="3000240"/>
            <a:ext cx="3429000" cy="819360"/>
          </a:xfrm>
          <a:prstGeom prst="rect">
            <a:avLst/>
          </a:prstGeom>
          <a:noFill/>
          <a:ln w="1908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2"/>
          <a:stretch/>
        </p:blipFill>
        <p:spPr>
          <a:xfrm>
            <a:off x="295200" y="2463840"/>
            <a:ext cx="8610840" cy="36291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3"/>
          <a:stretch/>
        </p:blipFill>
        <p:spPr>
          <a:xfrm>
            <a:off x="7819920" y="5997600"/>
            <a:ext cx="1171800" cy="446040"/>
          </a:xfrm>
          <a:prstGeom prst="rect">
            <a:avLst/>
          </a:prstGeom>
          <a:ln w="0">
            <a:noFill/>
          </a:ln>
        </p:spPr>
      </p:pic>
      <p:sp>
        <p:nvSpPr>
          <p:cNvPr id="207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7210440" y="63817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Исследование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3"/>
          <p:cNvSpPr/>
          <p:nvPr/>
        </p:nvSpPr>
        <p:spPr>
          <a:xfrm>
            <a:off x="7238880" y="63244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68D7-F388-4641-8124-9218385D035E}" type="slidenum">
              <a:rPr b="1" lang="ru-RU" sz="1200" spc="-1" strike="noStrike">
                <a:solidFill>
                  <a:srgbClr val="eeece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2"/>
          <a:stretch/>
        </p:blipFill>
        <p:spPr>
          <a:xfrm>
            <a:off x="7819920" y="6102360"/>
            <a:ext cx="1171800" cy="446040"/>
          </a:xfrm>
          <a:prstGeom prst="rect">
            <a:avLst/>
          </a:prstGeom>
          <a:ln w="0">
            <a:noFill/>
          </a:ln>
        </p:spPr>
      </p:pic>
      <p:sp>
        <p:nvSpPr>
          <p:cNvPr id="212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4587840" y="1959120"/>
            <a:ext cx="4168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ahoma"/>
              </a:rPr>
              <a:t>«Красная Линия»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вляется абсолютным лидером по уровню потребления в категории средств для интимной гигиены с уровнем проникновения 56% и долей  регулярных потребителей 29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4587840" y="3676680"/>
            <a:ext cx="4175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 выборке в целом </a:t>
            </a:r>
            <a:r>
              <a:rPr b="1" lang="ru-RU" sz="1400" spc="-1" strike="noStrike">
                <a:solidFill>
                  <a:srgbClr val="c00000"/>
                </a:solidFill>
                <a:latin typeface="Tahoma"/>
              </a:rPr>
              <a:t>«Красная Линия»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является абсолютным лидером и по уровню знания рекламы с существенным отрывом от конкурентов – 36% назвали рекламу первой, 49% вспомнили с подсказ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8"/>
          <p:cNvSpPr/>
          <p:nvPr/>
        </p:nvSpPr>
        <p:spPr>
          <a:xfrm>
            <a:off x="7210440" y="63817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Arial"/>
              </a:rPr>
              <a:t>Исследование 2011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4587840" y="5324400"/>
            <a:ext cx="417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ahoma"/>
              </a:rPr>
              <a:t>«Красная Линия»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эффективна с точки зрения привлечения новых потребителей и хорошо удерживает текущих потреб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1057320" y="1790640"/>
            <a:ext cx="2819520" cy="36216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льзовались когда-либ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057320" y="2305080"/>
            <a:ext cx="2819520" cy="3427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ьзовались за посл. 12 мес.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1057320" y="2828880"/>
            <a:ext cx="2819520" cy="304920"/>
          </a:xfrm>
          <a:prstGeom prst="rect">
            <a:avLst/>
          </a:prstGeom>
          <a:solidFill>
            <a:srgbClr val="c00000"/>
          </a:solidFill>
          <a:ln w="442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льзуются чаще вс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29"/>
          <p:cNvSpPr/>
          <p:nvPr/>
        </p:nvSpPr>
        <p:spPr>
          <a:xfrm>
            <a:off x="390600" y="1695600"/>
            <a:ext cx="7617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2"/>
          <p:cNvSpPr/>
          <p:nvPr/>
        </p:nvSpPr>
        <p:spPr>
          <a:xfrm>
            <a:off x="390600" y="2190600"/>
            <a:ext cx="761760" cy="38124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4"/>
          <p:cNvSpPr/>
          <p:nvPr/>
        </p:nvSpPr>
        <p:spPr>
          <a:xfrm>
            <a:off x="390600" y="2676600"/>
            <a:ext cx="761760" cy="38088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4029120" y="1828800"/>
            <a:ext cx="152280" cy="1380960"/>
          </a:xfrm>
          <a:custGeom>
            <a:avLst/>
            <a:gdLst>
              <a:gd name="textAreaLeft" fmla="*/ 0 w 152280"/>
              <a:gd name="textAreaRight" fmla="*/ 55080 w 152280"/>
              <a:gd name="textAreaTop" fmla="*/ 36000 h 1380960"/>
              <a:gd name="textAreaBottom" fmla="*/ 1344960 h 138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1066680" y="5648400"/>
            <a:ext cx="2819520" cy="45720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ндекс привле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4"/>
          <p:cNvSpPr/>
          <p:nvPr/>
        </p:nvSpPr>
        <p:spPr>
          <a:xfrm>
            <a:off x="399960" y="5572080"/>
            <a:ext cx="76212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990720" y="3619440"/>
            <a:ext cx="2892240" cy="4190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ют с подска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990720" y="4210200"/>
            <a:ext cx="2892240" cy="4190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ют спонтан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27"/>
          <p:cNvSpPr/>
          <p:nvPr/>
        </p:nvSpPr>
        <p:spPr>
          <a:xfrm>
            <a:off x="399960" y="3467160"/>
            <a:ext cx="762120" cy="3808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28"/>
          <p:cNvSpPr/>
          <p:nvPr/>
        </p:nvSpPr>
        <p:spPr>
          <a:xfrm>
            <a:off x="399960" y="4057560"/>
            <a:ext cx="762120" cy="3812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20"/>
          <p:cNvSpPr/>
          <p:nvPr/>
        </p:nvSpPr>
        <p:spPr>
          <a:xfrm>
            <a:off x="3962520" y="3543480"/>
            <a:ext cx="152280" cy="1733400"/>
          </a:xfrm>
          <a:custGeom>
            <a:avLst/>
            <a:gdLst>
              <a:gd name="textAreaLeft" fmla="*/ 0 w 152280"/>
              <a:gd name="textAreaRight" fmla="*/ 55080 w 152280"/>
              <a:gd name="textAreaTop" fmla="*/ 45000 h 1733400"/>
              <a:gd name="textAreaBottom" fmla="*/ 1688400 h 173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990720" y="4809960"/>
            <a:ext cx="2892240" cy="4194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703440" indent="-181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зывают пер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28"/>
          <p:cNvSpPr/>
          <p:nvPr/>
        </p:nvSpPr>
        <p:spPr>
          <a:xfrm>
            <a:off x="399960" y="4657680"/>
            <a:ext cx="762120" cy="3808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60360" indent="-181080" algn="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51"/>
          <p:cNvSpPr/>
          <p:nvPr/>
        </p:nvSpPr>
        <p:spPr>
          <a:xfrm>
            <a:off x="-258840" y="35244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КРАСНАЯ ЛИНИЯ» – лид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 категории средств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Рисунок 9" descr="TovarGoda_2010.gif"/>
          <p:cNvPicPr/>
          <p:nvPr/>
        </p:nvPicPr>
        <p:blipFill>
          <a:blip r:embed="rId1"/>
          <a:stretch/>
        </p:blipFill>
        <p:spPr>
          <a:xfrm>
            <a:off x="390600" y="1830240"/>
            <a:ext cx="1993680" cy="42181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51"/>
          <p:cNvSpPr/>
          <p:nvPr/>
        </p:nvSpPr>
        <p:spPr>
          <a:xfrm>
            <a:off x="-258840" y="352440"/>
            <a:ext cx="792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«КРАСНАЯ ЛИНИЯ» – лучш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российский бренд в катег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жидкое мы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2790720" y="1996920"/>
            <a:ext cx="5810400" cy="38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торой год подряд бренд «КРАСНАЯ ЛИНИЯ» становится лауреатом премии «Лучший российский бренд  в категории «ЖИДКОЕ МЫЛО» и получает звезду ТОВАР ГОДА 20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сероссийская премия «Товар года» учреждена в 1998 году Независимой торговой ассоциацией России (НТА) и присуждается лидерам продаж - самым популярным товарам массового спроса. Совместно с НТА конкурс проводит Московская международная бизнес-ассоциация при поддержке Торгово-промышленной палаты РФ под патронажем Правительства Москвы. Партнёрами Премии выступают ведущие исследовательские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Nielsen и КОМК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4" descr="Красная-линия-Новый-подправленный-лого.gif"/>
          <p:cNvPicPr/>
          <p:nvPr/>
        </p:nvPicPr>
        <p:blipFill>
          <a:blip r:embed="rId2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редства для интимной гигие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10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16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6" descr="KL_intm_mylo_kalendula.tif"/>
          <p:cNvPicPr/>
          <p:nvPr/>
        </p:nvPicPr>
        <p:blipFill>
          <a:blip r:embed="rId2"/>
          <a:stretch/>
        </p:blipFill>
        <p:spPr>
          <a:xfrm>
            <a:off x="179280" y="1392120"/>
            <a:ext cx="1608120" cy="223992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7" descr="KL_intm_mylo_tea_tree.tif"/>
          <p:cNvPicPr/>
          <p:nvPr/>
        </p:nvPicPr>
        <p:blipFill>
          <a:blip r:embed="rId3"/>
          <a:stretch/>
        </p:blipFill>
        <p:spPr>
          <a:xfrm>
            <a:off x="3794040" y="1397160"/>
            <a:ext cx="1606680" cy="22348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8" descr="KL_intm_mylo_karkade.tif"/>
          <p:cNvPicPr/>
          <p:nvPr/>
        </p:nvPicPr>
        <p:blipFill>
          <a:blip r:embed="rId4"/>
          <a:stretch/>
        </p:blipFill>
        <p:spPr>
          <a:xfrm>
            <a:off x="5530680" y="3803760"/>
            <a:ext cx="1578240" cy="220644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9" descr="KL_intm_mylo_Negnyi_gel.tif"/>
          <p:cNvPicPr/>
          <p:nvPr/>
        </p:nvPicPr>
        <p:blipFill>
          <a:blip r:embed="rId5"/>
          <a:stretch/>
        </p:blipFill>
        <p:spPr>
          <a:xfrm>
            <a:off x="2006640" y="3800520"/>
            <a:ext cx="1585800" cy="22176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0" descr="KL_intm_mylo_milk_kislota.tif"/>
          <p:cNvPicPr/>
          <p:nvPr/>
        </p:nvPicPr>
        <p:blipFill>
          <a:blip r:embed="rId6"/>
          <a:stretch/>
        </p:blipFill>
        <p:spPr>
          <a:xfrm>
            <a:off x="190440" y="3800520"/>
            <a:ext cx="1581120" cy="22114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21" descr="KL_intm_penka_negnaya.tif"/>
          <p:cNvPicPr/>
          <p:nvPr/>
        </p:nvPicPr>
        <p:blipFill>
          <a:blip r:embed="rId7"/>
          <a:stretch/>
        </p:blipFill>
        <p:spPr>
          <a:xfrm>
            <a:off x="5683320" y="942840"/>
            <a:ext cx="717480" cy="268920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22" descr="KL_intm_mylo_aloe_vera.tif"/>
          <p:cNvPicPr/>
          <p:nvPr/>
        </p:nvPicPr>
        <p:blipFill>
          <a:blip r:embed="rId8"/>
          <a:stretch/>
        </p:blipFill>
        <p:spPr>
          <a:xfrm>
            <a:off x="2006640" y="1376280"/>
            <a:ext cx="1620720" cy="225576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23" descr="KL_intm_mylo_young.tif"/>
          <p:cNvPicPr/>
          <p:nvPr/>
        </p:nvPicPr>
        <p:blipFill>
          <a:blip r:embed="rId9"/>
          <a:stretch/>
        </p:blipFill>
        <p:spPr>
          <a:xfrm>
            <a:off x="7313760" y="3800520"/>
            <a:ext cx="1552320" cy="21985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24" descr="KL_intm_mylo_hlopok.tif"/>
          <p:cNvPicPr/>
          <p:nvPr/>
        </p:nvPicPr>
        <p:blipFill>
          <a:blip r:embed="rId10"/>
          <a:stretch/>
        </p:blipFill>
        <p:spPr>
          <a:xfrm>
            <a:off x="3811680" y="3800520"/>
            <a:ext cx="1573200" cy="21891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5" descr="KL_Salfetki_Intim_genshin.tif"/>
          <p:cNvPicPr/>
          <p:nvPr/>
        </p:nvPicPr>
        <p:blipFill>
          <a:blip r:embed="rId11"/>
          <a:stretch/>
        </p:blipFill>
        <p:spPr>
          <a:xfrm>
            <a:off x="6576840" y="2133720"/>
            <a:ext cx="2467080" cy="1450800"/>
          </a:xfrm>
          <a:prstGeom prst="rect">
            <a:avLst/>
          </a:prstGeom>
          <a:ln w="0">
            <a:noFill/>
          </a:ln>
        </p:spPr>
      </p:pic>
      <p:sp>
        <p:nvSpPr>
          <p:cNvPr id="250" name="Овальная выноска 13"/>
          <p:cNvSpPr/>
          <p:nvPr/>
        </p:nvSpPr>
        <p:spPr>
          <a:xfrm>
            <a:off x="3254400" y="950760"/>
            <a:ext cx="1333440" cy="511200"/>
          </a:xfrm>
          <a:prstGeom prst="wedgeEllipseCallout">
            <a:avLst>
              <a:gd name="adj1" fmla="val 26310"/>
              <a:gd name="adj2" fmla="val 164986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33"/>
                </a:solidFill>
                <a:latin typeface="Calibri"/>
              </a:rPr>
              <a:t>ТВ РЕКЛАМА 2011</a:t>
            </a:r>
            <a:r>
              <a:rPr b="1" lang="en-US" sz="1000" spc="-1" strike="noStrike">
                <a:solidFill>
                  <a:srgbClr val="990033"/>
                </a:solidFill>
                <a:latin typeface="Calibri"/>
              </a:rPr>
              <a:t>-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1"/>
          <p:cNvSpPr/>
          <p:nvPr/>
        </p:nvSpPr>
        <p:spPr>
          <a:xfrm>
            <a:off x="3390840" y="1514520"/>
            <a:ext cx="5600880" cy="49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дкое мыло для интимной гигиены нежно очищает, поддерживает естеств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аланс кожи, сохраняет надолго ощущение свежести и чистоты. Гипоаллергенно.  Рекомендовано гинекологами для ежедневного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лендула оказывает антисептическое и противовоспалительное 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лоэ Вера обладает успокаивающим действием, обеспечивает надежную защиту, предупреждает раздражения и покрас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асло австралийского чайного дерева обладает антисептическим и противовоспалительным действием. Жидкое мыло с маслом чайного дерева надолго сохраняет ощущение свежести и чист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лочная кислота поддерживает  естественный баланс кожной экофлоры интимных участков тела. Придает длительную свежесть и комф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Экстракт ромашки оказывает успокаивающее и смягчающее 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Рисунок 17" descr="KL_intm_mylo_tea_tree.tif"/>
          <p:cNvPicPr/>
          <p:nvPr/>
        </p:nvPicPr>
        <p:blipFill>
          <a:blip r:embed="rId1"/>
          <a:stretch/>
        </p:blipFill>
        <p:spPr>
          <a:xfrm>
            <a:off x="276120" y="3137040"/>
            <a:ext cx="1397160" cy="194472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2" descr="KL_intm_mylo_aloe_vera.tif"/>
          <p:cNvPicPr/>
          <p:nvPr/>
        </p:nvPicPr>
        <p:blipFill>
          <a:blip r:embed="rId2"/>
          <a:stretch/>
        </p:blipFill>
        <p:spPr>
          <a:xfrm>
            <a:off x="1797120" y="1352520"/>
            <a:ext cx="1409760" cy="196236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Жидкое мыло для интимной гиги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Рисунок 16" descr="Красная-линия-Новый-подправленный-лого.gif"/>
          <p:cNvPicPr/>
          <p:nvPr/>
        </p:nvPicPr>
        <p:blipFill>
          <a:blip r:embed="rId3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56" name="Рисунок 16" descr="KL_intm_mylo_kalendula.tif"/>
          <p:cNvPicPr/>
          <p:nvPr/>
        </p:nvPicPr>
        <p:blipFill>
          <a:blip r:embed="rId4"/>
          <a:stretch/>
        </p:blipFill>
        <p:spPr>
          <a:xfrm>
            <a:off x="419040" y="1235160"/>
            <a:ext cx="1370160" cy="190800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20" descr="KL_intm_mylo_milk_kislota.tif"/>
          <p:cNvPicPr/>
          <p:nvPr/>
        </p:nvPicPr>
        <p:blipFill>
          <a:blip r:embed="rId5"/>
          <a:stretch/>
        </p:blipFill>
        <p:spPr>
          <a:xfrm>
            <a:off x="3203640" y="3863880"/>
            <a:ext cx="1374840" cy="192420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14" descr="NII_MT.gif"/>
          <p:cNvPicPr/>
          <p:nvPr/>
        </p:nvPicPr>
        <p:blipFill>
          <a:blip r:embed="rId6"/>
          <a:stretch/>
        </p:blipFill>
        <p:spPr>
          <a:xfrm>
            <a:off x="717480" y="5291280"/>
            <a:ext cx="892080" cy="88560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9" descr="TovarGoda_2010.gif"/>
          <p:cNvPicPr/>
          <p:nvPr/>
        </p:nvPicPr>
        <p:blipFill>
          <a:blip r:embed="rId7"/>
          <a:stretch/>
        </p:blipFill>
        <p:spPr>
          <a:xfrm>
            <a:off x="0" y="5105520"/>
            <a:ext cx="698400" cy="14763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6" descr="Европейский-стандарт.gif"/>
          <p:cNvPicPr/>
          <p:nvPr/>
        </p:nvPicPr>
        <p:blipFill>
          <a:blip r:embed="rId8"/>
          <a:stretch/>
        </p:blipFill>
        <p:spPr>
          <a:xfrm>
            <a:off x="1479600" y="5438880"/>
            <a:ext cx="1127160" cy="9730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23" descr="KL_intm_mylo_young.tif"/>
          <p:cNvPicPr/>
          <p:nvPr/>
        </p:nvPicPr>
        <p:blipFill>
          <a:blip r:embed="rId9"/>
          <a:stretch/>
        </p:blipFill>
        <p:spPr>
          <a:xfrm>
            <a:off x="1724040" y="3413160"/>
            <a:ext cx="1454040" cy="2058840"/>
          </a:xfrm>
          <a:prstGeom prst="rect">
            <a:avLst/>
          </a:prstGeom>
          <a:ln w="0">
            <a:noFill/>
          </a:ln>
        </p:spPr>
      </p:pic>
      <p:sp>
        <p:nvSpPr>
          <p:cNvPr id="262" name="Овальная выноска 20"/>
          <p:cNvSpPr/>
          <p:nvPr/>
        </p:nvSpPr>
        <p:spPr>
          <a:xfrm>
            <a:off x="3105000" y="3157560"/>
            <a:ext cx="1333800" cy="511200"/>
          </a:xfrm>
          <a:prstGeom prst="wedgeEllipseCallout">
            <a:avLst>
              <a:gd name="adj1" fmla="val -76546"/>
              <a:gd name="adj2" fmla="val 11094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990033"/>
                </a:solidFill>
                <a:latin typeface="Calibri"/>
              </a:rPr>
              <a:t>Специально для девочек от 12 л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21" descr="KL_intm_penka_negnaya.tif"/>
          <p:cNvPicPr/>
          <p:nvPr/>
        </p:nvPicPr>
        <p:blipFill>
          <a:blip r:embed="rId1"/>
          <a:stretch/>
        </p:blipFill>
        <p:spPr>
          <a:xfrm>
            <a:off x="461880" y="3038400"/>
            <a:ext cx="588960" cy="22100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4" descr="KL_intm_mylo_hlopok.tif"/>
          <p:cNvPicPr/>
          <p:nvPr/>
        </p:nvPicPr>
        <p:blipFill>
          <a:blip r:embed="rId2"/>
          <a:stretch/>
        </p:blipFill>
        <p:spPr>
          <a:xfrm>
            <a:off x="1533600" y="1887480"/>
            <a:ext cx="1276200" cy="17766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51"/>
          <p:cNvSpPr/>
          <p:nvPr/>
        </p:nvSpPr>
        <p:spPr>
          <a:xfrm>
            <a:off x="60480" y="414360"/>
            <a:ext cx="765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пециальный уход для интимной гигиены 5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Рисунок 16" descr="Красная-линия-Новый-подправленный-лого.gif"/>
          <p:cNvPicPr/>
          <p:nvPr/>
        </p:nvPicPr>
        <p:blipFill>
          <a:blip r:embed="rId3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267" name="Рисунок 19" descr="KL_intm_mylo_Negnyi_gel.tif"/>
          <p:cNvPicPr/>
          <p:nvPr/>
        </p:nvPicPr>
        <p:blipFill>
          <a:blip r:embed="rId4"/>
          <a:stretch/>
        </p:blipFill>
        <p:spPr>
          <a:xfrm>
            <a:off x="190440" y="1301760"/>
            <a:ext cx="1287360" cy="1800360"/>
          </a:xfrm>
          <a:prstGeom prst="rect">
            <a:avLst/>
          </a:prstGeom>
          <a:ln w="0">
            <a:noFill/>
          </a:ln>
        </p:spPr>
      </p:pic>
      <p:pic>
        <p:nvPicPr>
          <p:cNvPr id="268" name="Рисунок 25" descr="KL_Salfetki_Intim_genshin.tif"/>
          <p:cNvPicPr/>
          <p:nvPr/>
        </p:nvPicPr>
        <p:blipFill>
          <a:blip r:embed="rId5"/>
          <a:stretch/>
        </p:blipFill>
        <p:spPr>
          <a:xfrm>
            <a:off x="1190520" y="4224240"/>
            <a:ext cx="1631880" cy="959040"/>
          </a:xfrm>
          <a:prstGeom prst="rect">
            <a:avLst/>
          </a:prstGeom>
          <a:ln w="0">
            <a:noFill/>
          </a:ln>
        </p:spPr>
      </p:pic>
      <p:sp>
        <p:nvSpPr>
          <p:cNvPr id="269" name="Прямоугольник 11"/>
          <p:cNvSpPr/>
          <p:nvPr/>
        </p:nvSpPr>
        <p:spPr>
          <a:xfrm>
            <a:off x="3857760" y="1724040"/>
            <a:ext cx="50482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ежный гел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интимной гигиены обладает более мягкой текстурой и подходит для людей с чувствительной кожей интимных участков тела. Гел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упреждает появление раздражений и покрасн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и надолго дарит ощущение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рем-мыл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для интимной гигиены с экстрактом хлопка прекрасно очищает, смягчает и успокаивает интимные участки тела, кроме тог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едупреждает появление сух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Жидкое мыло для интимной гигиены  с экстрактом каркаде специально созда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использования в  критические дн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. Экстракт каркаде обладает противовоспалительным действием, а специально разработанный комплек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Colica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создает защитный барьер кожной экофл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ягкая пенка  создана для  ухода за самыми нежными участками тела. Экстракт белой лилии успокаивает, поддерживает необходимый уровень увлажненности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лажные салфетки для интимной гигиены  мягко и тщательно очищают интимные участки тела, удобны в применении и незаменимы в дали от до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18" descr="KL_intm_mylo_karkade.tif"/>
          <p:cNvPicPr/>
          <p:nvPr/>
        </p:nvPicPr>
        <p:blipFill>
          <a:blip r:embed="rId6"/>
          <a:stretch/>
        </p:blipFill>
        <p:spPr>
          <a:xfrm>
            <a:off x="2951280" y="2525760"/>
            <a:ext cx="1347840" cy="1884240"/>
          </a:xfrm>
          <a:prstGeom prst="rect">
            <a:avLst/>
          </a:prstGeom>
          <a:ln w="0">
            <a:noFill/>
          </a:ln>
        </p:spPr>
      </p:pic>
      <p:pic>
        <p:nvPicPr>
          <p:cNvPr id="271" name="Рисунок 20" descr="NII_MT.gif"/>
          <p:cNvPicPr/>
          <p:nvPr/>
        </p:nvPicPr>
        <p:blipFill>
          <a:blip r:embed="rId7"/>
          <a:stretch/>
        </p:blipFill>
        <p:spPr>
          <a:xfrm>
            <a:off x="717480" y="5291280"/>
            <a:ext cx="892080" cy="8856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9" descr="TovarGoda_2010.gif"/>
          <p:cNvPicPr/>
          <p:nvPr/>
        </p:nvPicPr>
        <p:blipFill>
          <a:blip r:embed="rId8"/>
          <a:stretch/>
        </p:blipFill>
        <p:spPr>
          <a:xfrm>
            <a:off x="0" y="5105520"/>
            <a:ext cx="698400" cy="14763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22" descr="Европейский-стандарт.gif"/>
          <p:cNvPicPr/>
          <p:nvPr/>
        </p:nvPicPr>
        <p:blipFill>
          <a:blip r:embed="rId9"/>
          <a:stretch/>
        </p:blipFill>
        <p:spPr>
          <a:xfrm>
            <a:off x="1479600" y="5438880"/>
            <a:ext cx="112716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solovieva</cp:lastModifiedBy>
  <dcterms:modified xsi:type="dcterms:W3CDTF">2012-03-30T10:55:58Z</dcterms:modified>
  <cp:revision>661</cp:revision>
  <dc:subject/>
  <dc:title>Слайд 1</dc:title>
</cp:coreProperties>
</file>