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20.png" ContentType="image/png"/>
  <Override PartName="/ppt/media/image13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37.jpeg" ContentType="image/jpeg"/>
  <Override PartName="/ppt/media/image30.png" ContentType="image/png"/>
  <Override PartName="/ppt/media/image31.png" ContentType="image/png"/>
  <Override PartName="/ppt/media/image34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8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1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2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EC0E-DA8B-434D-9191-BE61912BE0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0516-2A61-4F34-8698-653D4FA285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B66F-B4DE-45CE-AB2A-976B9EED4A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99CF-A56D-49A6-B35B-50DEEAB9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AB52-9DCC-40E2-A5F4-EE9A662A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EE0D-F4CF-4481-BE63-C67A374C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8FC-F7F4-4ABA-A57B-D69AF3D2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8DB7-723C-4474-8F0F-8BBB398D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93BF-A151-400B-BDCC-00E12C30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CFEB-CA3D-4110-BE55-181EC3FE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A099-A347-4E20-BF62-6B9FFFCD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741C-D599-4506-AB64-450504D0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38E8-3B1D-48D5-8CFA-98845EAC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5BD3-83FD-4905-AC48-9FD7570E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200-0074-406D-929C-0F89BAA7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FB2E-544E-4DA7-AF63-BA205A81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88AF-50FF-4BFB-9503-6C0E411D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6CDF-AFDC-405F-8E03-20B6C290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545A-6FAA-423C-9544-ADAB6433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2249-4859-41E0-B8AC-CB429EC6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879C1-0B5D-427B-874A-6A5F5BDF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C8B84-7B2F-4FA7-BC75-CA25B1D2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63667-E311-41D3-BF1B-EC7E2740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9B9BE-5DF9-4EF9-AFE7-389B3364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08C79-41F7-4DDC-8B7F-8984F9E3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54D-3F7A-40C0-8242-21539198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E30F9-EA5A-4724-B39B-45A3D5CD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C16C-37E5-444B-9B34-C5792BFE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D9749-C005-43B9-9649-98895002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742DB-3996-4D0F-AB54-D10CA4AA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A7E18-D5A2-44D2-A8AE-EA1304F3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F04D2-CB86-4139-8EE4-5288ED26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65B47-8193-4E46-BBF3-F26A9C8A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8D6F-86CC-4A84-98E9-F7CC4873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0910-5A4F-4081-935D-E168152D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7E4A-1B1E-444A-BD7A-7730D164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ABF-E9D6-44A7-9AFB-F0720C80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608-3F27-4600-9DEE-30D635D8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4DF2-3F32-43AF-B573-86F12014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B7B7-7C1A-4C8A-9EF7-9D6904D0E1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ТД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расная Линия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495-982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aroma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6" descr="LOGOTIP_Red_Line.jpg"/>
          <p:cNvPicPr/>
          <p:nvPr/>
        </p:nvPicPr>
        <p:blipFill>
          <a:blip r:embed="rId2"/>
          <a:stretch/>
        </p:blipFill>
        <p:spPr>
          <a:xfrm>
            <a:off x="8031240" y="76320"/>
            <a:ext cx="966600" cy="949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0F8A-9803-47A2-B1F1-2FE47A9753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ОО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Русская Косметика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+7(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495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98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krasnay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9BF3-3EC5-419A-8BBF-2C95F83B92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20.png"/><Relationship Id="rId5" Type="http://schemas.openxmlformats.org/officeDocument/2006/relationships/image" Target="../media/image14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ettyimages.com/detail/104087259/Lifesize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ettyimages.com/detail/103216524/Lifesize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www.gettyimages.com/detail/92391237/Photodisc" TargetMode="Externa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2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51"/>
          <p:cNvSpPr/>
          <p:nvPr/>
        </p:nvSpPr>
        <p:spPr>
          <a:xfrm>
            <a:off x="730080" y="4259160"/>
            <a:ext cx="815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РЕДСТВА ДЛЯ ИНТИМНОЙ ГИГИ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201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3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2724120" y="69840"/>
            <a:ext cx="38959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Картинка 4 из 254"/>
          <p:cNvPicPr/>
          <p:nvPr/>
        </p:nvPicPr>
        <p:blipFill>
          <a:blip r:embed="rId1"/>
          <a:stretch/>
        </p:blipFill>
        <p:spPr>
          <a:xfrm>
            <a:off x="6308640" y="1482840"/>
            <a:ext cx="2603520" cy="26035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51"/>
          <p:cNvSpPr/>
          <p:nvPr/>
        </p:nvSpPr>
        <p:spPr>
          <a:xfrm>
            <a:off x="60480" y="414360"/>
            <a:ext cx="76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ЦЕНОВОЕ ПОЗИЦИОН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9"/>
          <p:cNvSpPr/>
          <p:nvPr/>
        </p:nvSpPr>
        <p:spPr>
          <a:xfrm>
            <a:off x="2809800" y="406728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7"/>
          <p:cNvSpPr/>
          <p:nvPr/>
        </p:nvSpPr>
        <p:spPr>
          <a:xfrm>
            <a:off x="7459560" y="4583160"/>
            <a:ext cx="168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595959"/>
                </a:solidFill>
                <a:latin typeface="Arial"/>
              </a:rPr>
              <a:t>средняя цена на полке (Росс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трелка вправо 38"/>
          <p:cNvSpPr/>
          <p:nvPr/>
        </p:nvSpPr>
        <p:spPr>
          <a:xfrm>
            <a:off x="733320" y="4762440"/>
            <a:ext cx="7439040" cy="15210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ЦЕНА Жидкого мыла для интимной гигиены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«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РАСНАЯ ЛИН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=  - 45% от ЦЕНЫ Жидкого мыла для интимной гигиены  «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Nivea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Рисунок 18" descr="Красная-линия-Новый-подправленный-лого.gif"/>
          <p:cNvPicPr/>
          <p:nvPr/>
        </p:nvPicPr>
        <p:blipFill>
          <a:blip r:embed="rId2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17" descr="KL_intm_mylo_tea_tree.tif"/>
          <p:cNvPicPr/>
          <p:nvPr/>
        </p:nvPicPr>
        <p:blipFill>
          <a:blip r:embed="rId3"/>
          <a:stretch/>
        </p:blipFill>
        <p:spPr>
          <a:xfrm>
            <a:off x="284040" y="1863720"/>
            <a:ext cx="1606680" cy="22352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22" descr="KL_intm_mylo_aloe_vera.tif"/>
          <p:cNvPicPr/>
          <p:nvPr/>
        </p:nvPicPr>
        <p:blipFill>
          <a:blip r:embed="rId4"/>
          <a:stretch/>
        </p:blipFill>
        <p:spPr>
          <a:xfrm>
            <a:off x="1901880" y="1852560"/>
            <a:ext cx="1620720" cy="22557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6" descr="KL_intm_mylo_kalendula.tif"/>
          <p:cNvPicPr/>
          <p:nvPr/>
        </p:nvPicPr>
        <p:blipFill>
          <a:blip r:embed="rId5"/>
          <a:stretch/>
        </p:blipFill>
        <p:spPr>
          <a:xfrm>
            <a:off x="3551400" y="1863720"/>
            <a:ext cx="1608120" cy="223992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23" descr="KL_intm_mylo_young.tif"/>
          <p:cNvPicPr/>
          <p:nvPr/>
        </p:nvPicPr>
        <p:blipFill>
          <a:blip r:embed="rId6"/>
          <a:stretch/>
        </p:blipFill>
        <p:spPr>
          <a:xfrm>
            <a:off x="5170320" y="1900080"/>
            <a:ext cx="1552680" cy="2198880"/>
          </a:xfrm>
          <a:prstGeom prst="rect">
            <a:avLst/>
          </a:prstGeom>
          <a:ln w="0">
            <a:noFill/>
          </a:ln>
        </p:spPr>
      </p:pic>
      <p:sp>
        <p:nvSpPr>
          <p:cNvPr id="284" name="TextBox 29"/>
          <p:cNvSpPr/>
          <p:nvPr/>
        </p:nvSpPr>
        <p:spPr>
          <a:xfrm>
            <a:off x="6581880" y="406728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51"/>
          <p:cNvSpPr/>
          <p:nvPr/>
        </p:nvSpPr>
        <p:spPr>
          <a:xfrm>
            <a:off x="957240" y="3233880"/>
            <a:ext cx="76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ХОРОШИХ ПРОДАЖ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Рисунок 3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6" descr=""/>
          <p:cNvPicPr/>
          <p:nvPr/>
        </p:nvPicPr>
        <p:blipFill>
          <a:blip r:embed="rId1"/>
          <a:stretch/>
        </p:blipFill>
        <p:spPr>
          <a:xfrm>
            <a:off x="106200" y="2043000"/>
            <a:ext cx="8963280" cy="37814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351"/>
          <p:cNvSpPr/>
          <p:nvPr/>
        </p:nvSpPr>
        <p:spPr>
          <a:xfrm>
            <a:off x="60480" y="414360"/>
            <a:ext cx="76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спользование средств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нтимной гиги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7238880" y="632448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4D2B-17B6-4A0C-8AFC-FD5B0E079860}" type="slidenum">
              <a:rPr b="1" lang="ru-RU" sz="12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90440" y="1422360"/>
            <a:ext cx="81154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6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7f7f7f"/>
                </a:solidFill>
                <a:latin typeface="Tahoma"/>
              </a:rPr>
              <a:t>Средства для интимной гигиены используют 76% взрослых женщин, 28% девочек до 16 лет. Категория молодых девушек – перспективная и растущ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515880" y="5353200"/>
            <a:ext cx="1419120" cy="457200"/>
          </a:xfrm>
          <a:prstGeom prst="rect">
            <a:avLst/>
          </a:prstGeom>
          <a:noFill/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944720" y="5353200"/>
            <a:ext cx="1419120" cy="457200"/>
          </a:xfrm>
          <a:prstGeom prst="rect">
            <a:avLst/>
          </a:prstGeom>
          <a:noFill/>
          <a:ln w="158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2" descr="104087259">
            <a:hlinkClick r:id="rId2"/>
          </p:cNvPr>
          <p:cNvPicPr/>
          <p:nvPr/>
        </p:nvPicPr>
        <p:blipFill>
          <a:blip r:embed="rId3"/>
          <a:srcRect l="0" t="7662" r="0" b="0"/>
          <a:stretch/>
        </p:blipFill>
        <p:spPr>
          <a:xfrm>
            <a:off x="868320" y="2981160"/>
            <a:ext cx="674640" cy="933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View image detai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16240" y="3133800"/>
            <a:ext cx="614160" cy="933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View image detail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92640" y="3591000"/>
            <a:ext cx="525600" cy="790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View image detail"/>
          <p:cNvPicPr/>
          <p:nvPr/>
        </p:nvPicPr>
        <p:blipFill>
          <a:blip r:embed="rId8"/>
          <a:stretch/>
        </p:blipFill>
        <p:spPr>
          <a:xfrm>
            <a:off x="7954920" y="3895560"/>
            <a:ext cx="625680" cy="933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0" descr="View image detail"/>
          <p:cNvPicPr/>
          <p:nvPr/>
        </p:nvPicPr>
        <p:blipFill>
          <a:blip r:embed="rId9"/>
          <a:stretch/>
        </p:blipFill>
        <p:spPr>
          <a:xfrm>
            <a:off x="3687840" y="3286080"/>
            <a:ext cx="753840" cy="1009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View image detail"/>
          <p:cNvPicPr/>
          <p:nvPr/>
        </p:nvPicPr>
        <p:blipFill>
          <a:blip r:embed="rId10"/>
          <a:stretch/>
        </p:blipFill>
        <p:spPr>
          <a:xfrm>
            <a:off x="6659640" y="3743280"/>
            <a:ext cx="625320" cy="9334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Красная-линия-Новый-подправленный-лого.gif"/>
          <p:cNvPicPr/>
          <p:nvPr/>
        </p:nvPicPr>
        <p:blipFill>
          <a:blip r:embed="rId11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"/>
          <p:cNvPicPr/>
          <p:nvPr/>
        </p:nvPicPr>
        <p:blipFill>
          <a:blip r:embed="rId12"/>
          <a:stretch/>
        </p:blipFill>
        <p:spPr>
          <a:xfrm>
            <a:off x="7819920" y="5997600"/>
            <a:ext cx="1171800" cy="44604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ОО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Русская Косметика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+7(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495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98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krasnay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7210440" y="63817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Arial"/>
              </a:rPr>
              <a:t>Исследование 2011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324000" y="1986120"/>
            <a:ext cx="8584920" cy="36604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71360" y="1368360"/>
            <a:ext cx="86043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10800" anchor="t">
            <a:spAutoFit/>
          </a:bodyPr>
          <a:p>
            <a:pPr marL="9036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Tahoma"/>
              </a:rPr>
              <a:t>Целевая аудитория демонстрирует положительное отношение к интимной гигиене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0360">
              <a:lnSpc>
                <a:spcPct val="105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7f7f7f"/>
                </a:solidFill>
                <a:latin typeface="Tahoma"/>
              </a:rPr>
              <a:t>Средством для интимной гигиены должна пользоваться любая женщина, достигшая половой зрел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7238880" y="632448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6E2A-5C6B-4B08-8A06-ADE729E43F5C}" type="slidenum">
              <a:rPr b="1" lang="ru-RU" sz="12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7848720" y="2324160"/>
            <a:ext cx="53316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f81bd"/>
                </a:solidFill>
                <a:latin typeface="Tahoma"/>
              </a:rPr>
              <a:t>8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f81bd"/>
                </a:solidFill>
                <a:latin typeface="Tahoma"/>
              </a:rPr>
              <a:t>7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f81bd"/>
                </a:solidFill>
                <a:latin typeface="Tahoma"/>
              </a:rPr>
              <a:t>7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f81bd"/>
                </a:solidFill>
                <a:latin typeface="Tahoma"/>
              </a:rPr>
              <a:t>4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f81bd"/>
                </a:solidFill>
                <a:latin typeface="Tahoma"/>
              </a:rPr>
              <a:t>3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f81bd"/>
                </a:solidFill>
                <a:latin typeface="Tahoma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f81bd"/>
                </a:solidFill>
                <a:latin typeface="Tahoma"/>
              </a:rPr>
              <a:t>2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f81bd"/>
                </a:solidFill>
                <a:latin typeface="Tahoma"/>
              </a:rPr>
              <a:t>1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304920" y="2362320"/>
            <a:ext cx="4029120" cy="1238040"/>
          </a:xfrm>
          <a:prstGeom prst="rect">
            <a:avLst/>
          </a:prstGeom>
          <a:noFill/>
          <a:ln w="158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51"/>
          <p:cNvSpPr/>
          <p:nvPr/>
        </p:nvSpPr>
        <p:spPr>
          <a:xfrm>
            <a:off x="60480" y="414360"/>
            <a:ext cx="70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тношение к использованию средств для интимной гиги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4" descr="Красная-линия-Новый-подправленный-лого.gif"/>
          <p:cNvPicPr/>
          <p:nvPr/>
        </p:nvPicPr>
        <p:blipFill>
          <a:blip r:embed="rId2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"/>
          <p:cNvPicPr/>
          <p:nvPr/>
        </p:nvPicPr>
        <p:blipFill>
          <a:blip r:embed="rId3"/>
          <a:stretch/>
        </p:blipFill>
        <p:spPr>
          <a:xfrm>
            <a:off x="7819920" y="5997600"/>
            <a:ext cx="1171800" cy="44604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ОО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Русская Косметика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+7(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495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98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krasnay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8"/>
          <p:cNvSpPr/>
          <p:nvPr/>
        </p:nvSpPr>
        <p:spPr>
          <a:xfrm>
            <a:off x="7210440" y="63817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Arial"/>
              </a:rPr>
              <a:t>Исследование 2011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51"/>
          <p:cNvSpPr/>
          <p:nvPr/>
        </p:nvSpPr>
        <p:spPr>
          <a:xfrm>
            <a:off x="60480" y="414360"/>
            <a:ext cx="76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отивы использования средств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нтимной гиги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79280" y="1444680"/>
            <a:ext cx="8964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6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7f7f7f"/>
                </a:solidFill>
                <a:latin typeface="Tahoma"/>
              </a:rPr>
              <a:t>Основным мотивом использования средств для интимной гигиены является стремление к «идеальной» чистоте всего тела и в том числе деликатных зон: ежедневная гигиена и уход за собой (81%), профилактика интимного здоровья (52%),  желание комплексно ухаживать за собой (40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28600" y="2505240"/>
            <a:ext cx="3429000" cy="446040"/>
          </a:xfrm>
          <a:prstGeom prst="rect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7238880" y="632448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8BF5-9338-4DE3-81CD-FC454C405158}" type="slidenum">
              <a:rPr b="1" lang="ru-RU" sz="12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228600" y="3000240"/>
            <a:ext cx="3429000" cy="819360"/>
          </a:xfrm>
          <a:prstGeom prst="rect">
            <a:avLst/>
          </a:prstGeom>
          <a:noFill/>
          <a:ln w="1908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4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"/>
          <p:cNvPicPr/>
          <p:nvPr/>
        </p:nvPicPr>
        <p:blipFill>
          <a:blip r:embed="rId2"/>
          <a:stretch/>
        </p:blipFill>
        <p:spPr>
          <a:xfrm>
            <a:off x="295200" y="2463840"/>
            <a:ext cx="8610840" cy="3629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"/>
          <p:cNvPicPr/>
          <p:nvPr/>
        </p:nvPicPr>
        <p:blipFill>
          <a:blip r:embed="rId3"/>
          <a:stretch/>
        </p:blipFill>
        <p:spPr>
          <a:xfrm>
            <a:off x="7819920" y="5997600"/>
            <a:ext cx="1171800" cy="446040"/>
          </a:xfrm>
          <a:prstGeom prst="rect">
            <a:avLst/>
          </a:prstGeom>
          <a:ln w="0">
            <a:noFill/>
          </a:ln>
        </p:spPr>
      </p:pic>
      <p:sp>
        <p:nvSpPr>
          <p:cNvPr id="207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ОО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Русская Косметика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+7(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495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98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krasnay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7"/>
          <p:cNvSpPr/>
          <p:nvPr/>
        </p:nvSpPr>
        <p:spPr>
          <a:xfrm>
            <a:off x="7210440" y="63817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Arial"/>
              </a:rPr>
              <a:t>Исследование 2011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3"/>
          <p:cNvSpPr/>
          <p:nvPr/>
        </p:nvSpPr>
        <p:spPr>
          <a:xfrm>
            <a:off x="7238880" y="632448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0DF0-32DB-4256-95AB-60C044A71D82}" type="slidenum">
              <a:rPr b="1" lang="ru-RU" sz="12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4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"/>
          <p:cNvPicPr/>
          <p:nvPr/>
        </p:nvPicPr>
        <p:blipFill>
          <a:blip r:embed="rId2"/>
          <a:stretch/>
        </p:blipFill>
        <p:spPr>
          <a:xfrm>
            <a:off x="7819920" y="6102360"/>
            <a:ext cx="1171800" cy="446040"/>
          </a:xfrm>
          <a:prstGeom prst="rect">
            <a:avLst/>
          </a:prstGeom>
          <a:ln w="0">
            <a:noFill/>
          </a:ln>
        </p:spPr>
      </p:pic>
      <p:sp>
        <p:nvSpPr>
          <p:cNvPr id="212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ОО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Русская Косметика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+7(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495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98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krasnay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587840" y="1959120"/>
            <a:ext cx="416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ahoma"/>
              </a:rPr>
              <a:t>«Красная Линия»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вляется абсолютным лидером по уровню потребления в категории средств для интимной гигиены с уровнем проникновения 56% и долей  регулярных потребителей 29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4587840" y="3676680"/>
            <a:ext cx="4175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 выборке в целом </a:t>
            </a:r>
            <a:r>
              <a:rPr b="1" lang="ru-RU" sz="1400" spc="-1" strike="noStrike">
                <a:solidFill>
                  <a:srgbClr val="c00000"/>
                </a:solidFill>
                <a:latin typeface="Tahoma"/>
              </a:rPr>
              <a:t>«Красная Линия»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вляется абсолютным лидером и по уровню знания рекламы с существенным отрывом от конкурентов – 36% назвали рекламу первой, 49% вспомнили с подсказ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8"/>
          <p:cNvSpPr/>
          <p:nvPr/>
        </p:nvSpPr>
        <p:spPr>
          <a:xfrm>
            <a:off x="7210440" y="63817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Arial"/>
              </a:rPr>
              <a:t>Исследование 2011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4587840" y="5324400"/>
            <a:ext cx="417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ahoma"/>
              </a:rPr>
              <a:t>«Красная Линия»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эффективна с точки зрения привлечения новых потребителей и хорошо удерживает текущих потреб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1057320" y="1790640"/>
            <a:ext cx="2819520" cy="3621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703440" indent="-181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ьзовались когда-либ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057320" y="2305080"/>
            <a:ext cx="2819520" cy="342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703440" indent="-181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льзовались за посл. 12 ме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057320" y="2828880"/>
            <a:ext cx="2819520" cy="304920"/>
          </a:xfrm>
          <a:prstGeom prst="rect">
            <a:avLst/>
          </a:prstGeom>
          <a:solidFill>
            <a:srgbClr val="c00000"/>
          </a:solidFill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703440" indent="-181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льзуются чаще 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9"/>
          <p:cNvSpPr/>
          <p:nvPr/>
        </p:nvSpPr>
        <p:spPr>
          <a:xfrm>
            <a:off x="390600" y="1695600"/>
            <a:ext cx="7617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360360" indent="-181080"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2"/>
          <p:cNvSpPr/>
          <p:nvPr/>
        </p:nvSpPr>
        <p:spPr>
          <a:xfrm>
            <a:off x="390600" y="2190600"/>
            <a:ext cx="761760" cy="3812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360360" indent="-181080"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4"/>
          <p:cNvSpPr/>
          <p:nvPr/>
        </p:nvSpPr>
        <p:spPr>
          <a:xfrm>
            <a:off x="390600" y="2676600"/>
            <a:ext cx="761760" cy="38088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360360" indent="-181080"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4029120" y="1828800"/>
            <a:ext cx="152280" cy="1380960"/>
          </a:xfrm>
          <a:custGeom>
            <a:avLst/>
            <a:gdLst>
              <a:gd name="textAreaLeft" fmla="*/ 0 w 152280"/>
              <a:gd name="textAreaRight" fmla="*/ 55080 w 152280"/>
              <a:gd name="textAreaTop" fmla="*/ 36000 h 1380960"/>
              <a:gd name="textAreaBottom" fmla="*/ 1344960 h 13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066680" y="5648400"/>
            <a:ext cx="2819520" cy="45720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703440" indent="-181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декс привл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4"/>
          <p:cNvSpPr/>
          <p:nvPr/>
        </p:nvSpPr>
        <p:spPr>
          <a:xfrm>
            <a:off x="399960" y="5572080"/>
            <a:ext cx="76212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360360" indent="-181080"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990720" y="3619440"/>
            <a:ext cx="2892240" cy="4190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703440" indent="-181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ют с подска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990720" y="4210200"/>
            <a:ext cx="2892240" cy="4190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703440" indent="-181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ывают спонта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7"/>
          <p:cNvSpPr/>
          <p:nvPr/>
        </p:nvSpPr>
        <p:spPr>
          <a:xfrm>
            <a:off x="399960" y="346716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360360" indent="-181080"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8"/>
          <p:cNvSpPr/>
          <p:nvPr/>
        </p:nvSpPr>
        <p:spPr>
          <a:xfrm>
            <a:off x="399960" y="4057560"/>
            <a:ext cx="762120" cy="3812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360360" indent="-181080"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3962520" y="3543480"/>
            <a:ext cx="152280" cy="1733400"/>
          </a:xfrm>
          <a:custGeom>
            <a:avLst/>
            <a:gdLst>
              <a:gd name="textAreaLeft" fmla="*/ 0 w 152280"/>
              <a:gd name="textAreaRight" fmla="*/ 55080 w 152280"/>
              <a:gd name="textAreaTop" fmla="*/ 45000 h 1733400"/>
              <a:gd name="textAreaBottom" fmla="*/ 1688400 h 173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990720" y="4809960"/>
            <a:ext cx="2892240" cy="4194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703440" indent="-181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ывают пер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399960" y="4657680"/>
            <a:ext cx="76212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360360" indent="-181080"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51"/>
          <p:cNvSpPr/>
          <p:nvPr/>
        </p:nvSpPr>
        <p:spPr>
          <a:xfrm>
            <a:off x="-258840" y="352440"/>
            <a:ext cx="792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«КРАСНАЯ ЛИНИЯ» – лид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 категории средств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нтимной гиги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9" descr="TovarGoda_2010.gif"/>
          <p:cNvPicPr/>
          <p:nvPr/>
        </p:nvPicPr>
        <p:blipFill>
          <a:blip r:embed="rId1"/>
          <a:stretch/>
        </p:blipFill>
        <p:spPr>
          <a:xfrm>
            <a:off x="390600" y="1830240"/>
            <a:ext cx="1993680" cy="42181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351"/>
          <p:cNvSpPr/>
          <p:nvPr/>
        </p:nvSpPr>
        <p:spPr>
          <a:xfrm>
            <a:off x="-258840" y="352440"/>
            <a:ext cx="792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«КРАСНАЯ ЛИНИЯ» – лучш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оссийский бренд в 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жидкое мы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1"/>
          <p:cNvSpPr/>
          <p:nvPr/>
        </p:nvSpPr>
        <p:spPr>
          <a:xfrm>
            <a:off x="2790720" y="1996920"/>
            <a:ext cx="581040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торой год подряд бренд «КРАСНАЯ ЛИНИЯ» становится лауреатом премии «Лучший российский бренд  в категории «ЖИДКОЕ МЫЛО» и получает звезду ТОВАР ГОДА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сероссийская премия «Товар года» учреждена в 1998 году Независимой торговой ассоциацией России (НТА) и присуждается лидерам продаж - самым популярным товарам массового спроса. Совместно с НТА конкурс проводит Московская международная бизнес-ассоциация при поддержке Торгово-промышленной палаты РФ под патронажем Правительства Москвы. Партнёрами Премии выступают ведущие исследовательские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Nielsen и КОМК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4" descr="Красная-линия-Новый-подправленный-лого.gif"/>
          <p:cNvPicPr/>
          <p:nvPr/>
        </p:nvPicPr>
        <p:blipFill>
          <a:blip r:embed="rId2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351"/>
          <p:cNvSpPr/>
          <p:nvPr/>
        </p:nvSpPr>
        <p:spPr>
          <a:xfrm>
            <a:off x="60480" y="414360"/>
            <a:ext cx="76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редства для интимной гиги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10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16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6" descr="KL_intm_mylo_kalendula.tif"/>
          <p:cNvPicPr/>
          <p:nvPr/>
        </p:nvPicPr>
        <p:blipFill>
          <a:blip r:embed="rId2"/>
          <a:stretch/>
        </p:blipFill>
        <p:spPr>
          <a:xfrm>
            <a:off x="179280" y="1392120"/>
            <a:ext cx="1608120" cy="22399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7" descr="KL_intm_mylo_tea_tree.tif"/>
          <p:cNvPicPr/>
          <p:nvPr/>
        </p:nvPicPr>
        <p:blipFill>
          <a:blip r:embed="rId3"/>
          <a:stretch/>
        </p:blipFill>
        <p:spPr>
          <a:xfrm>
            <a:off x="3794040" y="1397160"/>
            <a:ext cx="1606680" cy="22348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8" descr="KL_intm_mylo_karkade.tif"/>
          <p:cNvPicPr/>
          <p:nvPr/>
        </p:nvPicPr>
        <p:blipFill>
          <a:blip r:embed="rId4"/>
          <a:stretch/>
        </p:blipFill>
        <p:spPr>
          <a:xfrm>
            <a:off x="5530680" y="3803760"/>
            <a:ext cx="1578240" cy="22064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9" descr="KL_intm_mylo_Negnyi_gel.tif"/>
          <p:cNvPicPr/>
          <p:nvPr/>
        </p:nvPicPr>
        <p:blipFill>
          <a:blip r:embed="rId5"/>
          <a:stretch/>
        </p:blipFill>
        <p:spPr>
          <a:xfrm>
            <a:off x="2006640" y="3800520"/>
            <a:ext cx="1585800" cy="22176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20" descr="KL_intm_mylo_milk_kislota.tif"/>
          <p:cNvPicPr/>
          <p:nvPr/>
        </p:nvPicPr>
        <p:blipFill>
          <a:blip r:embed="rId6"/>
          <a:stretch/>
        </p:blipFill>
        <p:spPr>
          <a:xfrm>
            <a:off x="190440" y="3800520"/>
            <a:ext cx="1581120" cy="22114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21" descr="KL_intm_penka_negnaya.tif"/>
          <p:cNvPicPr/>
          <p:nvPr/>
        </p:nvPicPr>
        <p:blipFill>
          <a:blip r:embed="rId7"/>
          <a:stretch/>
        </p:blipFill>
        <p:spPr>
          <a:xfrm>
            <a:off x="5683320" y="942840"/>
            <a:ext cx="717480" cy="268920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22" descr="KL_intm_mylo_aloe_vera.tif"/>
          <p:cNvPicPr/>
          <p:nvPr/>
        </p:nvPicPr>
        <p:blipFill>
          <a:blip r:embed="rId8"/>
          <a:stretch/>
        </p:blipFill>
        <p:spPr>
          <a:xfrm>
            <a:off x="2006640" y="1376280"/>
            <a:ext cx="1620720" cy="22557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23" descr="KL_intm_mylo_young.tif"/>
          <p:cNvPicPr/>
          <p:nvPr/>
        </p:nvPicPr>
        <p:blipFill>
          <a:blip r:embed="rId9"/>
          <a:stretch/>
        </p:blipFill>
        <p:spPr>
          <a:xfrm>
            <a:off x="7313760" y="3800520"/>
            <a:ext cx="1552320" cy="219852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24" descr="KL_intm_mylo_hlopok.tif"/>
          <p:cNvPicPr/>
          <p:nvPr/>
        </p:nvPicPr>
        <p:blipFill>
          <a:blip r:embed="rId10"/>
          <a:stretch/>
        </p:blipFill>
        <p:spPr>
          <a:xfrm>
            <a:off x="3811680" y="3800520"/>
            <a:ext cx="1573200" cy="21891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25" descr="KL_Salfetki_Intim_genshin.tif"/>
          <p:cNvPicPr/>
          <p:nvPr/>
        </p:nvPicPr>
        <p:blipFill>
          <a:blip r:embed="rId11"/>
          <a:stretch/>
        </p:blipFill>
        <p:spPr>
          <a:xfrm>
            <a:off x="6576840" y="2133720"/>
            <a:ext cx="2467080" cy="1450800"/>
          </a:xfrm>
          <a:prstGeom prst="rect">
            <a:avLst/>
          </a:prstGeom>
          <a:ln w="0">
            <a:noFill/>
          </a:ln>
        </p:spPr>
      </p:pic>
      <p:sp>
        <p:nvSpPr>
          <p:cNvPr id="250" name="Овальная выноска 13"/>
          <p:cNvSpPr/>
          <p:nvPr/>
        </p:nvSpPr>
        <p:spPr>
          <a:xfrm>
            <a:off x="3254400" y="950760"/>
            <a:ext cx="1333440" cy="511200"/>
          </a:xfrm>
          <a:prstGeom prst="wedgeEllipseCallout">
            <a:avLst>
              <a:gd name="adj1" fmla="val 26310"/>
              <a:gd name="adj2" fmla="val 16498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0033"/>
                </a:solidFill>
                <a:latin typeface="Calibri"/>
              </a:rPr>
              <a:t>ТВ РЕКЛАМА 2011</a:t>
            </a:r>
            <a:r>
              <a:rPr b="1" lang="en-US" sz="1000" spc="-1" strike="noStrike">
                <a:solidFill>
                  <a:srgbClr val="990033"/>
                </a:solidFill>
                <a:latin typeface="Calibri"/>
              </a:rPr>
              <a:t>-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1"/>
          <p:cNvSpPr/>
          <p:nvPr/>
        </p:nvSpPr>
        <p:spPr>
          <a:xfrm>
            <a:off x="3390840" y="1514520"/>
            <a:ext cx="56008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Жидкое мыло для интимной гигиены нежно очищает, поддерживает естеств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аланс кожи, сохраняет надолго ощущение свежести и чистоты. Гипоаллергенно.  Рекомендовано гинекологами для ежедневного ис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ендула оказывает антисептическое и противовоспалительное дей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лоэ Вера обладает успокаивающим действием, обеспечивает надежную защиту, предупреждает раздражения и покрас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ло австралийского чайного дерева обладает антисептическим и противовоспалительным действием. Жидкое мыло с маслом чайного дерева надолго сохраняет ощущение свежести и чист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лочная кислота поддерживает  естественный баланс кожной экофлоры интимных участков тела. Придает длительную свежесть и комфо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кстракт ромашки оказывает успокаивающее и смягчающее дей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17" descr="KL_intm_mylo_tea_tree.tif"/>
          <p:cNvPicPr/>
          <p:nvPr/>
        </p:nvPicPr>
        <p:blipFill>
          <a:blip r:embed="rId1"/>
          <a:stretch/>
        </p:blipFill>
        <p:spPr>
          <a:xfrm>
            <a:off x="276120" y="3137040"/>
            <a:ext cx="1397160" cy="19447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22" descr="KL_intm_mylo_aloe_vera.tif"/>
          <p:cNvPicPr/>
          <p:nvPr/>
        </p:nvPicPr>
        <p:blipFill>
          <a:blip r:embed="rId2"/>
          <a:stretch/>
        </p:blipFill>
        <p:spPr>
          <a:xfrm>
            <a:off x="1797120" y="1352520"/>
            <a:ext cx="1409760" cy="1962360"/>
          </a:xfrm>
          <a:prstGeom prst="rect">
            <a:avLst/>
          </a:prstGeom>
          <a:ln w="0">
            <a:noFill/>
          </a:ln>
        </p:spPr>
      </p:pic>
      <p:sp>
        <p:nvSpPr>
          <p:cNvPr id="254" name="TextBox 351"/>
          <p:cNvSpPr/>
          <p:nvPr/>
        </p:nvSpPr>
        <p:spPr>
          <a:xfrm>
            <a:off x="60480" y="414360"/>
            <a:ext cx="76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Жидкое мыло для интимной гиги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Рисунок 16" descr="Красная-линия-Новый-подправленный-лого.gif"/>
          <p:cNvPicPr/>
          <p:nvPr/>
        </p:nvPicPr>
        <p:blipFill>
          <a:blip r:embed="rId3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16" descr="KL_intm_mylo_kalendula.tif"/>
          <p:cNvPicPr/>
          <p:nvPr/>
        </p:nvPicPr>
        <p:blipFill>
          <a:blip r:embed="rId4"/>
          <a:stretch/>
        </p:blipFill>
        <p:spPr>
          <a:xfrm>
            <a:off x="419040" y="1235160"/>
            <a:ext cx="1370160" cy="190800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0" descr="KL_intm_mylo_milk_kislota.tif"/>
          <p:cNvPicPr/>
          <p:nvPr/>
        </p:nvPicPr>
        <p:blipFill>
          <a:blip r:embed="rId5"/>
          <a:stretch/>
        </p:blipFill>
        <p:spPr>
          <a:xfrm>
            <a:off x="3203640" y="3863880"/>
            <a:ext cx="1374840" cy="192420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14" descr="NII_MT.gif"/>
          <p:cNvPicPr/>
          <p:nvPr/>
        </p:nvPicPr>
        <p:blipFill>
          <a:blip r:embed="rId6"/>
          <a:stretch/>
        </p:blipFill>
        <p:spPr>
          <a:xfrm>
            <a:off x="717480" y="5291280"/>
            <a:ext cx="892080" cy="88560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9" descr="TovarGoda_2010.gif"/>
          <p:cNvPicPr/>
          <p:nvPr/>
        </p:nvPicPr>
        <p:blipFill>
          <a:blip r:embed="rId7"/>
          <a:stretch/>
        </p:blipFill>
        <p:spPr>
          <a:xfrm>
            <a:off x="0" y="5105520"/>
            <a:ext cx="698400" cy="14763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16" descr="Европейский-стандарт.gif"/>
          <p:cNvPicPr/>
          <p:nvPr/>
        </p:nvPicPr>
        <p:blipFill>
          <a:blip r:embed="rId8"/>
          <a:stretch/>
        </p:blipFill>
        <p:spPr>
          <a:xfrm>
            <a:off x="1479600" y="5438880"/>
            <a:ext cx="1127160" cy="97308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23" descr="KL_intm_mylo_young.tif"/>
          <p:cNvPicPr/>
          <p:nvPr/>
        </p:nvPicPr>
        <p:blipFill>
          <a:blip r:embed="rId9"/>
          <a:stretch/>
        </p:blipFill>
        <p:spPr>
          <a:xfrm>
            <a:off x="1724040" y="3413160"/>
            <a:ext cx="1454040" cy="2058840"/>
          </a:xfrm>
          <a:prstGeom prst="rect">
            <a:avLst/>
          </a:prstGeom>
          <a:ln w="0">
            <a:noFill/>
          </a:ln>
        </p:spPr>
      </p:pic>
      <p:sp>
        <p:nvSpPr>
          <p:cNvPr id="262" name="Овальная выноска 20"/>
          <p:cNvSpPr/>
          <p:nvPr/>
        </p:nvSpPr>
        <p:spPr>
          <a:xfrm>
            <a:off x="3105000" y="3157560"/>
            <a:ext cx="1333800" cy="511200"/>
          </a:xfrm>
          <a:prstGeom prst="wedgeEllipseCallout">
            <a:avLst>
              <a:gd name="adj1" fmla="val -76546"/>
              <a:gd name="adj2" fmla="val 11094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0033"/>
                </a:solidFill>
                <a:latin typeface="Calibri"/>
              </a:rPr>
              <a:t>Специально для девочек от 12 л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21" descr="KL_intm_penka_negnaya.tif"/>
          <p:cNvPicPr/>
          <p:nvPr/>
        </p:nvPicPr>
        <p:blipFill>
          <a:blip r:embed="rId1"/>
          <a:stretch/>
        </p:blipFill>
        <p:spPr>
          <a:xfrm>
            <a:off x="461880" y="3038400"/>
            <a:ext cx="58896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24" descr="KL_intm_mylo_hlopok.tif"/>
          <p:cNvPicPr/>
          <p:nvPr/>
        </p:nvPicPr>
        <p:blipFill>
          <a:blip r:embed="rId2"/>
          <a:stretch/>
        </p:blipFill>
        <p:spPr>
          <a:xfrm>
            <a:off x="1533600" y="1887480"/>
            <a:ext cx="1276200" cy="17766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351"/>
          <p:cNvSpPr/>
          <p:nvPr/>
        </p:nvSpPr>
        <p:spPr>
          <a:xfrm>
            <a:off x="60480" y="414360"/>
            <a:ext cx="76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пециальный уход для интимной гигиены 5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16" descr="Красная-линия-Новый-подправленный-лого.gif"/>
          <p:cNvPicPr/>
          <p:nvPr/>
        </p:nvPicPr>
        <p:blipFill>
          <a:blip r:embed="rId3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19" descr="KL_intm_mylo_Negnyi_gel.tif"/>
          <p:cNvPicPr/>
          <p:nvPr/>
        </p:nvPicPr>
        <p:blipFill>
          <a:blip r:embed="rId4"/>
          <a:stretch/>
        </p:blipFill>
        <p:spPr>
          <a:xfrm>
            <a:off x="190440" y="1301760"/>
            <a:ext cx="1287360" cy="180036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25" descr="KL_Salfetki_Intim_genshin.tif"/>
          <p:cNvPicPr/>
          <p:nvPr/>
        </p:nvPicPr>
        <p:blipFill>
          <a:blip r:embed="rId5"/>
          <a:stretch/>
        </p:blipFill>
        <p:spPr>
          <a:xfrm>
            <a:off x="1190520" y="4224240"/>
            <a:ext cx="1631880" cy="95904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11"/>
          <p:cNvSpPr/>
          <p:nvPr/>
        </p:nvSpPr>
        <p:spPr>
          <a:xfrm>
            <a:off x="3857760" y="1724040"/>
            <a:ext cx="50482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ежный гел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я интимной гигиены обладает более мягкой текстурой и подходит для людей с чувствительной кожей интимных участков тела. Гел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едупреждает появление раздражений и покрасн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и надолго дарит ощущение комф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рем-мыл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для интимной гигиены с экстрактом хлопка прекрасно очищает, смягчает и успокаивает интимные участки тела, кроме тог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едупреждает появление сух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Жидкое мыло для интимной гигиены  с экстрактом каркаде специально создан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я использования в  критические дн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 Экстракт каркаде обладает противовоспалительным действием, а специально разработанный комплек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Colic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оздает защитный барьер кожной экофл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ягкая пенка  создана для  ухода за самыми нежными участками тела. Экстракт белой лилии успокаивает, поддерживает необходимый уровень увлажненности ко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лажные салфетки для интимной гигиены  мягко и тщательно очищают интимные участки тела, удобны в применении и незаменимы в дали от д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Рисунок 18" descr="KL_intm_mylo_karkade.tif"/>
          <p:cNvPicPr/>
          <p:nvPr/>
        </p:nvPicPr>
        <p:blipFill>
          <a:blip r:embed="rId6"/>
          <a:stretch/>
        </p:blipFill>
        <p:spPr>
          <a:xfrm>
            <a:off x="2951280" y="2525760"/>
            <a:ext cx="1347840" cy="188424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20" descr="NII_MT.gif"/>
          <p:cNvPicPr/>
          <p:nvPr/>
        </p:nvPicPr>
        <p:blipFill>
          <a:blip r:embed="rId7"/>
          <a:stretch/>
        </p:blipFill>
        <p:spPr>
          <a:xfrm>
            <a:off x="717480" y="5291280"/>
            <a:ext cx="892080" cy="88560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9" descr="TovarGoda_2010.gif"/>
          <p:cNvPicPr/>
          <p:nvPr/>
        </p:nvPicPr>
        <p:blipFill>
          <a:blip r:embed="rId8"/>
          <a:stretch/>
        </p:blipFill>
        <p:spPr>
          <a:xfrm>
            <a:off x="0" y="5105520"/>
            <a:ext cx="698400" cy="14763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22" descr="Европейский-стандарт.gif"/>
          <p:cNvPicPr/>
          <p:nvPr/>
        </p:nvPicPr>
        <p:blipFill>
          <a:blip r:embed="rId9"/>
          <a:stretch/>
        </p:blipFill>
        <p:spPr>
          <a:xfrm>
            <a:off x="1479600" y="5438880"/>
            <a:ext cx="112716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2:46:05Z</dcterms:created>
  <dc:creator>akhiyarova</dc:creator>
  <dc:description/>
  <dc:language>en-US</dc:language>
  <cp:lastModifiedBy>solovieva</cp:lastModifiedBy>
  <dcterms:modified xsi:type="dcterms:W3CDTF">2012-03-30T10:55:58Z</dcterms:modified>
  <cp:revision>661</cp:revision>
  <dc:subject/>
  <dc:title>Слайд 1</dc:title>
</cp:coreProperties>
</file>