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F35-2428-49FF-A127-207CFD8D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858-3B9B-4AC6-AB4A-A1EBAA1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9E4-53FC-4FA3-BE8F-6CC48A5B1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9FB-B41D-43F8-971A-7D91EB50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72FD-98DA-4A81-9E7A-F0CC0B57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4A4D-F211-4B49-9391-A964C7DC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842D-FDE8-4AA7-8F6B-CBC49F42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6F14-248B-46A4-996B-A2BEF2FD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DCC9-FB33-4065-923B-B30CDB9C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25D1-02D1-424C-8AFC-7338946E2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C3A9-B031-4F62-95CA-55390D24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9AF-0415-4947-B609-02AD4D16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DB85-8E0E-4996-926E-761053E4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F5F4-0718-4142-9D38-C8E5E533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45AB-4A68-4DE3-9DD6-A298F69A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D06A-6668-4733-9431-9C893B30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52B3-BAE3-41C6-9663-B4A8A834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8B0A4D-8E60-4391-868C-3003083C1C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F5E46-5AF3-43B5-8A76-8C383B7054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A161D8-B2BC-45E6-9CD3-810589EEB8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38B4BD-33A0-40E1-9165-5B33624454C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5135F-C03B-417D-9554-5897660AB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68E-926A-45F2-B956-7C17DF93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F9940-1DCB-4BDD-8608-220A735588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DA78A-1A50-436D-A138-80F5CA956D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82348E-7425-451A-9993-42A8B3D283C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D56BC-0115-49FA-A849-B796653EA8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249501-6633-436C-9AFF-D38EF221E2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C71338-A4F0-4980-ADA3-400538D043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EA66AE-0819-406D-8BB9-3264CF001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CD0-645E-45D3-8469-C3BC68ED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44E0-DA40-41C8-AE91-DECBC09B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3A51-D39C-491D-8455-E1927D55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111B-35AB-4380-973E-6C219B46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F20-B43E-458A-99F0-D27DA408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AB1-496B-4217-B407-237A558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0854-0644-4A18-BE62-6E8D30FA1E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3"/>
          <p:cNvSpPr/>
          <p:nvPr/>
        </p:nvSpPr>
        <p:spPr>
          <a:xfrm>
            <a:off x="539640" y="6453360"/>
            <a:ext cx="4464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ТД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Красная Линия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                                             тел. 495-982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aroma.b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6" descr="LOGOTIP_Red_Line.jpg"/>
          <p:cNvPicPr/>
          <p:nvPr/>
        </p:nvPicPr>
        <p:blipFill>
          <a:blip r:embed="rId2"/>
          <a:stretch/>
        </p:blipFill>
        <p:spPr>
          <a:xfrm>
            <a:off x="8031240" y="76320"/>
            <a:ext cx="966600" cy="9493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F742-6515-401A-887D-7B3C3E0706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3"/>
          <p:cNvSpPr/>
          <p:nvPr/>
        </p:nvSpPr>
        <p:spPr>
          <a:xfrm>
            <a:off x="539640" y="6568920"/>
            <a:ext cx="72280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ООО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Русская Косметика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”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г. Одинцово, ул.Вокзальная, 53 , тел.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+7(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495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) 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98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-92-00  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krasnaya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03BA-BD7F-45F2-A743-9BAC5EDCB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351"/>
          <p:cNvSpPr/>
          <p:nvPr/>
        </p:nvSpPr>
        <p:spPr>
          <a:xfrm>
            <a:off x="444600" y="3811680"/>
            <a:ext cx="815184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00000"/>
                </a:solidFill>
                <a:latin typeface="Arial"/>
              </a:rPr>
              <a:t>ГЕЛИ ДЛЯ ДУША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3" descr="Logo Krasnaya Liniya.tif"/>
          <p:cNvPicPr/>
          <p:nvPr/>
        </p:nvPicPr>
        <p:blipFill>
          <a:blip r:embed="rId1"/>
          <a:stretch/>
        </p:blipFill>
        <p:spPr>
          <a:xfrm>
            <a:off x="3218040" y="1074600"/>
            <a:ext cx="248256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7" descr=""/>
          <p:cNvPicPr/>
          <p:nvPr/>
        </p:nvPicPr>
        <p:blipFill>
          <a:blip r:embed="rId1"/>
          <a:stretch/>
        </p:blipFill>
        <p:spPr>
          <a:xfrm>
            <a:off x="39600" y="752400"/>
            <a:ext cx="8983800" cy="587052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7"/>
          <p:cNvSpPr/>
          <p:nvPr/>
        </p:nvSpPr>
        <p:spPr>
          <a:xfrm>
            <a:off x="6265800" y="643896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f7f7f"/>
                </a:solidFill>
                <a:latin typeface="Arial"/>
              </a:rPr>
              <a:t>Данные </a:t>
            </a:r>
            <a:r>
              <a:rPr b="0" i="1" lang="en-US" sz="1200" spc="-1" strike="noStrike">
                <a:solidFill>
                  <a:srgbClr val="7f7f7f"/>
                </a:solidFill>
                <a:latin typeface="Arial"/>
              </a:rPr>
              <a:t>M’Index 2011</a:t>
            </a:r>
            <a:r>
              <a:rPr b="0" i="1" lang="ru-RU" sz="1200" spc="-1" strike="noStrike">
                <a:solidFill>
                  <a:srgbClr val="7f7f7f"/>
                </a:solidFill>
                <a:latin typeface="Arial"/>
              </a:rPr>
              <a:t>, 1 квар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28"/>
          <p:cNvSpPr/>
          <p:nvPr/>
        </p:nvSpPr>
        <p:spPr>
          <a:xfrm>
            <a:off x="5761080" y="2967120"/>
            <a:ext cx="576360" cy="3016080"/>
          </a:xfrm>
          <a:prstGeom prst="rect">
            <a:avLst/>
          </a:prstGeom>
          <a:noFill/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6" descr="Logo Krasnaya Liniya.tif"/>
          <p:cNvPicPr/>
          <p:nvPr/>
        </p:nvPicPr>
        <p:blipFill>
          <a:blip r:embed="rId2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РЫНОК ГЕЛЕЙ ДЛЯ ДУ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2" descr=""/>
          <p:cNvPicPr/>
          <p:nvPr/>
        </p:nvPicPr>
        <p:blipFill>
          <a:blip r:embed="rId1"/>
          <a:stretch/>
        </p:blipFill>
        <p:spPr>
          <a:xfrm>
            <a:off x="3692520" y="439560"/>
            <a:ext cx="915840" cy="2449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ENSOTERAPIA 9 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11" descr="Logo Krasnaya Liniya.tif"/>
          <p:cNvPicPr/>
          <p:nvPr/>
        </p:nvPicPr>
        <p:blipFill>
          <a:blip r:embed="rId2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4" descr="KL_ST_Gel for dusha_vsplesk energii_260ml.jpg"/>
          <p:cNvPicPr/>
          <p:nvPr/>
        </p:nvPicPr>
        <p:blipFill>
          <a:blip r:embed="rId3"/>
          <a:stretch/>
        </p:blipFill>
        <p:spPr>
          <a:xfrm>
            <a:off x="3351240" y="2995560"/>
            <a:ext cx="930240" cy="25002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20" descr="KL_ST_Gel for dusha_shokolad soblazn_260ml.jpg"/>
          <p:cNvPicPr/>
          <p:nvPr/>
        </p:nvPicPr>
        <p:blipFill>
          <a:blip r:embed="rId4"/>
          <a:stretch/>
        </p:blipFill>
        <p:spPr>
          <a:xfrm>
            <a:off x="4745160" y="779400"/>
            <a:ext cx="927000" cy="25002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2" descr="KL_ST_Gel for dusha_iskushenie_260ml.jpg"/>
          <p:cNvPicPr/>
          <p:nvPr/>
        </p:nvPicPr>
        <p:blipFill>
          <a:blip r:embed="rId5"/>
          <a:stretch/>
        </p:blipFill>
        <p:spPr>
          <a:xfrm>
            <a:off x="2273400" y="2679840"/>
            <a:ext cx="930240" cy="25002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24" descr="KL_ST_Gel for dusha_vkus lubvi_260ml.jpg"/>
          <p:cNvPicPr/>
          <p:nvPr/>
        </p:nvPicPr>
        <p:blipFill>
          <a:blip r:embed="rId6"/>
          <a:stretch/>
        </p:blipFill>
        <p:spPr>
          <a:xfrm>
            <a:off x="5821200" y="2038320"/>
            <a:ext cx="927360" cy="250020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29" descr="KL_ST_Gel for dusha_shestoe chuvstvo_260ml.jpg"/>
          <p:cNvPicPr/>
          <p:nvPr/>
        </p:nvPicPr>
        <p:blipFill>
          <a:blip r:embed="rId7"/>
          <a:stretch/>
        </p:blipFill>
        <p:spPr>
          <a:xfrm>
            <a:off x="7983360" y="3071880"/>
            <a:ext cx="927360" cy="2500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30" descr="KL_ST_Gel for dusha_svegest chuvstv_260ml.jpg"/>
          <p:cNvPicPr/>
          <p:nvPr/>
        </p:nvPicPr>
        <p:blipFill>
          <a:blip r:embed="rId8"/>
          <a:stretch/>
        </p:blipFill>
        <p:spPr>
          <a:xfrm>
            <a:off x="6905520" y="2627280"/>
            <a:ext cx="928800" cy="2500200"/>
          </a:xfrm>
          <a:prstGeom prst="rect">
            <a:avLst/>
          </a:prstGeom>
          <a:ln w="0">
            <a:noFill/>
          </a:ln>
        </p:spPr>
      </p:pic>
      <p:sp>
        <p:nvSpPr>
          <p:cNvPr id="140" name="8-конечная звезда 31"/>
          <p:cNvSpPr/>
          <p:nvPr/>
        </p:nvSpPr>
        <p:spPr>
          <a:xfrm>
            <a:off x="2827440" y="561960"/>
            <a:ext cx="1101600" cy="952560"/>
          </a:xfrm>
          <a:custGeom>
            <a:avLst/>
            <a:gdLst>
              <a:gd name="textAreaLeft" fmla="*/ 258480 w 1101600"/>
              <a:gd name="textAreaRight" fmla="*/ 843120 w 1101600"/>
              <a:gd name="textAreaTop" fmla="*/ 223560 h 952560"/>
              <a:gd name="textAreaBottom" fmla="*/ 729000 h 952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ови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Рисунок 26" descr="KL_ST_Gel for dusha_aromat negnostii_260ml.jpg"/>
          <p:cNvPicPr/>
          <p:nvPr/>
        </p:nvPicPr>
        <p:blipFill>
          <a:blip r:embed="rId9"/>
          <a:stretch/>
        </p:blipFill>
        <p:spPr>
          <a:xfrm>
            <a:off x="108000" y="2027160"/>
            <a:ext cx="936720" cy="25005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27" descr="KL_ST_Gel for dusha_vodopad emocii_260ml.jpg"/>
          <p:cNvPicPr/>
          <p:nvPr/>
        </p:nvPicPr>
        <p:blipFill>
          <a:blip r:embed="rId10"/>
          <a:stretch/>
        </p:blipFill>
        <p:spPr>
          <a:xfrm>
            <a:off x="1200240" y="2379600"/>
            <a:ext cx="931680" cy="2500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6"/>
          <p:cNvSpPr/>
          <p:nvPr/>
        </p:nvSpPr>
        <p:spPr>
          <a:xfrm>
            <a:off x="39600" y="5648400"/>
            <a:ext cx="8971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95959"/>
                </a:solidFill>
                <a:latin typeface="Arial"/>
              </a:rPr>
              <a:t>SensoTerapia – </a:t>
            </a: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это благотворное воздействие на эмоциональное состояние человека через его чувства</a:t>
            </a:r>
            <a:r>
              <a:rPr b="0" i="1" lang="en-US" sz="1200" spc="-1" strike="noStrike">
                <a:solidFill>
                  <a:srgbClr val="595959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Серия гелей для душа с экстрактами и натуральными маслами экзотических цветов и тропических фруктов пробуждает загадочный мир Ваших чувств, вселяет энергию и жизненную силу, придает коже шелковистость, соблазнительность и восхитительный аромат. Вы ощутите прикосновение нежности и обретете чувство внутренней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SENS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11" descr="Logo Krasnaya Liniya.tif"/>
          <p:cNvPicPr/>
          <p:nvPr/>
        </p:nvPicPr>
        <p:blipFill>
          <a:blip r:embed="rId1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589120" y="2095560"/>
            <a:ext cx="6237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Новинка! </a:t>
            </a:r>
            <a:r>
              <a:rPr b="0" i="1" lang="en-US" sz="2000" spc="-1" strike="noStrike">
                <a:solidFill>
                  <a:srgbClr val="595959"/>
                </a:solidFill>
                <a:latin typeface="Arial"/>
              </a:rPr>
              <a:t>SensoTerapia </a:t>
            </a: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Нежный крем-гель для душа Кофейное оболь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595959"/>
                </a:solidFill>
                <a:latin typeface="Arial"/>
              </a:rPr>
              <a:t>Чудесный аромат кофейных зерен, корицы и ванили вдохновляет и дарит заряд бодрости на весь день. Натуральные экстракты тонизируют кожу и придают ей мяг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2" descr=""/>
          <p:cNvPicPr/>
          <p:nvPr/>
        </p:nvPicPr>
        <p:blipFill>
          <a:blip r:embed="rId2"/>
          <a:stretch/>
        </p:blipFill>
        <p:spPr>
          <a:xfrm>
            <a:off x="565200" y="1241280"/>
            <a:ext cx="15462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Рисунок 19" descr="KL_Gel_milk_med_480.jpg"/>
          <p:cNvPicPr/>
          <p:nvPr/>
        </p:nvPicPr>
        <p:blipFill>
          <a:blip r:embed="rId1"/>
          <a:stretch/>
        </p:blipFill>
        <p:spPr>
          <a:xfrm>
            <a:off x="7539120" y="2200320"/>
            <a:ext cx="1000080" cy="3002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21" descr="KL_Gel_krasnyi_greipfrut_480.jpg"/>
          <p:cNvPicPr/>
          <p:nvPr/>
        </p:nvPicPr>
        <p:blipFill>
          <a:blip r:embed="rId2"/>
          <a:stretch/>
        </p:blipFill>
        <p:spPr>
          <a:xfrm>
            <a:off x="6418440" y="2482920"/>
            <a:ext cx="1000080" cy="300204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25" descr="KL_gel_dush_vinograd.jpg"/>
          <p:cNvPicPr/>
          <p:nvPr/>
        </p:nvPicPr>
        <p:blipFill>
          <a:blip r:embed="rId3"/>
          <a:stretch/>
        </p:blipFill>
        <p:spPr>
          <a:xfrm>
            <a:off x="158760" y="2190600"/>
            <a:ext cx="917640" cy="251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2" descr="KL_gel_dush_arbuz_myata.jpg"/>
          <p:cNvPicPr/>
          <p:nvPr/>
        </p:nvPicPr>
        <p:blipFill>
          <a:blip r:embed="rId4"/>
          <a:stretch/>
        </p:blipFill>
        <p:spPr>
          <a:xfrm>
            <a:off x="2108160" y="3147840"/>
            <a:ext cx="917640" cy="251172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3" descr="KL_gel_dush_orhideya.jpg"/>
          <p:cNvPicPr/>
          <p:nvPr/>
        </p:nvPicPr>
        <p:blipFill>
          <a:blip r:embed="rId5"/>
          <a:stretch/>
        </p:blipFill>
        <p:spPr>
          <a:xfrm>
            <a:off x="5067360" y="1376280"/>
            <a:ext cx="917640" cy="25113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KL_gel_dush_oliva.jpg"/>
          <p:cNvPicPr/>
          <p:nvPr/>
        </p:nvPicPr>
        <p:blipFill>
          <a:blip r:embed="rId6"/>
          <a:stretch/>
        </p:blipFill>
        <p:spPr>
          <a:xfrm>
            <a:off x="1125360" y="2690640"/>
            <a:ext cx="919440" cy="25117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6" descr="KL_gel_dush_greipfrut.jpg"/>
          <p:cNvPicPr/>
          <p:nvPr/>
        </p:nvPicPr>
        <p:blipFill>
          <a:blip r:embed="rId7"/>
          <a:stretch/>
        </p:blipFill>
        <p:spPr>
          <a:xfrm>
            <a:off x="4064040" y="1106640"/>
            <a:ext cx="920880" cy="25113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7" descr="KL_gel_dush_milk_med.jpg"/>
          <p:cNvPicPr/>
          <p:nvPr/>
        </p:nvPicPr>
        <p:blipFill>
          <a:blip r:embed="rId8"/>
          <a:stretch/>
        </p:blipFill>
        <p:spPr>
          <a:xfrm>
            <a:off x="3063960" y="797040"/>
            <a:ext cx="917640" cy="25113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1" descr="Logo Krasnaya Liniya.tif"/>
          <p:cNvPicPr/>
          <p:nvPr/>
        </p:nvPicPr>
        <p:blipFill>
          <a:blip r:embed="rId9"/>
          <a:stretch/>
        </p:blipFill>
        <p:spPr>
          <a:xfrm>
            <a:off x="6777000" y="87480"/>
            <a:ext cx="2216160" cy="17888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51"/>
          <p:cNvSpPr/>
          <p:nvPr/>
        </p:nvSpPr>
        <p:spPr>
          <a:xfrm>
            <a:off x="36360" y="18576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Arial"/>
              </a:rPr>
              <a:t>ГЕЛИ ДЛЯ ДУША 8</a:t>
            </a: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 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39600" y="5838840"/>
            <a:ext cx="897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595959"/>
                </a:solidFill>
                <a:latin typeface="Arial"/>
              </a:rPr>
              <a:t>Гели для душа Красная Линия содержат разнообразные масла, витамины и полезные экстракты, которые увлажняют и тонизируют кожу, придают ей необыкновенную мягкость, нежность и комфорт. Тонкие и приятные ароматы придадут ощущение спокойствия и внутренне гармо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12:46:05Z</dcterms:created>
  <dc:creator>akhiyarova</dc:creator>
  <dc:description/>
  <dc:language>en-US</dc:language>
  <cp:lastModifiedBy>solovieva</cp:lastModifiedBy>
  <dcterms:modified xsi:type="dcterms:W3CDTF">2012-03-30T11:10:49Z</dcterms:modified>
  <cp:revision>551</cp:revision>
  <dc:subject/>
  <dc:title>Слайд 1</dc:title>
</cp:coreProperties>
</file>