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A91-63AE-46D6-A733-F8BB32F2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150-F79C-4498-A4A3-986DA5A3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AFF-9203-4B4C-8DDF-120FF0FF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45A-B05F-46C5-9683-5CCBDA45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1A19-AD64-4F51-8BEE-8E7DA337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2F4F-FDA8-45C3-8333-9C7DFE9D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6CC0-C35D-48B3-BC55-E0B5EE04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A743-3C4C-4A2F-8831-117B202F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5D78-1451-464D-A2FC-42212ED9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54EB-D6A4-45B9-A66A-B20DB20F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CA1B-4189-4BED-B71F-464B6811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4E0-F1AF-48CD-A2A9-4280E45D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5D2C-A10C-416B-ADD4-0C5CAB08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4C2F-08AD-4EC5-8268-CD33B0A5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BB45-06C8-436A-9D6B-7A8B45C9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F710-63BC-4BEA-ABE3-65698726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7FAD-817F-425D-85A1-869331D3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7BD1D-8119-45D6-B9DB-73E6907324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66193-EE78-4DF3-9A27-C3AF5E27E7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4EFC5-BF05-4104-B55A-7DB2C2C40E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CDD85-8FD7-433F-A410-FE44C498FC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03751-7AEB-4EE3-9109-EDEDA0072D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24F-FE2A-4CE1-833C-70019711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92CB6-0321-484A-B726-8132A5DA15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8687C-4468-41B5-B38C-364D3ABA24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1430F-4C7E-475A-B9E2-E8046F8FAC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E6E63C-4DA3-4577-98D5-EE5DF61F2D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2BB56B-E196-4513-8F7D-C8A2FA974E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02C23-25F6-4E79-A443-21A19F463D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E53CAC-E7BB-4FD3-A2ED-3BCC714CC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6BA-373D-4B2E-9790-F78AE7B2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3FC-BCBF-4185-9071-2DBFF10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A9A-A2A6-4A39-B061-C5A09470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9E4-14E9-4AB5-BD56-01F7884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47C-8F98-45ED-8824-9A09D80C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111-92AD-4CDB-A2D2-47F5924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B16E-2EB8-4451-861A-93F6A3FA6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8031240" y="76320"/>
            <a:ext cx="966600" cy="94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2AFC-3765-4AEA-B628-7337AC91F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539640" y="6568920"/>
            <a:ext cx="7228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5FA7-1C49-4A37-9470-19994E2162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51"/>
          <p:cNvSpPr/>
          <p:nvPr/>
        </p:nvSpPr>
        <p:spPr>
          <a:xfrm>
            <a:off x="444600" y="3811680"/>
            <a:ext cx="81518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Arial"/>
              </a:rPr>
              <a:t>ГЕЛИ ДЛЯ ДУШ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Logo Krasnaya Liniya.tif"/>
          <p:cNvPicPr/>
          <p:nvPr/>
        </p:nvPicPr>
        <p:blipFill>
          <a:blip r:embed="rId1"/>
          <a:stretch/>
        </p:blipFill>
        <p:spPr>
          <a:xfrm>
            <a:off x="3218040" y="1074600"/>
            <a:ext cx="248256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7" descr=""/>
          <p:cNvPicPr/>
          <p:nvPr/>
        </p:nvPicPr>
        <p:blipFill>
          <a:blip r:embed="rId1"/>
          <a:stretch/>
        </p:blipFill>
        <p:spPr>
          <a:xfrm>
            <a:off x="39600" y="752400"/>
            <a:ext cx="8983800" cy="5870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7"/>
          <p:cNvSpPr/>
          <p:nvPr/>
        </p:nvSpPr>
        <p:spPr>
          <a:xfrm>
            <a:off x="6265800" y="643896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f7f7f"/>
                </a:solidFill>
                <a:latin typeface="Arial"/>
              </a:rPr>
              <a:t>Данные </a:t>
            </a:r>
            <a:r>
              <a:rPr b="0" i="1" lang="en-US" sz="1200" spc="-1" strike="noStrike">
                <a:solidFill>
                  <a:srgbClr val="7f7f7f"/>
                </a:solidFill>
                <a:latin typeface="Arial"/>
              </a:rPr>
              <a:t>M’Index 2011</a:t>
            </a:r>
            <a:r>
              <a:rPr b="0" i="1" lang="ru-RU" sz="1200" spc="-1" strike="noStrike">
                <a:solidFill>
                  <a:srgbClr val="7f7f7f"/>
                </a:solidFill>
                <a:latin typeface="Arial"/>
              </a:rPr>
              <a:t>, 1 квар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8"/>
          <p:cNvSpPr/>
          <p:nvPr/>
        </p:nvSpPr>
        <p:spPr>
          <a:xfrm>
            <a:off x="5761080" y="2967120"/>
            <a:ext cx="576360" cy="3016080"/>
          </a:xfrm>
          <a:prstGeom prst="rect">
            <a:avLst/>
          </a:prstGeom>
          <a:noFill/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6" descr="Logo Krasnaya Liniya.tif"/>
          <p:cNvPicPr/>
          <p:nvPr/>
        </p:nvPicPr>
        <p:blipFill>
          <a:blip r:embed="rId2"/>
          <a:stretch/>
        </p:blipFill>
        <p:spPr>
          <a:xfrm>
            <a:off x="6777000" y="87480"/>
            <a:ext cx="2216160" cy="1788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51"/>
          <p:cNvSpPr/>
          <p:nvPr/>
        </p:nvSpPr>
        <p:spPr>
          <a:xfrm>
            <a:off x="36360" y="18576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РЫНОК ГЕЛЕЙ ДЛ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2" descr=""/>
          <p:cNvPicPr/>
          <p:nvPr/>
        </p:nvPicPr>
        <p:blipFill>
          <a:blip r:embed="rId1"/>
          <a:stretch/>
        </p:blipFill>
        <p:spPr>
          <a:xfrm>
            <a:off x="3692520" y="439560"/>
            <a:ext cx="915840" cy="2449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51"/>
          <p:cNvSpPr/>
          <p:nvPr/>
        </p:nvSpPr>
        <p:spPr>
          <a:xfrm>
            <a:off x="36360" y="18576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ENSOTERAPIA 9 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1" descr="Logo Krasnaya Liniya.tif"/>
          <p:cNvPicPr/>
          <p:nvPr/>
        </p:nvPicPr>
        <p:blipFill>
          <a:blip r:embed="rId2"/>
          <a:stretch/>
        </p:blipFill>
        <p:spPr>
          <a:xfrm>
            <a:off x="6777000" y="87480"/>
            <a:ext cx="2216160" cy="17888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4" descr="KL_ST_Gel for dusha_vsplesk energii_260ml.jpg"/>
          <p:cNvPicPr/>
          <p:nvPr/>
        </p:nvPicPr>
        <p:blipFill>
          <a:blip r:embed="rId3"/>
          <a:stretch/>
        </p:blipFill>
        <p:spPr>
          <a:xfrm>
            <a:off x="3351240" y="2995560"/>
            <a:ext cx="930240" cy="2500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0" descr="KL_ST_Gel for dusha_shokolad soblazn_260ml.jpg"/>
          <p:cNvPicPr/>
          <p:nvPr/>
        </p:nvPicPr>
        <p:blipFill>
          <a:blip r:embed="rId4"/>
          <a:stretch/>
        </p:blipFill>
        <p:spPr>
          <a:xfrm>
            <a:off x="4745160" y="779400"/>
            <a:ext cx="927000" cy="25002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2" descr="KL_ST_Gel for dusha_iskushenie_260ml.jpg"/>
          <p:cNvPicPr/>
          <p:nvPr/>
        </p:nvPicPr>
        <p:blipFill>
          <a:blip r:embed="rId5"/>
          <a:stretch/>
        </p:blipFill>
        <p:spPr>
          <a:xfrm>
            <a:off x="2273400" y="2679840"/>
            <a:ext cx="930240" cy="2500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4" descr="KL_ST_Gel for dusha_vkus lubvi_260ml.jpg"/>
          <p:cNvPicPr/>
          <p:nvPr/>
        </p:nvPicPr>
        <p:blipFill>
          <a:blip r:embed="rId6"/>
          <a:stretch/>
        </p:blipFill>
        <p:spPr>
          <a:xfrm>
            <a:off x="5821200" y="2038320"/>
            <a:ext cx="927360" cy="2500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9" descr="KL_ST_Gel for dusha_shestoe chuvstvo_260ml.jpg"/>
          <p:cNvPicPr/>
          <p:nvPr/>
        </p:nvPicPr>
        <p:blipFill>
          <a:blip r:embed="rId7"/>
          <a:stretch/>
        </p:blipFill>
        <p:spPr>
          <a:xfrm>
            <a:off x="7983360" y="3071880"/>
            <a:ext cx="92736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30" descr="KL_ST_Gel for dusha_svegest chuvstv_260ml.jpg"/>
          <p:cNvPicPr/>
          <p:nvPr/>
        </p:nvPicPr>
        <p:blipFill>
          <a:blip r:embed="rId8"/>
          <a:stretch/>
        </p:blipFill>
        <p:spPr>
          <a:xfrm>
            <a:off x="6905520" y="2627280"/>
            <a:ext cx="928800" cy="2500200"/>
          </a:xfrm>
          <a:prstGeom prst="rect">
            <a:avLst/>
          </a:prstGeom>
          <a:ln w="0">
            <a:noFill/>
          </a:ln>
        </p:spPr>
      </p:pic>
      <p:sp>
        <p:nvSpPr>
          <p:cNvPr id="140" name="8-конечная звезда 31"/>
          <p:cNvSpPr/>
          <p:nvPr/>
        </p:nvSpPr>
        <p:spPr>
          <a:xfrm>
            <a:off x="2827440" y="561960"/>
            <a:ext cx="1101600" cy="952560"/>
          </a:xfrm>
          <a:custGeom>
            <a:avLst/>
            <a:gdLst>
              <a:gd name="textAreaLeft" fmla="*/ 258480 w 1101600"/>
              <a:gd name="textAreaRight" fmla="*/ 843120 w 1101600"/>
              <a:gd name="textAreaTop" fmla="*/ 223560 h 952560"/>
              <a:gd name="textAreaBottom" fmla="*/ 729000 h 95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ови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26" descr="KL_ST_Gel for dusha_aromat negnostii_260ml.jpg"/>
          <p:cNvPicPr/>
          <p:nvPr/>
        </p:nvPicPr>
        <p:blipFill>
          <a:blip r:embed="rId9"/>
          <a:stretch/>
        </p:blipFill>
        <p:spPr>
          <a:xfrm>
            <a:off x="108000" y="2027160"/>
            <a:ext cx="936720" cy="25005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7" descr="KL_ST_Gel for dusha_vodopad emocii_260ml.jpg"/>
          <p:cNvPicPr/>
          <p:nvPr/>
        </p:nvPicPr>
        <p:blipFill>
          <a:blip r:embed="rId10"/>
          <a:stretch/>
        </p:blipFill>
        <p:spPr>
          <a:xfrm>
            <a:off x="1200240" y="2379600"/>
            <a:ext cx="931680" cy="2500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6"/>
          <p:cNvSpPr/>
          <p:nvPr/>
        </p:nvSpPr>
        <p:spPr>
          <a:xfrm>
            <a:off x="39600" y="5648400"/>
            <a:ext cx="897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5959"/>
                </a:solidFill>
                <a:latin typeface="Arial"/>
              </a:rPr>
              <a:t>SensoTerapia – </a:t>
            </a: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это благотворное воздействие на эмоциональное состояние человека через его чувства</a:t>
            </a:r>
            <a:r>
              <a:rPr b="0" i="1" lang="en-US" sz="1200" spc="-1" strike="noStrike">
                <a:solidFill>
                  <a:srgbClr val="595959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Серия гелей для душа с экстрактами и натуральными маслами экзотических цветов и тропических фруктов пробуждает загадочный мир Ваших чувств, вселяет энергию и жизненную силу, придает коже шелковистость, соблазнительность и восхитительный аромат. Вы ощутите прикосновение нежности и обретете чувство внутренне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51"/>
          <p:cNvSpPr/>
          <p:nvPr/>
        </p:nvSpPr>
        <p:spPr>
          <a:xfrm>
            <a:off x="36360" y="18576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ENS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1" descr="Logo Krasnaya Liniya.tif"/>
          <p:cNvPicPr/>
          <p:nvPr/>
        </p:nvPicPr>
        <p:blipFill>
          <a:blip r:embed="rId1"/>
          <a:stretch/>
        </p:blipFill>
        <p:spPr>
          <a:xfrm>
            <a:off x="6777000" y="87480"/>
            <a:ext cx="2216160" cy="17888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589120" y="2095560"/>
            <a:ext cx="6237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</a:rPr>
              <a:t>Новинка! </a:t>
            </a:r>
            <a:r>
              <a:rPr b="0" i="1" lang="en-US" sz="2000" spc="-1" strike="noStrike">
                <a:solidFill>
                  <a:srgbClr val="595959"/>
                </a:solidFill>
                <a:latin typeface="Arial"/>
              </a:rPr>
              <a:t>SensoTerapia </a:t>
            </a:r>
            <a:r>
              <a:rPr b="0" i="1" lang="ru-RU" sz="2000" spc="-1" strike="noStrike">
                <a:solidFill>
                  <a:srgbClr val="595959"/>
                </a:solidFill>
                <a:latin typeface="Arial"/>
              </a:rPr>
              <a:t>Нежный крем-гель для душа Кофейное оболь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</a:rPr>
              <a:t>Чудесный аромат кофейных зерен, корицы и ванили вдохновляет и дарит заряд бодрости на весь день. Натуральные экстракты тонизируют кожу и придают ей мяг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2" descr=""/>
          <p:cNvPicPr/>
          <p:nvPr/>
        </p:nvPicPr>
        <p:blipFill>
          <a:blip r:embed="rId2"/>
          <a:stretch/>
        </p:blipFill>
        <p:spPr>
          <a:xfrm>
            <a:off x="565200" y="1241280"/>
            <a:ext cx="15462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9" descr="KL_Gel_milk_med_480.jpg"/>
          <p:cNvPicPr/>
          <p:nvPr/>
        </p:nvPicPr>
        <p:blipFill>
          <a:blip r:embed="rId1"/>
          <a:stretch/>
        </p:blipFill>
        <p:spPr>
          <a:xfrm>
            <a:off x="7539120" y="2200320"/>
            <a:ext cx="1000080" cy="30020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1" descr="KL_Gel_krasnyi_greipfrut_480.jpg"/>
          <p:cNvPicPr/>
          <p:nvPr/>
        </p:nvPicPr>
        <p:blipFill>
          <a:blip r:embed="rId2"/>
          <a:stretch/>
        </p:blipFill>
        <p:spPr>
          <a:xfrm>
            <a:off x="6418440" y="2482920"/>
            <a:ext cx="1000080" cy="3002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5" descr="KL_gel_dush_vinograd.jpg"/>
          <p:cNvPicPr/>
          <p:nvPr/>
        </p:nvPicPr>
        <p:blipFill>
          <a:blip r:embed="rId3"/>
          <a:stretch/>
        </p:blipFill>
        <p:spPr>
          <a:xfrm>
            <a:off x="158760" y="2190600"/>
            <a:ext cx="917640" cy="2511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KL_gel_dush_arbuz_myata.jpg"/>
          <p:cNvPicPr/>
          <p:nvPr/>
        </p:nvPicPr>
        <p:blipFill>
          <a:blip r:embed="rId4"/>
          <a:stretch/>
        </p:blipFill>
        <p:spPr>
          <a:xfrm>
            <a:off x="2108160" y="3147840"/>
            <a:ext cx="917640" cy="25117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KL_gel_dush_orhideya.jpg"/>
          <p:cNvPicPr/>
          <p:nvPr/>
        </p:nvPicPr>
        <p:blipFill>
          <a:blip r:embed="rId5"/>
          <a:stretch/>
        </p:blipFill>
        <p:spPr>
          <a:xfrm>
            <a:off x="5067360" y="1376280"/>
            <a:ext cx="917640" cy="25113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5" descr="KL_gel_dush_oliva.jpg"/>
          <p:cNvPicPr/>
          <p:nvPr/>
        </p:nvPicPr>
        <p:blipFill>
          <a:blip r:embed="rId6"/>
          <a:stretch/>
        </p:blipFill>
        <p:spPr>
          <a:xfrm>
            <a:off x="1125360" y="2690640"/>
            <a:ext cx="919440" cy="25117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6" descr="KL_gel_dush_greipfrut.jpg"/>
          <p:cNvPicPr/>
          <p:nvPr/>
        </p:nvPicPr>
        <p:blipFill>
          <a:blip r:embed="rId7"/>
          <a:stretch/>
        </p:blipFill>
        <p:spPr>
          <a:xfrm>
            <a:off x="4064040" y="1106640"/>
            <a:ext cx="920880" cy="25113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7" descr="KL_gel_dush_milk_med.jpg"/>
          <p:cNvPicPr/>
          <p:nvPr/>
        </p:nvPicPr>
        <p:blipFill>
          <a:blip r:embed="rId8"/>
          <a:stretch/>
        </p:blipFill>
        <p:spPr>
          <a:xfrm>
            <a:off x="3063960" y="797040"/>
            <a:ext cx="917640" cy="2511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1" descr="Logo Krasnaya Liniya.tif"/>
          <p:cNvPicPr/>
          <p:nvPr/>
        </p:nvPicPr>
        <p:blipFill>
          <a:blip r:embed="rId9"/>
          <a:stretch/>
        </p:blipFill>
        <p:spPr>
          <a:xfrm>
            <a:off x="6777000" y="87480"/>
            <a:ext cx="2216160" cy="17888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51"/>
          <p:cNvSpPr/>
          <p:nvPr/>
        </p:nvSpPr>
        <p:spPr>
          <a:xfrm>
            <a:off x="36360" y="18576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ГЕЛИ ДЛЯ ДУША 8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39600" y="5838840"/>
            <a:ext cx="897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Гели для душа Красная Линия содержат разнообразные масла, витамины и полезные экстракты, которые увлажняют и тонизируют кожу, придают ей необыкновенную мягкость, нежность и комфорт. Тонкие и приятные ароматы придадут ощущение спокойствия и внутренне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solovieva</cp:lastModifiedBy>
  <dcterms:modified xsi:type="dcterms:W3CDTF">2012-03-30T11:10:49Z</dcterms:modified>
  <cp:revision>551</cp:revision>
  <dc:subject/>
  <dc:title>Слайд 1</dc:title>
</cp:coreProperties>
</file>