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ED64-0137-4CE2-9263-8752F67A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21C5-4473-491A-B305-5BC6684C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BB2F-AB71-4691-947C-85ADEC8A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323-99C8-4964-8E28-2AE1B684B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AFEB-4E45-4289-93FF-7F0A36BD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2C36-45F7-42C4-AF74-4798679B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51F0-7E79-4530-9837-FC8A0A78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87C-1363-4A72-9D6F-270C2107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F145-654D-4BB8-88C9-D51E53D9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0417-FD2E-48B3-954E-85C4EF1F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5936-DAFE-46DA-86B5-F9EB086A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DD3-E07B-476C-ADDB-502DB989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633A-2CA5-4903-B3A6-1A82F61F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3F3C-D3FC-47C5-A925-9057236B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354B-6450-41DC-83C5-E765272F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CFB5-3566-4691-AA07-317E60B2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D17-30A2-4041-83DD-24FE08E0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F90C-ACB7-4008-86FD-48DEACD4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9C71A-A761-4967-810E-6D2C4F9D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8C80-3FA8-4A58-9FDB-2E1B2A26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9A08E-C4FB-4D0C-A706-4FFC44FF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F21B-8072-412E-9CD9-7ABE1B8A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2C1-CAF6-4B72-981F-5A039A2B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E5E20-04F3-4833-9DC9-D093F01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1D03-B1D0-43C2-B6C2-058B1701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D006-5A4C-4FFF-B2DA-4A0DF336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17875-F4CA-46FC-99AC-CAC3DDF9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C865-0339-40B0-A1FE-B3FCFA01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8814-7276-4822-9EAF-EB1BC5790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EF4A-9042-4370-A05C-34C8261F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C0CD-25BB-4504-A665-4804D116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C113-5E9E-4240-935A-2705D60A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68B-F522-4D5C-BB40-32B77620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D5C1-1AC3-463F-AF97-A0430696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317-3C85-4BF1-98F6-5B177237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3BD-6A89-41D2-AE0A-59D615E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02FF-2C12-4F62-9A9A-599E5F01B8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E184-8CAB-46F3-9E91-F992067C4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2D1F-8D93-4017-98CD-ADA8E7191A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51"/>
          <p:cNvSpPr/>
          <p:nvPr/>
        </p:nvSpPr>
        <p:spPr>
          <a:xfrm>
            <a:off x="511200" y="4116240"/>
            <a:ext cx="81518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МЫЛО-ПЕНК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i="1" lang="en-US" sz="2800" spc="-1" strike="noStrike">
                <a:solidFill>
                  <a:srgbClr val="c00000"/>
                </a:solidFill>
                <a:latin typeface="Arial"/>
              </a:rPr>
              <a:t>S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3048120" y="136440"/>
            <a:ext cx="309564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51"/>
          <p:cNvSpPr/>
          <p:nvPr/>
        </p:nvSpPr>
        <p:spPr>
          <a:xfrm>
            <a:off x="60480" y="166680"/>
            <a:ext cx="765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ИННОВ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nsoTerap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асная Линия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728640" y="2387520"/>
            <a:ext cx="783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 предлагает своим потребителям инновационный продукт – мыло-пен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Terapia «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ая Линия»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ейшая текстура мыла-пенки прекрасно очищает и тонизирует кожу, сохраняя при этом естественный уровень увлажненности ко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ь запуска новых позиц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епление лидерских позиций марки в категор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дкое мы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инновация в категории для лояльных потребителей марки и привлечения новых потреб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для ру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анильная фантазия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Penka_vanila"/>
          <p:cNvPicPr/>
          <p:nvPr/>
        </p:nvPicPr>
        <p:blipFill>
          <a:blip r:embed="rId2"/>
          <a:stretch/>
        </p:blipFill>
        <p:spPr>
          <a:xfrm>
            <a:off x="773280" y="1523880"/>
            <a:ext cx="2658960" cy="47689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6"/>
          <p:cNvSpPr/>
          <p:nvPr/>
        </p:nvSpPr>
        <p:spPr>
          <a:xfrm>
            <a:off x="3444840" y="2130480"/>
            <a:ext cx="533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мыло-пенка бережно очищает кожу рук, сохраняя при этом естественный уровень увлажненности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итительный ванильный аромат дарит незабываемое удоволь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рук чистая и свежая без ощущения сухости и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Penka_orange"/>
          <p:cNvPicPr/>
          <p:nvPr/>
        </p:nvPicPr>
        <p:blipFill>
          <a:blip r:embed="rId2"/>
          <a:stretch/>
        </p:blipFill>
        <p:spPr>
          <a:xfrm>
            <a:off x="731880" y="1530360"/>
            <a:ext cx="2712960" cy="47656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ыло-пенка для рук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Апельсиновый цвет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44840" y="2130480"/>
            <a:ext cx="533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мыло-пенка бережно очищает кожу рук, сохраняя при этом естественный уровень увлажненности ко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итительный апельсиновый аромат дарит незабываемое удовольств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рук свежая и чистая без ощущения сухости и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Penka_jasmin"/>
          <p:cNvPicPr/>
          <p:nvPr/>
        </p:nvPicPr>
        <p:blipFill>
          <a:blip r:embed="rId2"/>
          <a:stretch/>
        </p:blipFill>
        <p:spPr>
          <a:xfrm>
            <a:off x="731880" y="1539720"/>
            <a:ext cx="2705040" cy="47516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51"/>
          <p:cNvSpPr/>
          <p:nvPr/>
        </p:nvSpPr>
        <p:spPr>
          <a:xfrm>
            <a:off x="60480" y="166680"/>
            <a:ext cx="765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ОВ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рем-пенка 2 в 1 для лица и рук           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Жасмин и белый чай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3444840" y="2130480"/>
            <a:ext cx="533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, нежная крем-пенка подходит для бережного очищения не только рук, но и л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агодаря цветочной воде жасмина и экстракту белого чая крем-пенка успокаивает и увлажняет кож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жа становится свежей и чистой без ощущения стяну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кономичное ис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Penka_jasmin"/>
          <p:cNvPicPr/>
          <p:nvPr/>
        </p:nvPicPr>
        <p:blipFill>
          <a:blip r:embed="rId1"/>
          <a:stretch/>
        </p:blipFill>
        <p:spPr>
          <a:xfrm>
            <a:off x="542880" y="2749680"/>
            <a:ext cx="1027080" cy="1804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Penka_vanila"/>
          <p:cNvPicPr/>
          <p:nvPr/>
        </p:nvPicPr>
        <p:blipFill>
          <a:blip r:embed="rId2"/>
          <a:stretch/>
        </p:blipFill>
        <p:spPr>
          <a:xfrm>
            <a:off x="1469880" y="2735280"/>
            <a:ext cx="1009800" cy="1811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enka_orange"/>
          <p:cNvPicPr/>
          <p:nvPr/>
        </p:nvPicPr>
        <p:blipFill>
          <a:blip r:embed="rId3"/>
          <a:stretch/>
        </p:blipFill>
        <p:spPr>
          <a:xfrm>
            <a:off x="2374920" y="2739960"/>
            <a:ext cx="1030320" cy="18097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Красная-линия-Новый-подправленный-лого.gif"/>
          <p:cNvPicPr/>
          <p:nvPr/>
        </p:nvPicPr>
        <p:blipFill>
          <a:blip r:embed="rId4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51"/>
          <p:cNvSpPr/>
          <p:nvPr/>
        </p:nvSpPr>
        <p:spPr>
          <a:xfrm>
            <a:off x="60480" y="166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МЕСТО НА ПОЛ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13" descr="Грейпфрут.gif"/>
          <p:cNvPicPr/>
          <p:nvPr/>
        </p:nvPicPr>
        <p:blipFill>
          <a:blip r:embed="rId5"/>
          <a:stretch/>
        </p:blipFill>
        <p:spPr>
          <a:xfrm>
            <a:off x="6902280" y="2359080"/>
            <a:ext cx="1011240" cy="21337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18" descr="Нежное.gif"/>
          <p:cNvPicPr/>
          <p:nvPr/>
        </p:nvPicPr>
        <p:blipFill>
          <a:blip r:embed="rId6"/>
          <a:stretch/>
        </p:blipFill>
        <p:spPr>
          <a:xfrm>
            <a:off x="5997600" y="2351160"/>
            <a:ext cx="1011240" cy="2162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2" descr="Арбуз.gif"/>
          <p:cNvPicPr/>
          <p:nvPr/>
        </p:nvPicPr>
        <p:blipFill>
          <a:blip r:embed="rId7"/>
          <a:stretch/>
        </p:blipFill>
        <p:spPr>
          <a:xfrm>
            <a:off x="5105520" y="2346480"/>
            <a:ext cx="1031760" cy="21542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23" descr="Вишня.gif"/>
          <p:cNvPicPr/>
          <p:nvPr/>
        </p:nvPicPr>
        <p:blipFill>
          <a:blip r:embed="rId8"/>
          <a:stretch/>
        </p:blipFill>
        <p:spPr>
          <a:xfrm>
            <a:off x="3305160" y="2355840"/>
            <a:ext cx="1014480" cy="2138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4" descr="Мёд.gif"/>
          <p:cNvPicPr/>
          <p:nvPr/>
        </p:nvPicPr>
        <p:blipFill>
          <a:blip r:embed="rId9"/>
          <a:stretch/>
        </p:blipFill>
        <p:spPr>
          <a:xfrm>
            <a:off x="4140360" y="2359080"/>
            <a:ext cx="1108080" cy="2184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7"/>
          <p:cNvSpPr/>
          <p:nvPr/>
        </p:nvSpPr>
        <p:spPr>
          <a:xfrm>
            <a:off x="7278840" y="4545000"/>
            <a:ext cx="168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редняя цена на полке (Росс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5000760" y="44928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0-65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9"/>
          <p:cNvSpPr/>
          <p:nvPr/>
        </p:nvSpPr>
        <p:spPr>
          <a:xfrm>
            <a:off x="1195560" y="449280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8-72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51"/>
          <p:cNvSpPr/>
          <p:nvPr/>
        </p:nvSpPr>
        <p:spPr>
          <a:xfrm>
            <a:off x="60480" y="166680"/>
            <a:ext cx="76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ЛОГИСТ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14240" y="1971720"/>
          <a:ext cx="7591680" cy="2838240"/>
        </p:xfrm>
        <a:graphic>
          <a:graphicData uri="http://schemas.openxmlformats.org/drawingml/2006/table">
            <a:tbl>
              <a:tblPr/>
              <a:tblGrid>
                <a:gridCol w="919440"/>
                <a:gridCol w="647640"/>
                <a:gridCol w="2214360"/>
                <a:gridCol w="838440"/>
                <a:gridCol w="647640"/>
                <a:gridCol w="1230120"/>
                <a:gridCol w="1094040"/>
              </a:tblGrid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 холдинг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тику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м,вес штуки (мл,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.</a:t>
                      </a:r>
                      <a:br>
                        <a:rPr sz="1000"/>
                      </a:b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 у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рих-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ок годности месяц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АПЕЛЬСИНОВЫЙ ЦВЕТ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7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ВАНИЛЬНАЯ ФАНТАЗИЯ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7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 SENSO Мыло-пенка для рук "ЖАСМИН И БЕЛЫЙ ЧАЙ"</a:t>
                      </a:r>
                      <a:br>
                        <a:rPr sz="1000"/>
                      </a:b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мл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70149508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ме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Рисунок 4" descr="Красная-линия-Новый-подправленный-лого.gif"/>
          <p:cNvPicPr/>
          <p:nvPr/>
        </p:nvPicPr>
        <p:blipFill>
          <a:blip r:embed="rId1"/>
          <a:stretch/>
        </p:blipFill>
        <p:spPr>
          <a:xfrm>
            <a:off x="7182000" y="0"/>
            <a:ext cx="1819080" cy="1467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51"/>
          <p:cNvSpPr/>
          <p:nvPr/>
        </p:nvSpPr>
        <p:spPr>
          <a:xfrm>
            <a:off x="957240" y="3233880"/>
            <a:ext cx="76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ХОРОШИХ ПРОДАЖ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0:46:42Z</dcterms:modified>
  <cp:revision>605</cp:revision>
  <dc:subject/>
  <dc:title>Слайд 1</dc:title>
</cp:coreProperties>
</file>