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78F-26B8-4061-BAFC-A2C96AA8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152-5CCA-4036-8B30-55F101A8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48A-9A8E-4A4B-B6CC-93795A88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C3F-A740-446F-8219-0EFB4616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0233-CD96-43BB-B158-40F54C6A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9CDD-A686-41DC-B817-3C91148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3BCE-C6C5-4218-AE48-490AE62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820A-ADDF-49BD-A175-781D0942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E79F-C3A6-4572-BD64-2653D7E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C3EF-3622-4C54-B82A-528C593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635-54D0-40A5-B4FA-1194EE8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EF4-B775-446B-8430-DEAC51F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5918-2064-4011-83FA-1649A642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F8D-E992-4580-B1DE-C840600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D3D-3C59-4BF1-B1A5-2997746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1993-8255-4CCA-A7DF-494E51B7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E1A2-190D-4656-9974-B86B70FD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9626-604D-4C30-82BD-88DC9E8F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6155-ECE0-4EF1-801E-E05C88A2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AC5C-FEC2-4366-8B1F-7B37E73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B216-BC59-440F-8283-D9C85CBB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0904-D9DD-46DC-8BE0-50DC05B1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D2A-602A-47DD-9E54-5AB5514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B40E-AC3B-49B6-9A33-66B50E97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E710-4E02-48F1-ADBA-7468B7F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9ED7-512E-40E4-9639-69DE399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7BC4-ED6E-4DEE-87B2-A7B2271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051D-D540-4227-9C2A-2ADCD9F2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82F9-8E8B-4581-AC27-20A996E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F38B-513F-4340-B362-2DDC9D8F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8C9-A477-4ACB-B6AB-454EC212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864-045C-47DB-A551-A2A00268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3C7-F079-49F9-91BD-7890F0F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EF6-B4DF-4F43-93F9-A117EF2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BCB-6F6B-48C8-8685-EE38A28E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E81-BB03-4E9E-8A54-3091898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93D7-CA40-4FBA-A3EF-A5814A7FB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245-F58B-47A6-9DC4-B8FD3B8CF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044-A3C6-4880-A707-C3C314A0F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51"/>
          <p:cNvSpPr/>
          <p:nvPr/>
        </p:nvSpPr>
        <p:spPr>
          <a:xfrm>
            <a:off x="511200" y="4116240"/>
            <a:ext cx="81518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МЫЛО-ПЕН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3048120" y="136440"/>
            <a:ext cx="30956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51"/>
          <p:cNvSpPr/>
          <p:nvPr/>
        </p:nvSpPr>
        <p:spPr>
          <a:xfrm>
            <a:off x="60480" y="166680"/>
            <a:ext cx="765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НОВ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nsoTerap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асная Линия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728640" y="2387520"/>
            <a:ext cx="783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 предлагает своим потребителям инновационный продукт – мыло-п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Terapia 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»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ейшая текстура мыла-пенки прекрасно очищает и тонизирует кожу, сохраняя при этом естественный уровень увлажненност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запуска новых пози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ение лидерских позиций марки в катег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новация в категории для лояльных потребителей марки и привлечения новых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для ру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анильная фантазия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enka_vanila"/>
          <p:cNvPicPr/>
          <p:nvPr/>
        </p:nvPicPr>
        <p:blipFill>
          <a:blip r:embed="rId2"/>
          <a:stretch/>
        </p:blipFill>
        <p:spPr>
          <a:xfrm>
            <a:off x="773280" y="1523880"/>
            <a:ext cx="2658960" cy="4768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3444840" y="2130480"/>
            <a:ext cx="533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мыло-пенка бережно очищает кожу рук, сохраняя при этом естественный уровень увлажненности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итительный ванильный аромат дарит незабываемое удоволь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рук чистая и свежая без ощущения сухости и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enka_orange"/>
          <p:cNvPicPr/>
          <p:nvPr/>
        </p:nvPicPr>
        <p:blipFill>
          <a:blip r:embed="rId2"/>
          <a:stretch/>
        </p:blipFill>
        <p:spPr>
          <a:xfrm>
            <a:off x="731880" y="1530360"/>
            <a:ext cx="2712960" cy="476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для ру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пельсиновый цве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44840" y="2130480"/>
            <a:ext cx="533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мыло-пенка бережно очищает кожу рук, сохраняя при этом естественный уровень увлажненности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итительный апельсиновый аромат дарит незабываемое удовольст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рук свежая и чистая без ощущения сухости и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enka_jasmin"/>
          <p:cNvPicPr/>
          <p:nvPr/>
        </p:nvPicPr>
        <p:blipFill>
          <a:blip r:embed="rId2"/>
          <a:stretch/>
        </p:blipFill>
        <p:spPr>
          <a:xfrm>
            <a:off x="731880" y="1539720"/>
            <a:ext cx="2705040" cy="4751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ем-пенка 2 в 1 для лица и рук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асмин и белый чай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444840" y="2130480"/>
            <a:ext cx="53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крем-пенка подходит для бережного очищения не только рук, но и 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цветочной воде жасмина и экстракту белого чая крем-пенка успокаивает и увлажняет кож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становится свежей и чистой без ощущения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enka_jasmin"/>
          <p:cNvPicPr/>
          <p:nvPr/>
        </p:nvPicPr>
        <p:blipFill>
          <a:blip r:embed="rId1"/>
          <a:stretch/>
        </p:blipFill>
        <p:spPr>
          <a:xfrm>
            <a:off x="542880" y="2749680"/>
            <a:ext cx="1027080" cy="180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Penka_vanila"/>
          <p:cNvPicPr/>
          <p:nvPr/>
        </p:nvPicPr>
        <p:blipFill>
          <a:blip r:embed="rId2"/>
          <a:stretch/>
        </p:blipFill>
        <p:spPr>
          <a:xfrm>
            <a:off x="1469880" y="2735280"/>
            <a:ext cx="1009800" cy="181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nka_orange"/>
          <p:cNvPicPr/>
          <p:nvPr/>
        </p:nvPicPr>
        <p:blipFill>
          <a:blip r:embed="rId3"/>
          <a:stretch/>
        </p:blipFill>
        <p:spPr>
          <a:xfrm>
            <a:off x="2374920" y="2739960"/>
            <a:ext cx="1030320" cy="1809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Красная-линия-Новый-подправленный-лого.gif"/>
          <p:cNvPicPr/>
          <p:nvPr/>
        </p:nvPicPr>
        <p:blipFill>
          <a:blip r:embed="rId4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51"/>
          <p:cNvSpPr/>
          <p:nvPr/>
        </p:nvSpPr>
        <p:spPr>
          <a:xfrm>
            <a:off x="60480" y="166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ЕСТО НА ПО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3" descr="Грейпфрут.gif"/>
          <p:cNvPicPr/>
          <p:nvPr/>
        </p:nvPicPr>
        <p:blipFill>
          <a:blip r:embed="rId5"/>
          <a:stretch/>
        </p:blipFill>
        <p:spPr>
          <a:xfrm>
            <a:off x="6902280" y="2359080"/>
            <a:ext cx="1011240" cy="21337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8" descr="Нежное.gif"/>
          <p:cNvPicPr/>
          <p:nvPr/>
        </p:nvPicPr>
        <p:blipFill>
          <a:blip r:embed="rId6"/>
          <a:stretch/>
        </p:blipFill>
        <p:spPr>
          <a:xfrm>
            <a:off x="5997600" y="2351160"/>
            <a:ext cx="1011240" cy="2162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2" descr="Арбуз.gif"/>
          <p:cNvPicPr/>
          <p:nvPr/>
        </p:nvPicPr>
        <p:blipFill>
          <a:blip r:embed="rId7"/>
          <a:stretch/>
        </p:blipFill>
        <p:spPr>
          <a:xfrm>
            <a:off x="5105520" y="2346480"/>
            <a:ext cx="1031760" cy="2154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3" descr="Вишня.gif"/>
          <p:cNvPicPr/>
          <p:nvPr/>
        </p:nvPicPr>
        <p:blipFill>
          <a:blip r:embed="rId8"/>
          <a:stretch/>
        </p:blipFill>
        <p:spPr>
          <a:xfrm>
            <a:off x="3305160" y="2355840"/>
            <a:ext cx="1014480" cy="2138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4" descr="Мёд.gif"/>
          <p:cNvPicPr/>
          <p:nvPr/>
        </p:nvPicPr>
        <p:blipFill>
          <a:blip r:embed="rId9"/>
          <a:stretch/>
        </p:blipFill>
        <p:spPr>
          <a:xfrm>
            <a:off x="4140360" y="2359080"/>
            <a:ext cx="1108080" cy="2184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7"/>
          <p:cNvSpPr/>
          <p:nvPr/>
        </p:nvSpPr>
        <p:spPr>
          <a:xfrm>
            <a:off x="7278840" y="4545000"/>
            <a:ext cx="16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редняя цена на полке (Росс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5000760" y="44928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-65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1195560" y="44928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8-72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51"/>
          <p:cNvSpPr/>
          <p:nvPr/>
        </p:nvSpPr>
        <p:spPr>
          <a:xfrm>
            <a:off x="60480" y="166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ОГИСТ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14240" y="1971720"/>
          <a:ext cx="7591680" cy="2838240"/>
        </p:xfrm>
        <a:graphic>
          <a:graphicData uri="http://schemas.openxmlformats.org/drawingml/2006/table">
            <a:tbl>
              <a:tblPr/>
              <a:tblGrid>
                <a:gridCol w="919440"/>
                <a:gridCol w="647640"/>
                <a:gridCol w="2214360"/>
                <a:gridCol w="838440"/>
                <a:gridCol w="647640"/>
                <a:gridCol w="1230120"/>
                <a:gridCol w="1094040"/>
              </a:tblGrid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 холд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вес штуки (мл,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у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-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годности 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АПЕЛЬСИНОВЫЙ ЦВЕТ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ВАНИЛЬНАЯ ФАНТАЗИЯ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ЖАСМИН И БЕЛЫЙ ЧАЙ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0:46:42Z</dcterms:modified>
  <cp:revision>605</cp:revision>
  <dc:subject/>
  <dc:title>Слайд 1</dc:title>
</cp:coreProperties>
</file>