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9.jpeg" ContentType="image/jpeg"/>
  <Override PartName="/ppt/media/image52.png" ContentType="image/png"/>
  <Override PartName="/ppt/media/image30.jpeg" ContentType="image/jpeg"/>
  <Override PartName="/ppt/media/image48.jpeg" ContentType="image/jpeg"/>
  <Override PartName="/ppt/media/image53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55.png" ContentType="image/png"/>
  <Override PartName="/ppt/media/image34.jpeg" ContentType="image/jpe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A1F-9A95-439A-B540-3497FC96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6606-AA81-4F80-A794-1CE1B6D3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6F79-D51F-45CB-98DA-4BBF5B1A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865B-0EF7-4A0E-8CEA-B6148798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F6C48-594B-4096-B233-ED6B5EEE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8C7D-3DDF-433C-BE36-3B7A9F09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890FF-2076-4BBA-9CB6-66C2C46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169D-71FE-46F4-8B0C-E8E6C3C1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2582-ABA2-4724-B370-FEB62C60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9AC1-B273-4A97-9451-89DF842C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3C68-2CB3-436B-980B-CA21A2D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3BEC-BDFD-444D-87D8-12F9BDD8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ABEF-469D-48DF-849C-E5D0CF26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EB97-67AC-4998-A603-17B3BCF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81B9-A6B2-46BC-BD54-98B57442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0B7D-A39C-45D3-AEC9-C91F955D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9154-BDFE-402A-8906-462CD6DF2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7C86-CB35-4AA0-A2C4-24864E6B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D84F-9EA8-4CA2-995B-C6C4E3EF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39F2-F385-4DBD-8D14-C47414FB7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4AC6B-1483-4A20-AEE7-CE467694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0DEBD-8335-4A4A-9235-CAEC6701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842-BA61-431B-B578-763A484C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389C5-DF05-4731-8803-E6712099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E0AE-4226-47B1-BEA8-807EF228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0D44-BCA9-476D-9C3A-18BE6E67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7DF71-8902-4043-AA9D-8EDF608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893F-4738-47E0-97CE-2A46D2DC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F904D-88E0-474F-B528-8623403B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E3F4-75B7-455C-93D7-4B979A4F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5B1-EA7C-4437-9571-B7CCE4BBB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E0C0-6729-4253-8A8F-DFE7E97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D3CA-A224-4623-8059-15326A43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497-B4BB-40CD-9D85-487EFD68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0D3E-0169-4D1E-BE72-D76947F1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8B57-21A7-4177-BB2E-DB7C7F4D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9BC-A06D-4C59-B2D8-34B671CAC7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0B0C-DB4B-47A7-983F-9EBF11626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EB1E-8683-4D0E-9630-769287BD80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image" Target="../media/image9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image" Target="../media/image30.jpeg"/><Relationship Id="rId12" Type="http://schemas.openxmlformats.org/officeDocument/2006/relationships/image" Target="../media/image31.jpe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image" Target="../media/image34.jpeg"/><Relationship Id="rId16" Type="http://schemas.openxmlformats.org/officeDocument/2006/relationships/image" Target="../media/image35.jpeg"/><Relationship Id="rId17" Type="http://schemas.openxmlformats.org/officeDocument/2006/relationships/image" Target="../media/image36.jpeg"/><Relationship Id="rId18" Type="http://schemas.openxmlformats.org/officeDocument/2006/relationships/image" Target="../media/image37.jpeg"/><Relationship Id="rId19" Type="http://schemas.openxmlformats.org/officeDocument/2006/relationships/image" Target="../media/image38.jpe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3.jpeg"/><Relationship Id="rId3" Type="http://schemas.openxmlformats.org/officeDocument/2006/relationships/image" Target="../media/image7.jpeg"/><Relationship Id="rId4" Type="http://schemas.openxmlformats.org/officeDocument/2006/relationships/image" Target="../media/image24.jpeg"/><Relationship Id="rId5" Type="http://schemas.openxmlformats.org/officeDocument/2006/relationships/image" Target="../media/image27.png"/><Relationship Id="rId6" Type="http://schemas.openxmlformats.org/officeDocument/2006/relationships/image" Target="../media/image3.pn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jpe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3.png"/><Relationship Id="rId6" Type="http://schemas.openxmlformats.org/officeDocument/2006/relationships/image" Target="../media/image51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png"/><Relationship Id="rId11" Type="http://schemas.openxmlformats.org/officeDocument/2006/relationships/image" Target="../media/image44.jpeg"/><Relationship Id="rId12" Type="http://schemas.openxmlformats.org/officeDocument/2006/relationships/image" Target="../media/image45.png"/><Relationship Id="rId13" Type="http://schemas.openxmlformats.org/officeDocument/2006/relationships/image" Target="../media/image46.png"/><Relationship Id="rId14" Type="http://schemas.openxmlformats.org/officeDocument/2006/relationships/image" Target="../media/image52.png"/><Relationship Id="rId15" Type="http://schemas.openxmlformats.org/officeDocument/2006/relationships/image" Target="../media/image53.png"/><Relationship Id="rId16" Type="http://schemas.openxmlformats.org/officeDocument/2006/relationships/image" Target="../media/image54.png"/><Relationship Id="rId17" Type="http://schemas.openxmlformats.org/officeDocument/2006/relationships/image" Target="../media/image55.png"/><Relationship Id="rId18" Type="http://schemas.openxmlformats.org/officeDocument/2006/relationships/image" Target="../media/image56.jpeg"/><Relationship Id="rId19" Type="http://schemas.openxmlformats.org/officeDocument/2006/relationships/image" Target="../media/image57.jpeg"/><Relationship Id="rId20" Type="http://schemas.openxmlformats.org/officeDocument/2006/relationships/image" Target="../media/image57.jpeg"/><Relationship Id="rId21" Type="http://schemas.openxmlformats.org/officeDocument/2006/relationships/image" Target="../media/image57.jpeg"/><Relationship Id="rId22" Type="http://schemas.openxmlformats.org/officeDocument/2006/relationships/image" Target="../media/image57.jpeg"/><Relationship Id="rId2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51"/>
          <p:cNvSpPr/>
          <p:nvPr/>
        </p:nvSpPr>
        <p:spPr>
          <a:xfrm>
            <a:off x="444600" y="3811680"/>
            <a:ext cx="8151840" cy="23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ШАМПУНИ+БАЛЬЗАМ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УХОД ЗА ВОЛ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2816280" y="54000"/>
            <a:ext cx="310824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6"/>
          <p:cNvSpPr/>
          <p:nvPr/>
        </p:nvSpPr>
        <p:spPr>
          <a:xfrm>
            <a:off x="4289400" y="199080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челиное маточное молочко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итает и восстанавливает структуру поврежденных волос и защищает волосы от воздействия теп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о подобранны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таминный комплек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олняет волосы внутренней сил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94" name="TextBox 351"/>
          <p:cNvSpPr/>
          <p:nvPr/>
        </p:nvSpPr>
        <p:spPr>
          <a:xfrm>
            <a:off x="36360" y="41436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ВСЕХ ТИПОВ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Термозащитный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7" descr="KL_Shampoo_240_termozachitniy.jpg"/>
          <p:cNvPicPr/>
          <p:nvPr/>
        </p:nvPicPr>
        <p:blipFill>
          <a:blip r:embed="rId2"/>
          <a:stretch/>
        </p:blipFill>
        <p:spPr>
          <a:xfrm>
            <a:off x="1019160" y="2114640"/>
            <a:ext cx="1650960" cy="3343320"/>
          </a:xfrm>
          <a:prstGeom prst="rect">
            <a:avLst/>
          </a:prstGeom>
          <a:ln w="0">
            <a:noFill/>
          </a:ln>
        </p:spPr>
      </p:pic>
      <p:sp>
        <p:nvSpPr>
          <p:cNvPr id="196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"/>
          <p:cNvSpPr/>
          <p:nvPr/>
        </p:nvSpPr>
        <p:spPr>
          <a:xfrm>
            <a:off x="1509840" y="5353200"/>
            <a:ext cx="11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6"/>
          <p:cNvSpPr/>
          <p:nvPr/>
        </p:nvSpPr>
        <p:spPr>
          <a:xfrm>
            <a:off x="4289400" y="1981080"/>
            <a:ext cx="453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теины шелка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ащищают волосы от потери влаги, придают волосам шелковистость и восхитительный бле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о жож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лучшает структуру волос и укрепляет кор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7-конечная звезда 8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9" descr="KL_Shampoo_240_sholkoviy_blesk.jpg"/>
          <p:cNvPicPr/>
          <p:nvPr/>
        </p:nvPicPr>
        <p:blipFill>
          <a:blip r:embed="rId2"/>
          <a:stretch/>
        </p:blipFill>
        <p:spPr>
          <a:xfrm>
            <a:off x="646200" y="2104920"/>
            <a:ext cx="1639800" cy="33242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7" descr="KL_Balzam_240_shelkovy_blesk.jpg"/>
          <p:cNvPicPr/>
          <p:nvPr/>
        </p:nvPicPr>
        <p:blipFill>
          <a:blip r:embed="rId3"/>
          <a:stretch/>
        </p:blipFill>
        <p:spPr>
          <a:xfrm>
            <a:off x="2050920" y="2104920"/>
            <a:ext cx="1684440" cy="34117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9"/>
          <p:cNvSpPr/>
          <p:nvPr/>
        </p:nvSpPr>
        <p:spPr>
          <a:xfrm>
            <a:off x="1133640" y="5353200"/>
            <a:ext cx="11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0"/>
          <p:cNvSpPr/>
          <p:nvPr/>
        </p:nvSpPr>
        <p:spPr>
          <a:xfrm>
            <a:off x="2624040" y="53532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СУХИХ И ОСЛАБЛЕННЫХ ВОЛОС              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Шелковый блеск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Рисунок 8" descr="KL_Balzam_240_yarkiy_tsvet.jpg"/>
          <p:cNvPicPr/>
          <p:nvPr/>
        </p:nvPicPr>
        <p:blipFill>
          <a:blip r:embed="rId1"/>
          <a:stretch/>
        </p:blipFill>
        <p:spPr>
          <a:xfrm>
            <a:off x="4792680" y="4691160"/>
            <a:ext cx="852480" cy="172548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KL_Shampoo_480_idealny_ob'em.jpg"/>
          <p:cNvPicPr/>
          <p:nvPr/>
        </p:nvPicPr>
        <p:blipFill>
          <a:blip r:embed="rId2"/>
          <a:stretch/>
        </p:blipFill>
        <p:spPr>
          <a:xfrm>
            <a:off x="957240" y="874800"/>
            <a:ext cx="1166760" cy="23731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51"/>
          <p:cNvSpPr/>
          <p:nvPr/>
        </p:nvSpPr>
        <p:spPr>
          <a:xfrm>
            <a:off x="-20520" y="404640"/>
            <a:ext cx="76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СРЕДСТВ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 ПО УХОДУ ЗА ВОЛОСАМИ 19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S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Рисунок 8" descr="KL_Shampoo_480_ukreplyauchiy.jpg"/>
          <p:cNvPicPr/>
          <p:nvPr/>
        </p:nvPicPr>
        <p:blipFill>
          <a:blip r:embed="rId3"/>
          <a:stretch/>
        </p:blipFill>
        <p:spPr>
          <a:xfrm>
            <a:off x="19080" y="876240"/>
            <a:ext cx="1165320" cy="236844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5" descr="KL_Shampoo_480_elastichnost.jpg"/>
          <p:cNvPicPr/>
          <p:nvPr/>
        </p:nvPicPr>
        <p:blipFill>
          <a:blip r:embed="rId4"/>
          <a:stretch/>
        </p:blipFill>
        <p:spPr>
          <a:xfrm>
            <a:off x="1920960" y="878040"/>
            <a:ext cx="1166760" cy="23716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KL_Shampoo_480_iprotiv_perhoti.jpg"/>
          <p:cNvPicPr/>
          <p:nvPr/>
        </p:nvPicPr>
        <p:blipFill>
          <a:blip r:embed="rId5"/>
          <a:stretch/>
        </p:blipFill>
        <p:spPr>
          <a:xfrm>
            <a:off x="2882880" y="878040"/>
            <a:ext cx="1158840" cy="23526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4" descr="KL_Shampoo_240_ukreplyauchiy.jpg"/>
          <p:cNvPicPr/>
          <p:nvPr/>
        </p:nvPicPr>
        <p:blipFill>
          <a:blip r:embed="rId6"/>
          <a:stretch/>
        </p:blipFill>
        <p:spPr>
          <a:xfrm>
            <a:off x="179280" y="3073320"/>
            <a:ext cx="844560" cy="17096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4" descr="KL_Shampoo_240_idealny_ob'em.jpg"/>
          <p:cNvPicPr/>
          <p:nvPr/>
        </p:nvPicPr>
        <p:blipFill>
          <a:blip r:embed="rId7"/>
          <a:stretch/>
        </p:blipFill>
        <p:spPr>
          <a:xfrm>
            <a:off x="1112760" y="3079800"/>
            <a:ext cx="846360" cy="17128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8" descr="KL_Shampoo_240_all.tif"/>
          <p:cNvPicPr/>
          <p:nvPr/>
        </p:nvPicPr>
        <p:blipFill>
          <a:blip r:embed="rId8"/>
          <a:stretch/>
        </p:blipFill>
        <p:spPr>
          <a:xfrm>
            <a:off x="2097000" y="3048120"/>
            <a:ext cx="852480" cy="172548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12" descr="KL_Shampoo_240_protiv_perhoti.jpg"/>
          <p:cNvPicPr/>
          <p:nvPr/>
        </p:nvPicPr>
        <p:blipFill>
          <a:blip r:embed="rId9"/>
          <a:stretch/>
        </p:blipFill>
        <p:spPr>
          <a:xfrm>
            <a:off x="3025800" y="3068640"/>
            <a:ext cx="839880" cy="17017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12" descr="KL_Shampoo_240_mednoe_siyanie.jpg"/>
          <p:cNvPicPr/>
          <p:nvPr/>
        </p:nvPicPr>
        <p:blipFill>
          <a:blip r:embed="rId10"/>
          <a:stretch/>
        </p:blipFill>
        <p:spPr>
          <a:xfrm>
            <a:off x="6508800" y="3079800"/>
            <a:ext cx="846000" cy="17128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KL_Shampoo_240_yarkiy_tsvet.jpg"/>
          <p:cNvPicPr/>
          <p:nvPr/>
        </p:nvPicPr>
        <p:blipFill>
          <a:blip r:embed="rId11"/>
          <a:stretch/>
        </p:blipFill>
        <p:spPr>
          <a:xfrm>
            <a:off x="4780080" y="3076560"/>
            <a:ext cx="847440" cy="17161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5" descr="KL_Shampoo_240_siyanie_svetlih_volos.jpg"/>
          <p:cNvPicPr/>
          <p:nvPr/>
        </p:nvPicPr>
        <p:blipFill>
          <a:blip r:embed="rId12"/>
          <a:stretch/>
        </p:blipFill>
        <p:spPr>
          <a:xfrm>
            <a:off x="5640480" y="3078000"/>
            <a:ext cx="841320" cy="17049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12" descr="KL_Shampoo_240_idealny_balans.jpg"/>
          <p:cNvPicPr/>
          <p:nvPr/>
        </p:nvPicPr>
        <p:blipFill>
          <a:blip r:embed="rId13"/>
          <a:stretch/>
        </p:blipFill>
        <p:spPr>
          <a:xfrm>
            <a:off x="3889440" y="3079800"/>
            <a:ext cx="836640" cy="16938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7" descr="KL_Shampoo_240_termozachitniy.jpg"/>
          <p:cNvPicPr/>
          <p:nvPr/>
        </p:nvPicPr>
        <p:blipFill>
          <a:blip r:embed="rId14"/>
          <a:stretch/>
        </p:blipFill>
        <p:spPr>
          <a:xfrm>
            <a:off x="8255160" y="3073320"/>
            <a:ext cx="844560" cy="170964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9" descr="KL_Shampoo_240_sholkoviy_blesk.jpg"/>
          <p:cNvPicPr/>
          <p:nvPr/>
        </p:nvPicPr>
        <p:blipFill>
          <a:blip r:embed="rId15"/>
          <a:stretch/>
        </p:blipFill>
        <p:spPr>
          <a:xfrm>
            <a:off x="7359480" y="3079800"/>
            <a:ext cx="838440" cy="170028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8" descr="KL_Balzam_240_yniversalniyl.jpg"/>
          <p:cNvPicPr/>
          <p:nvPr/>
        </p:nvPicPr>
        <p:blipFill>
          <a:blip r:embed="rId16"/>
          <a:stretch/>
        </p:blipFill>
        <p:spPr>
          <a:xfrm>
            <a:off x="173160" y="4735440"/>
            <a:ext cx="850680" cy="1724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8" descr="KL_Balzam_240_elastichnost.jpg"/>
          <p:cNvPicPr/>
          <p:nvPr/>
        </p:nvPicPr>
        <p:blipFill>
          <a:blip r:embed="rId17"/>
          <a:stretch/>
        </p:blipFill>
        <p:spPr>
          <a:xfrm>
            <a:off x="2111400" y="4707000"/>
            <a:ext cx="847800" cy="1716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7" descr="KL_Balzam_240_idealny_balans.jpg"/>
          <p:cNvPicPr/>
          <p:nvPr/>
        </p:nvPicPr>
        <p:blipFill>
          <a:blip r:embed="rId18"/>
          <a:stretch/>
        </p:blipFill>
        <p:spPr>
          <a:xfrm>
            <a:off x="3886200" y="4695840"/>
            <a:ext cx="844560" cy="171144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30" descr="KL_Balzam_240_shelkovy_blesk.jpg"/>
          <p:cNvPicPr/>
          <p:nvPr/>
        </p:nvPicPr>
        <p:blipFill>
          <a:blip r:embed="rId19"/>
          <a:stretch/>
        </p:blipFill>
        <p:spPr>
          <a:xfrm>
            <a:off x="7365960" y="4695840"/>
            <a:ext cx="857160" cy="1735200"/>
          </a:xfrm>
          <a:prstGeom prst="rect">
            <a:avLst/>
          </a:prstGeom>
          <a:ln w="0">
            <a:noFill/>
          </a:ln>
        </p:spPr>
      </p:pic>
      <p:sp>
        <p:nvSpPr>
          <p:cNvPr id="226" name="TextBox 35"/>
          <p:cNvSpPr/>
          <p:nvPr/>
        </p:nvSpPr>
        <p:spPr>
          <a:xfrm>
            <a:off x="352440" y="72396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Шампуни 480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36"/>
          <p:cNvSpPr/>
          <p:nvPr/>
        </p:nvSpPr>
        <p:spPr>
          <a:xfrm>
            <a:off x="352440" y="295272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Шампуни 240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7"/>
          <p:cNvSpPr/>
          <p:nvPr/>
        </p:nvSpPr>
        <p:spPr>
          <a:xfrm>
            <a:off x="352440" y="462744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Бальзамы 23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0" descr="Red_line_New_Logo.gif"/>
          <p:cNvPicPr/>
          <p:nvPr/>
        </p:nvPicPr>
        <p:blipFill>
          <a:blip r:embed="rId20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8" descr="KL_Balzam_240_yniversalniyl.jpg"/>
          <p:cNvPicPr/>
          <p:nvPr/>
        </p:nvPicPr>
        <p:blipFill>
          <a:blip r:embed="rId1"/>
          <a:stretch/>
        </p:blipFill>
        <p:spPr>
          <a:xfrm>
            <a:off x="8209080" y="2503440"/>
            <a:ext cx="1025280" cy="212724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7" descr="KL_Shampoo_240_termozachitniy.jpg"/>
          <p:cNvPicPr/>
          <p:nvPr/>
        </p:nvPicPr>
        <p:blipFill>
          <a:blip r:embed="rId2"/>
          <a:stretch/>
        </p:blipFill>
        <p:spPr>
          <a:xfrm>
            <a:off x="6845400" y="2505240"/>
            <a:ext cx="1052280" cy="2131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6" descr="KL_Shampoo_480_idealny_ob'em.jpg"/>
          <p:cNvPicPr/>
          <p:nvPr/>
        </p:nvPicPr>
        <p:blipFill>
          <a:blip r:embed="rId3"/>
          <a:stretch/>
        </p:blipFill>
        <p:spPr>
          <a:xfrm>
            <a:off x="1952640" y="1838160"/>
            <a:ext cx="1530360" cy="29401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7" descr="KL_Shampoo_480_iprotiv_perhoti.jpg"/>
          <p:cNvPicPr/>
          <p:nvPr/>
        </p:nvPicPr>
        <p:blipFill>
          <a:blip r:embed="rId4"/>
          <a:stretch/>
        </p:blipFill>
        <p:spPr>
          <a:xfrm>
            <a:off x="3798720" y="1828800"/>
            <a:ext cx="1449720" cy="29401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8" descr="KL_Shampoo_240_all.tif"/>
          <p:cNvPicPr/>
          <p:nvPr/>
        </p:nvPicPr>
        <p:blipFill>
          <a:blip r:embed="rId5"/>
          <a:stretch/>
        </p:blipFill>
        <p:spPr>
          <a:xfrm>
            <a:off x="5452920" y="2467080"/>
            <a:ext cx="1073160" cy="217008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10" descr="Red_line_New_Logo.gif"/>
          <p:cNvPicPr/>
          <p:nvPr/>
        </p:nvPicPr>
        <p:blipFill>
          <a:blip r:embed="rId6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6" descr=""/>
          <p:cNvPicPr/>
          <p:nvPr/>
        </p:nvPicPr>
        <p:blipFill>
          <a:blip r:embed="rId7"/>
          <a:stretch/>
        </p:blipFill>
        <p:spPr>
          <a:xfrm>
            <a:off x="4968720" y="2511360"/>
            <a:ext cx="665280" cy="2124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8" descr=""/>
          <p:cNvPicPr/>
          <p:nvPr/>
        </p:nvPicPr>
        <p:blipFill>
          <a:blip r:embed="rId8"/>
          <a:stretch/>
        </p:blipFill>
        <p:spPr>
          <a:xfrm>
            <a:off x="7753320" y="2508120"/>
            <a:ext cx="627120" cy="2127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9" descr=""/>
          <p:cNvPicPr/>
          <p:nvPr/>
        </p:nvPicPr>
        <p:blipFill>
          <a:blip r:embed="rId9"/>
          <a:stretch/>
        </p:blipFill>
        <p:spPr>
          <a:xfrm>
            <a:off x="6364440" y="2498760"/>
            <a:ext cx="655560" cy="215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1" descr=""/>
          <p:cNvPicPr/>
          <p:nvPr/>
        </p:nvPicPr>
        <p:blipFill>
          <a:blip r:embed="rId10"/>
          <a:stretch/>
        </p:blipFill>
        <p:spPr>
          <a:xfrm>
            <a:off x="0" y="1886040"/>
            <a:ext cx="811080" cy="26049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2" descr=""/>
          <p:cNvPicPr/>
          <p:nvPr/>
        </p:nvPicPr>
        <p:blipFill>
          <a:blip r:embed="rId11"/>
          <a:stretch/>
        </p:blipFill>
        <p:spPr>
          <a:xfrm>
            <a:off x="774720" y="2610000"/>
            <a:ext cx="736560" cy="1868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3" descr=""/>
          <p:cNvPicPr/>
          <p:nvPr/>
        </p:nvPicPr>
        <p:blipFill>
          <a:blip r:embed="rId12"/>
          <a:stretch/>
        </p:blipFill>
        <p:spPr>
          <a:xfrm>
            <a:off x="1463760" y="2571840"/>
            <a:ext cx="796680" cy="189216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51"/>
          <p:cNvSpPr/>
          <p:nvPr/>
        </p:nvSpPr>
        <p:spPr>
          <a:xfrm>
            <a:off x="36360" y="414360"/>
            <a:ext cx="76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ЦЕНОВОЕ ПОЗИЦИО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Стрелка вправо 39"/>
          <p:cNvSpPr/>
          <p:nvPr/>
        </p:nvSpPr>
        <p:spPr>
          <a:xfrm>
            <a:off x="1824120" y="4668840"/>
            <a:ext cx="3252600" cy="105732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МИНУС -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7-конечная звезда 42"/>
          <p:cNvSpPr/>
          <p:nvPr/>
        </p:nvSpPr>
        <p:spPr>
          <a:xfrm>
            <a:off x="6696000" y="4259160"/>
            <a:ext cx="2171880" cy="163692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6" descr=""/>
          <p:cNvPicPr/>
          <p:nvPr/>
        </p:nvPicPr>
        <p:blipFill>
          <a:blip r:embed="rId13"/>
          <a:stretch/>
        </p:blipFill>
        <p:spPr>
          <a:xfrm>
            <a:off x="3162240" y="1905120"/>
            <a:ext cx="9525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8" descr="KL_Balzam_240_yniversalniyl.jpg"/>
          <p:cNvPicPr/>
          <p:nvPr/>
        </p:nvPicPr>
        <p:blipFill>
          <a:blip r:embed="rId1"/>
          <a:stretch/>
        </p:blipFill>
        <p:spPr>
          <a:xfrm>
            <a:off x="7066080" y="4081320"/>
            <a:ext cx="774720" cy="1606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KL_Shampoo_480_idealny_ob'em.jpg"/>
          <p:cNvPicPr/>
          <p:nvPr/>
        </p:nvPicPr>
        <p:blipFill>
          <a:blip r:embed="rId2"/>
          <a:stretch/>
        </p:blipFill>
        <p:spPr>
          <a:xfrm>
            <a:off x="2406600" y="3557520"/>
            <a:ext cx="1155600" cy="22194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7" descr="KL_Shampoo_480_iprotiv_perhoti.jpg"/>
          <p:cNvPicPr/>
          <p:nvPr/>
        </p:nvPicPr>
        <p:blipFill>
          <a:blip r:embed="rId3"/>
          <a:stretch/>
        </p:blipFill>
        <p:spPr>
          <a:xfrm>
            <a:off x="3830760" y="3583080"/>
            <a:ext cx="1084320" cy="220032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8" descr="KL_Shampoo_240_all.tif"/>
          <p:cNvPicPr/>
          <p:nvPr/>
        </p:nvPicPr>
        <p:blipFill>
          <a:blip r:embed="rId4"/>
          <a:stretch/>
        </p:blipFill>
        <p:spPr>
          <a:xfrm>
            <a:off x="5265720" y="4064040"/>
            <a:ext cx="782640" cy="1584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10" descr="Red_line_New_Logo.gif"/>
          <p:cNvPicPr/>
          <p:nvPr/>
        </p:nvPicPr>
        <p:blipFill>
          <a:blip r:embed="rId5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7" descr="KL_Shampoo_240_termozachitniy.jpg"/>
          <p:cNvPicPr/>
          <p:nvPr/>
        </p:nvPicPr>
        <p:blipFill>
          <a:blip r:embed="rId6"/>
          <a:stretch/>
        </p:blipFill>
        <p:spPr>
          <a:xfrm>
            <a:off x="6450120" y="4091040"/>
            <a:ext cx="776160" cy="15714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6" descr=""/>
          <p:cNvPicPr/>
          <p:nvPr/>
        </p:nvPicPr>
        <p:blipFill>
          <a:blip r:embed="rId7"/>
          <a:stretch/>
        </p:blipFill>
        <p:spPr>
          <a:xfrm>
            <a:off x="4826160" y="4071960"/>
            <a:ext cx="490320" cy="1566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8" descr=""/>
          <p:cNvPicPr/>
          <p:nvPr/>
        </p:nvPicPr>
        <p:blipFill>
          <a:blip r:embed="rId8"/>
          <a:stretch/>
        </p:blipFill>
        <p:spPr>
          <a:xfrm>
            <a:off x="7800840" y="4081320"/>
            <a:ext cx="473040" cy="1606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9" descr=""/>
          <p:cNvPicPr/>
          <p:nvPr/>
        </p:nvPicPr>
        <p:blipFill>
          <a:blip r:embed="rId9"/>
          <a:stretch/>
        </p:blipFill>
        <p:spPr>
          <a:xfrm>
            <a:off x="6008760" y="4091040"/>
            <a:ext cx="476280" cy="15634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1" descr=""/>
          <p:cNvPicPr/>
          <p:nvPr/>
        </p:nvPicPr>
        <p:blipFill>
          <a:blip r:embed="rId10"/>
          <a:stretch/>
        </p:blipFill>
        <p:spPr>
          <a:xfrm>
            <a:off x="704880" y="3586320"/>
            <a:ext cx="612720" cy="1966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2" descr=""/>
          <p:cNvPicPr/>
          <p:nvPr/>
        </p:nvPicPr>
        <p:blipFill>
          <a:blip r:embed="rId11"/>
          <a:stretch/>
        </p:blipFill>
        <p:spPr>
          <a:xfrm>
            <a:off x="1327320" y="4148280"/>
            <a:ext cx="555480" cy="14094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3" descr=""/>
          <p:cNvPicPr/>
          <p:nvPr/>
        </p:nvPicPr>
        <p:blipFill>
          <a:blip r:embed="rId12"/>
          <a:stretch/>
        </p:blipFill>
        <p:spPr>
          <a:xfrm>
            <a:off x="1871640" y="4132440"/>
            <a:ext cx="601560" cy="14284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51"/>
          <p:cNvSpPr/>
          <p:nvPr/>
        </p:nvSpPr>
        <p:spPr>
          <a:xfrm>
            <a:off x="36360" y="414360"/>
            <a:ext cx="765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Расположение на пол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категория </a:t>
            </a: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УХОД ЗА ВОЛО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6" descr=""/>
          <p:cNvPicPr/>
          <p:nvPr/>
        </p:nvPicPr>
        <p:blipFill>
          <a:blip r:embed="rId13"/>
          <a:stretch/>
        </p:blipFill>
        <p:spPr>
          <a:xfrm>
            <a:off x="3343320" y="3618000"/>
            <a:ext cx="720720" cy="19558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14"/>
          <a:stretch/>
        </p:blipFill>
        <p:spPr>
          <a:xfrm>
            <a:off x="652320" y="1838160"/>
            <a:ext cx="1684440" cy="155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"/>
          <p:cNvPicPr/>
          <p:nvPr/>
        </p:nvPicPr>
        <p:blipFill>
          <a:blip r:embed="rId15"/>
          <a:stretch/>
        </p:blipFill>
        <p:spPr>
          <a:xfrm>
            <a:off x="2298600" y="1927080"/>
            <a:ext cx="1590840" cy="13716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"/>
          <p:cNvPicPr/>
          <p:nvPr/>
        </p:nvPicPr>
        <p:blipFill>
          <a:blip r:embed="rId16"/>
          <a:stretch/>
        </p:blipFill>
        <p:spPr>
          <a:xfrm>
            <a:off x="3987720" y="1781280"/>
            <a:ext cx="612720" cy="15271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17"/>
          <a:stretch/>
        </p:blipFill>
        <p:spPr>
          <a:xfrm>
            <a:off x="4619520" y="1752480"/>
            <a:ext cx="657360" cy="155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8" descr="http://www.loved.ru/data/medium/sh_q10_1.jpg"/>
          <p:cNvPicPr/>
          <p:nvPr/>
        </p:nvPicPr>
        <p:blipFill>
          <a:blip r:embed="rId18"/>
          <a:stretch/>
        </p:blipFill>
        <p:spPr>
          <a:xfrm>
            <a:off x="5261040" y="1724040"/>
            <a:ext cx="669960" cy="1584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Картинка 17 из 59"/>
          <p:cNvPicPr/>
          <p:nvPr/>
        </p:nvPicPr>
        <p:blipFill>
          <a:blip r:embed="rId19"/>
          <a:stretch/>
        </p:blipFill>
        <p:spPr>
          <a:xfrm>
            <a:off x="6004080" y="1743120"/>
            <a:ext cx="528480" cy="15555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Картинка 17 из 59"/>
          <p:cNvPicPr/>
          <p:nvPr/>
        </p:nvPicPr>
        <p:blipFill>
          <a:blip r:embed="rId20"/>
          <a:stretch/>
        </p:blipFill>
        <p:spPr>
          <a:xfrm>
            <a:off x="6622920" y="1752480"/>
            <a:ext cx="528840" cy="155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Картинка 17 из 59"/>
          <p:cNvPicPr/>
          <p:nvPr/>
        </p:nvPicPr>
        <p:blipFill>
          <a:blip r:embed="rId21"/>
          <a:stretch/>
        </p:blipFill>
        <p:spPr>
          <a:xfrm>
            <a:off x="7203960" y="1752480"/>
            <a:ext cx="528840" cy="1555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Картинка 17 из 59"/>
          <p:cNvPicPr/>
          <p:nvPr/>
        </p:nvPicPr>
        <p:blipFill>
          <a:blip r:embed="rId22"/>
          <a:stretch/>
        </p:blipFill>
        <p:spPr>
          <a:xfrm>
            <a:off x="7804080" y="1752480"/>
            <a:ext cx="5288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368280" y="1392120"/>
            <a:ext cx="845820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ОФОРМЛЕНИЕ ТОРГОВЫХ ТОЧЕК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елфто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бл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каты А3 форм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КЦИИ ДЛЯ СЕТЕВЫХ ТОРГОВЫХ ТОЧЕК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ие в листовках и каталогах в категории «НОВИ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«Снижение цен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ции «Подарок за покупку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лата «Входного биле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КЦИИ ДЛЯ РОЗНИЧНЫХ ТОРГОВЫХ ТОЧЕК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стовки с анонсом нови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нус за закупку линейки (минимум 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КЦИИ ДЛЯ ТОРГОВЫХ ПРЕДСТАВИТЕЛЕЙ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548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 торговых представителей при выполнении плана по АК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51"/>
          <p:cNvSpPr/>
          <p:nvPr/>
        </p:nvSpPr>
        <p:spPr>
          <a:xfrm>
            <a:off x="36360" y="414360"/>
            <a:ext cx="76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МАРКЕТИНГОВАЯ ПОДДЕР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51"/>
          <p:cNvSpPr/>
          <p:nvPr/>
        </p:nvSpPr>
        <p:spPr>
          <a:xfrm>
            <a:off x="33480" y="41436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US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обязательный ассортимент в торговых т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89000" y="1889280"/>
          <a:ext cx="8788320" cy="1585800"/>
        </p:xfrm>
        <a:graphic>
          <a:graphicData uri="http://schemas.openxmlformats.org/drawingml/2006/table">
            <a:tbl>
              <a:tblPr/>
              <a:tblGrid>
                <a:gridCol w="461880"/>
                <a:gridCol w="463680"/>
                <a:gridCol w="461880"/>
                <a:gridCol w="463320"/>
                <a:gridCol w="462240"/>
                <a:gridCol w="463320"/>
                <a:gridCol w="460440"/>
                <a:gridCol w="463680"/>
                <a:gridCol w="463320"/>
                <a:gridCol w="460440"/>
                <a:gridCol w="463680"/>
                <a:gridCol w="463680"/>
                <a:gridCol w="460080"/>
                <a:gridCol w="463680"/>
                <a:gridCol w="461880"/>
                <a:gridCol w="463680"/>
                <a:gridCol w="461880"/>
                <a:gridCol w="463680"/>
                <a:gridCol w="461880"/>
              </a:tblGrid>
              <a:tr h="322200">
                <a:tc gridSpan="19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ГИПЕРМАРКЕТЫ / CASH &amp; CARRY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ЭЛАСТИЧНОСТ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ПРОТИВ ПЕРХОТ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ЭЛАСТИЧНОСТЬ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БАЛАНС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СИЯНИЕ СВЕТЛЫХ ВОЛОС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МЕДНОЕ СИЯНИЕ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ЭЛАСТИЧНОСТЬ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ИДЕАЛЬНЫЙ БАЛАНС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231840" y="3981600"/>
          <a:ext cx="5629320" cy="1546200"/>
        </p:xfrm>
        <a:graphic>
          <a:graphicData uri="http://schemas.openxmlformats.org/drawingml/2006/table">
            <a:tbl>
              <a:tblPr/>
              <a:tblGrid>
                <a:gridCol w="623880"/>
                <a:gridCol w="627120"/>
                <a:gridCol w="625320"/>
                <a:gridCol w="625680"/>
                <a:gridCol w="625320"/>
                <a:gridCol w="625320"/>
                <a:gridCol w="625680"/>
                <a:gridCol w="627120"/>
                <a:gridCol w="623880"/>
              </a:tblGrid>
              <a:tr h="4284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СУПЕРМАРКЕТ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7" name=""/>
          <p:cNvGraphicFramePr/>
          <p:nvPr/>
        </p:nvGraphicFramePr>
        <p:xfrm>
          <a:off x="262080" y="1673280"/>
          <a:ext cx="6984720" cy="1158840"/>
        </p:xfrm>
        <a:graphic>
          <a:graphicData uri="http://schemas.openxmlformats.org/drawingml/2006/table">
            <a:tbl>
              <a:tblPr/>
              <a:tblGrid>
                <a:gridCol w="634680"/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4680"/>
                <a:gridCol w="635040"/>
              </a:tblGrid>
              <a:tr h="320400">
                <a:tc gridSpan="11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РОГЕРИ / КОСМЕТИКА+ХОЗЯЙСТВЕННЫЙ ТОВАР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ЭЛАСТИЧНОСТЬ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БАЛАНС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266760" y="3294000"/>
          <a:ext cx="2539800" cy="115884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4680"/>
              </a:tblGrid>
              <a:tr h="320400">
                <a:tc gridSpan="4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МИНИМАРКЕТ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254160" y="4943520"/>
          <a:ext cx="3174840" cy="1158840"/>
        </p:xfrm>
        <a:graphic>
          <a:graphicData uri="http://schemas.openxmlformats.org/drawingml/2006/table">
            <a:tbl>
              <a:tblPr/>
              <a:tblGrid>
                <a:gridCol w="634680"/>
                <a:gridCol w="635040"/>
                <a:gridCol w="635040"/>
                <a:gridCol w="635040"/>
                <a:gridCol w="635040"/>
              </a:tblGrid>
              <a:tr h="320400">
                <a:tc gridSpan="5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ДИСКАУНТЕРЫ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ШЕЛКОВЫЙ БЛЕСК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3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extBox 351"/>
          <p:cNvSpPr/>
          <p:nvPr/>
        </p:nvSpPr>
        <p:spPr>
          <a:xfrm>
            <a:off x="33480" y="41436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US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обязательный ассортимент в торговых т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2" name=""/>
          <p:cNvGraphicFramePr/>
          <p:nvPr/>
        </p:nvGraphicFramePr>
        <p:xfrm>
          <a:off x="272880" y="1590840"/>
          <a:ext cx="5715000" cy="1158840"/>
        </p:xfrm>
        <a:graphic>
          <a:graphicData uri="http://schemas.openxmlformats.org/drawingml/2006/table">
            <a:tbl>
              <a:tblPr/>
              <a:tblGrid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5040"/>
                <a:gridCol w="634680"/>
              </a:tblGrid>
              <a:tr h="320040">
                <a:tc gridSpan="9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АДИЦИОННЫЙ МАГАЗИН. Категории А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4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ТЕРМОЗАЩИТ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ЯРКИЙ ЦВЕТ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263520" y="3209760"/>
          <a:ext cx="4378320" cy="1052640"/>
        </p:xfrm>
        <a:graphic>
          <a:graphicData uri="http://schemas.openxmlformats.org/drawingml/2006/table">
            <a:tbl>
              <a:tblPr/>
              <a:tblGrid>
                <a:gridCol w="820800"/>
                <a:gridCol w="820800"/>
                <a:gridCol w="820440"/>
                <a:gridCol w="820800"/>
                <a:gridCol w="820800"/>
                <a:gridCol w="274680"/>
              </a:tblGrid>
              <a:tr h="3222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РАДИЦИОННЫЙ МАГАЗИН. Категории В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ПРОТИВ ПЕРХОТ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276120" y="4748040"/>
          <a:ext cx="4378320" cy="1052640"/>
        </p:xfrm>
        <a:graphic>
          <a:graphicData uri="http://schemas.openxmlformats.org/drawingml/2006/table">
            <a:tbl>
              <a:tblPr/>
              <a:tblGrid>
                <a:gridCol w="820800"/>
                <a:gridCol w="820800"/>
                <a:gridCol w="820800"/>
                <a:gridCol w="820800"/>
                <a:gridCol w="820440"/>
                <a:gridCol w="274680"/>
              </a:tblGrid>
              <a:tr h="3222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ТОРГОВАЯ ТОЧКА на ОТКРЫТОМ РЫНКЕ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УКРЕПЛЯЮЩ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 Шампунь ИДЕАЛЬНЫЙ ОБЪЕ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УКРЕПЛЯЮЩИ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Шампунь ИДЕАЛЬНЫЙ ОБЪЕМ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КЛ Бальзам д/в УНИВЕРСАЛЬНЫЙ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8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40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35г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Box 351"/>
          <p:cNvSpPr/>
          <p:nvPr/>
        </p:nvSpPr>
        <p:spPr>
          <a:xfrm>
            <a:off x="33480" y="414360"/>
            <a:ext cx="73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MUST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обязательный ассортимент в торговых точ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351"/>
          <p:cNvSpPr/>
          <p:nvPr/>
        </p:nvSpPr>
        <p:spPr>
          <a:xfrm>
            <a:off x="36360" y="414360"/>
            <a:ext cx="76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ЛОГИСТИЧЕСК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620640" y="1800360"/>
          <a:ext cx="7799400" cy="4343400"/>
        </p:xfrm>
        <a:graphic>
          <a:graphicData uri="http://schemas.openxmlformats.org/drawingml/2006/table">
            <a:tbl>
              <a:tblPr/>
              <a:tblGrid>
                <a:gridCol w="646200"/>
                <a:gridCol w="669960"/>
                <a:gridCol w="4103640"/>
                <a:gridCol w="720720"/>
                <a:gridCol w="517680"/>
                <a:gridCol w="1141200"/>
              </a:tblGrid>
              <a:tr h="558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- холдинг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 вес штуки (мл,г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 в уп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-к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ИДЕАЛЬНЫЙ БАЛАНС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5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ЯРКИЙ ЦВЕТ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5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5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ШЕЛКОВЫЙ БЛЕСК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5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6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ЭЛАСТИЧНОСТЬ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6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9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альзам д/в УНИВЕРСАЛЬНЫЙ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 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67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ПРОТИВ ПЕРХОТИ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ЭЛАСТИЧНОСТЬ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7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2в1 ИДЕАЛЬНЫЙ ОБЪЕМ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7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ЯРКИЙ ЦВЕТ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7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ТЕРМОЗАЩИТНЫЙ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7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ШЕЛКОВЫЙ БЛЕСК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ИДЕАЛЬНЫЙ БАЛАНС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8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7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УКРЕПЛЯЮЩИЙ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27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3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МЕДНОЕ СИЯНИЕ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43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Шампунь СИЯНИЕ СВЕТЛЫХ ВОЛОС  NEW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4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ПРОТИВ ПЕРХОТИ/480 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36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2в1 ИДЕАЛЬНЫЙ ОБЪЕМ/480 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 8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УКРЕПЛЯЮЩИЙ/480 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20"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1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4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БО Шампунь ЭЛАСТИЧНОСТЬ/480</a:t>
                      </a:r>
                      <a:r>
                        <a:rPr b="0" i="1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20% бесплатно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 г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3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51"/>
          <p:cNvSpPr/>
          <p:nvPr/>
        </p:nvSpPr>
        <p:spPr>
          <a:xfrm>
            <a:off x="36360" y="423720"/>
            <a:ext cx="765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ВСЕХ ТИПОВ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Укрепляющий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БАЛЬЗАМ ДЛЯ ВСЕХ ТИПОВ ВОЛОС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Универсальный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KL_Shampoo_480_ukreplyauchiy.jpg"/>
          <p:cNvPicPr/>
          <p:nvPr/>
        </p:nvPicPr>
        <p:blipFill>
          <a:blip r:embed="rId2"/>
          <a:stretch/>
        </p:blipFill>
        <p:spPr>
          <a:xfrm>
            <a:off x="-281160" y="1457280"/>
            <a:ext cx="2048040" cy="4162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4280040" y="1981080"/>
            <a:ext cx="45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ый антиоксидант, защищает структуру волос, наполняет волосы 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жемч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укрепляет волосы по всей длине, придает здоровый блеск и внутреннюю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14" descr="KL_Shampoo_240_ukreplyauchiy.jpg"/>
          <p:cNvPicPr/>
          <p:nvPr/>
        </p:nvPicPr>
        <p:blipFill>
          <a:blip r:embed="rId3"/>
          <a:stretch/>
        </p:blipFill>
        <p:spPr>
          <a:xfrm>
            <a:off x="1338120" y="2114640"/>
            <a:ext cx="1651320" cy="3343320"/>
          </a:xfrm>
          <a:prstGeom prst="rect">
            <a:avLst/>
          </a:prstGeom>
          <a:ln w="0">
            <a:noFill/>
          </a:ln>
        </p:spPr>
      </p:pic>
      <p:sp>
        <p:nvSpPr>
          <p:cNvPr id="133" name="7-конечная звезда 7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8" descr="KL_Balzam_240_yniversalniyl.jpg"/>
          <p:cNvPicPr/>
          <p:nvPr/>
        </p:nvPicPr>
        <p:blipFill>
          <a:blip r:embed="rId4"/>
          <a:stretch/>
        </p:blipFill>
        <p:spPr>
          <a:xfrm>
            <a:off x="2708280" y="2114640"/>
            <a:ext cx="1663560" cy="33703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419040" y="5353200"/>
            <a:ext cx="104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824120" y="535320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>
            <a:off x="3201840" y="5353200"/>
            <a:ext cx="12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51"/>
          <p:cNvSpPr/>
          <p:nvPr/>
        </p:nvSpPr>
        <p:spPr>
          <a:xfrm>
            <a:off x="0" y="414360"/>
            <a:ext cx="71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Arial"/>
              </a:rPr>
              <a:t>НАШИ 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173160" y="1612800"/>
            <a:ext cx="865332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ТО МЫ ЖДЕМ ОТ НОВОГО ПРОДУК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ринципиально новый уровень дистрибуции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ус на данной линейке всех сотрудников компании-дистрибут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количественной дистрибу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и глубины дистрибу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обязательного ассортимента во всех каналах сбыта в соответствии с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Lis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3520" indent="-3618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ение лояльности конечных потребителей к торговой марке «Красная ли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42800" indent="-4428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величение прибыли компании-дистрибутора и доходов всех сотрудников, связанных с реализацией данной прод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293" name="TextBox 351"/>
          <p:cNvSpPr/>
          <p:nvPr/>
        </p:nvSpPr>
        <p:spPr>
          <a:xfrm>
            <a:off x="957240" y="323388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ХОРОШИХ ПРОД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6" descr="KL_Shampoo_480_idealny_ob'em.jpg"/>
          <p:cNvPicPr/>
          <p:nvPr/>
        </p:nvPicPr>
        <p:blipFill>
          <a:blip r:embed="rId1"/>
          <a:stretch/>
        </p:blipFill>
        <p:spPr>
          <a:xfrm>
            <a:off x="511200" y="1468440"/>
            <a:ext cx="2050920" cy="41702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4289400" y="198108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щный антиоксидант, защищает структуру волос, наполняет волосы энерг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орхид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осстанавливает структуру волос, придавая им упругость и внутреннюю си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10" descr="Red_line_New_Logo.gif"/>
          <p:cNvPicPr/>
          <p:nvPr/>
        </p:nvPicPr>
        <p:blipFill>
          <a:blip r:embed="rId2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2в1 ДЛЯ НОРМАЛЬНЫХ И ТОНКИ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Идеальный объем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14" descr="KL_Shampoo_240_idealny_ob'em.jpg"/>
          <p:cNvPicPr/>
          <p:nvPr/>
        </p:nvPicPr>
        <p:blipFill>
          <a:blip r:embed="rId3"/>
          <a:stretch/>
        </p:blipFill>
        <p:spPr>
          <a:xfrm>
            <a:off x="2128680" y="2114640"/>
            <a:ext cx="1654200" cy="3349440"/>
          </a:xfrm>
          <a:prstGeom prst="rect">
            <a:avLst/>
          </a:prstGeom>
          <a:ln w="0">
            <a:noFill/>
          </a:ln>
        </p:spPr>
      </p:pic>
      <p:sp>
        <p:nvSpPr>
          <p:cNvPr id="143" name="7-конечная звезда 7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219320" y="5353200"/>
            <a:ext cx="119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2624040" y="5353200"/>
            <a:ext cx="11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5" descr="KL_Shampoo_480_elastichnost.jpg"/>
          <p:cNvPicPr/>
          <p:nvPr/>
        </p:nvPicPr>
        <p:blipFill>
          <a:blip r:embed="rId1"/>
          <a:stretch/>
        </p:blipFill>
        <p:spPr>
          <a:xfrm>
            <a:off x="-279360" y="1454040"/>
            <a:ext cx="2050920" cy="41673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9"/>
          <p:cNvSpPr/>
          <p:nvPr/>
        </p:nvSpPr>
        <p:spPr>
          <a:xfrm>
            <a:off x="4289400" y="1981080"/>
            <a:ext cx="4537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о авокад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итает, устраняет ломкость, придает блеск и эластичность волос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зеленого ч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онизирует кожу головы, укрепляет корни, улучшает структуру волос,предотвращает чрезмерное пересушивание и обеспечивает полноценный сбалансированный  ух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0" descr="Red_line_New_Logo.gif"/>
          <p:cNvPicPr/>
          <p:nvPr/>
        </p:nvPicPr>
        <p:blipFill>
          <a:blip r:embed="rId2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НОРМАЛЬ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Эластичность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БАЛЬЗАМ ДЛЯ НОРМАЛЬ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Эластичность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8" descr="KL_Shampoo_240_all.tif"/>
          <p:cNvPicPr/>
          <p:nvPr/>
        </p:nvPicPr>
        <p:blipFill>
          <a:blip r:embed="rId3"/>
          <a:stretch/>
        </p:blipFill>
        <p:spPr>
          <a:xfrm>
            <a:off x="1328760" y="2063880"/>
            <a:ext cx="1654200" cy="33462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8" descr="KL_Balzam_240_elastichnost.jpg"/>
          <p:cNvPicPr/>
          <p:nvPr/>
        </p:nvPicPr>
        <p:blipFill>
          <a:blip r:embed="rId4"/>
          <a:stretch/>
        </p:blipFill>
        <p:spPr>
          <a:xfrm>
            <a:off x="2708280" y="2114640"/>
            <a:ext cx="165564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419040" y="5353200"/>
            <a:ext cx="11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1824120" y="535320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3201840" y="5353200"/>
            <a:ext cx="101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7-конечная звезда 11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7" descr="KL_Shampoo_480_iprotiv_perhoti.jpg"/>
          <p:cNvPicPr/>
          <p:nvPr/>
        </p:nvPicPr>
        <p:blipFill>
          <a:blip r:embed="rId1"/>
          <a:stretch/>
        </p:blipFill>
        <p:spPr>
          <a:xfrm>
            <a:off x="519120" y="1457280"/>
            <a:ext cx="2035080" cy="413388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4289400" y="1981080"/>
            <a:ext cx="473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нк-комлекс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ет бактерицидным и противогрибковым действием, восстанавливает естественный баланс кожи головы, эффективно устраняет перхоть и препятствует её дальнейшему появл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мя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тонизирует, оказывает освежающее и успокаивающее действие на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0" descr="Red_line_New_Logo.gif"/>
          <p:cNvPicPr/>
          <p:nvPr/>
        </p:nvPicPr>
        <p:blipFill>
          <a:blip r:embed="rId2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51"/>
          <p:cNvSpPr/>
          <p:nvPr/>
        </p:nvSpPr>
        <p:spPr>
          <a:xfrm>
            <a:off x="36360" y="414360"/>
            <a:ext cx="76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ВСЕХ ТИПОВ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Против перхоти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2" descr="KL_Shampoo_240_protiv_perhoti.jpg"/>
          <p:cNvPicPr/>
          <p:nvPr/>
        </p:nvPicPr>
        <p:blipFill>
          <a:blip r:embed="rId3"/>
          <a:stretch/>
        </p:blipFill>
        <p:spPr>
          <a:xfrm>
            <a:off x="2130480" y="2114640"/>
            <a:ext cx="1643040" cy="3327480"/>
          </a:xfrm>
          <a:prstGeom prst="rect">
            <a:avLst/>
          </a:prstGeom>
          <a:ln w="0">
            <a:noFill/>
          </a:ln>
        </p:spPr>
      </p:pic>
      <p:sp>
        <p:nvSpPr>
          <p:cNvPr id="161" name="TextBox 8"/>
          <p:cNvSpPr/>
          <p:nvPr/>
        </p:nvSpPr>
        <p:spPr>
          <a:xfrm>
            <a:off x="1219320" y="53532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8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2624040" y="5353200"/>
            <a:ext cx="10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7-конечная звезда 9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6"/>
          <p:cNvSpPr/>
          <p:nvPr/>
        </p:nvSpPr>
        <p:spPr>
          <a:xfrm>
            <a:off x="4192560" y="203364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какао-бобов 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крепляет корни волос, тонизирует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кор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сохраняет естественный блеск темных волос, придает им яркость и сия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ТЕМНЫХ ВОЛОС ВСЕХ ОТТЕНКОВ                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Медное сияние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Рисунок 12" descr="KL_Shampoo_240_mednoe_siyanie.jpg"/>
          <p:cNvPicPr/>
          <p:nvPr/>
        </p:nvPicPr>
        <p:blipFill>
          <a:blip r:embed="rId2"/>
          <a:stretch/>
        </p:blipFill>
        <p:spPr>
          <a:xfrm>
            <a:off x="1020600" y="2114640"/>
            <a:ext cx="1654200" cy="3349440"/>
          </a:xfrm>
          <a:prstGeom prst="rect">
            <a:avLst/>
          </a:prstGeom>
          <a:ln w="0">
            <a:noFill/>
          </a:ln>
        </p:spPr>
      </p:pic>
      <p:sp>
        <p:nvSpPr>
          <p:cNvPr id="168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509840" y="5353200"/>
            <a:ext cx="11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6"/>
          <p:cNvSpPr/>
          <p:nvPr/>
        </p:nvSpPr>
        <p:spPr>
          <a:xfrm>
            <a:off x="4289400" y="1981080"/>
            <a:ext cx="453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абрикос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итает и восстанавливает структуру окрашенных волос, надолго сохраняет цвет и придает волосам восхитительный блеск.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ло жожоб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казывает на волосы кондиционирующий эффект, защищает окрашенные волосы от обесцвечивания и придает им естественный бле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ОКРАШЕН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Яркий цвет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              БАЛЬЗАМ ДЛЯ ОКРАШЕННЫХ ВОЛОС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Яркий цвет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Рисунок 7" descr="KL_Shampoo_240_yarkiy_tsvet.jpg"/>
          <p:cNvPicPr/>
          <p:nvPr/>
        </p:nvPicPr>
        <p:blipFill>
          <a:blip r:embed="rId2"/>
          <a:stretch/>
        </p:blipFill>
        <p:spPr>
          <a:xfrm>
            <a:off x="639720" y="2101680"/>
            <a:ext cx="1657440" cy="335628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KL_Balzam_240_yarkiy_tsvet.jpg"/>
          <p:cNvPicPr/>
          <p:nvPr/>
        </p:nvPicPr>
        <p:blipFill>
          <a:blip r:embed="rId3"/>
          <a:stretch/>
        </p:blipFill>
        <p:spPr>
          <a:xfrm>
            <a:off x="2038320" y="2114640"/>
            <a:ext cx="1665360" cy="33717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1133640" y="5353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2624040" y="53532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6"/>
          <p:cNvSpPr/>
          <p:nvPr/>
        </p:nvSpPr>
        <p:spPr>
          <a:xfrm>
            <a:off x="4289400" y="199080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ромаш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идает волосам золотистый оттенок, сохраняет яркость вол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ы цитрусо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гулируют деятельность сальных желез кожи головы,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яет ломкость волос, придает восхитительный блеск и тонизирует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51"/>
          <p:cNvSpPr/>
          <p:nvPr/>
        </p:nvSpPr>
        <p:spPr>
          <a:xfrm>
            <a:off x="36360" y="414360"/>
            <a:ext cx="76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СВЕТЛЫХ ВОЛОС ВСЕХ ОТТЕНКОВ                          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Сияние светлых волос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Рисунок 5" descr="KL_Shampoo_240_siyanie_svetlih_volos.jpg"/>
          <p:cNvPicPr/>
          <p:nvPr/>
        </p:nvPicPr>
        <p:blipFill>
          <a:blip r:embed="rId2"/>
          <a:stretch/>
        </p:blipFill>
        <p:spPr>
          <a:xfrm>
            <a:off x="1028880" y="2114640"/>
            <a:ext cx="1647720" cy="3335400"/>
          </a:xfrm>
          <a:prstGeom prst="rect">
            <a:avLst/>
          </a:prstGeom>
          <a:ln w="0">
            <a:noFill/>
          </a:ln>
        </p:spPr>
      </p:pic>
      <p:sp>
        <p:nvSpPr>
          <p:cNvPr id="182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"/>
          <p:cNvSpPr/>
          <p:nvPr/>
        </p:nvSpPr>
        <p:spPr>
          <a:xfrm>
            <a:off x="1509840" y="53532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6"/>
          <p:cNvSpPr/>
          <p:nvPr/>
        </p:nvSpPr>
        <p:spPr>
          <a:xfrm>
            <a:off x="4289400" y="1990800"/>
            <a:ext cx="453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ы цитрусо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регулируют деятельность сальных желез кожи головы,</a:t>
            </a: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аняет ломкость волос, придает восхитительный блеск и тонизирует кожу голов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акт Алоэ В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казывает успокаивающее и тонизирующее действие на кожу головы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Рисунок 10" descr="Red_line_New_Logo.gif"/>
          <p:cNvPicPr/>
          <p:nvPr/>
        </p:nvPicPr>
        <p:blipFill>
          <a:blip r:embed="rId1"/>
          <a:stretch/>
        </p:blipFill>
        <p:spPr>
          <a:xfrm>
            <a:off x="6867360" y="9360"/>
            <a:ext cx="2076480" cy="167832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51"/>
          <p:cNvSpPr/>
          <p:nvPr/>
        </p:nvSpPr>
        <p:spPr>
          <a:xfrm>
            <a:off x="36360" y="414360"/>
            <a:ext cx="76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ШАМПУНЬ ДЛЯ НОРМАЛЬНЫХ ВОЛОС, БЫСТРО СТАНОВЯЩИХСЯ ЖИРНЫМИ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Идеальный баланс</a:t>
            </a: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»,                 БАЛЬЗАМ ДЛЯ НОРМАЛЬНЫХ ВОЛОС, БЫСТРО СТАНОВЯЩИХСЯ ЖИРНЫМИ «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Идеальный балан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12" descr="KL_Shampoo_240_idealny_balans.jpg"/>
          <p:cNvPicPr/>
          <p:nvPr/>
        </p:nvPicPr>
        <p:blipFill>
          <a:blip r:embed="rId2"/>
          <a:stretch/>
        </p:blipFill>
        <p:spPr>
          <a:xfrm>
            <a:off x="647640" y="2117880"/>
            <a:ext cx="1636920" cy="3311280"/>
          </a:xfrm>
          <a:prstGeom prst="rect">
            <a:avLst/>
          </a:prstGeom>
          <a:ln w="0">
            <a:noFill/>
          </a:ln>
        </p:spPr>
      </p:pic>
      <p:sp>
        <p:nvSpPr>
          <p:cNvPr id="188" name="7-конечная звезда 6"/>
          <p:cNvSpPr/>
          <p:nvPr/>
        </p:nvSpPr>
        <p:spPr>
          <a:xfrm>
            <a:off x="6324480" y="4525920"/>
            <a:ext cx="2502000" cy="1866960"/>
          </a:xfrm>
          <a:prstGeom prst="pi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Calibri"/>
              </a:rPr>
              <a:t>Новая эффективная формула, улучшенное ка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Рисунок 7" descr="KL_Balzam_240_idealny_balans.jpg"/>
          <p:cNvPicPr/>
          <p:nvPr/>
        </p:nvPicPr>
        <p:blipFill>
          <a:blip r:embed="rId3"/>
          <a:stretch/>
        </p:blipFill>
        <p:spPr>
          <a:xfrm>
            <a:off x="2057400" y="2114640"/>
            <a:ext cx="1650960" cy="334332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1133640" y="5353200"/>
            <a:ext cx="11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4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2624040" y="53532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1:10:01Z</dcterms:modified>
  <cp:revision>530</cp:revision>
  <dc:subject/>
  <dc:title>Слайд 1</dc:title>
</cp:coreProperties>
</file>