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9.jpeg" ContentType="image/jpeg"/>
  <Override PartName="/ppt/media/image52.png" ContentType="image/png"/>
  <Override PartName="/ppt/media/image30.jpeg" ContentType="image/jpeg"/>
  <Override PartName="/ppt/media/image48.jpeg" ContentType="image/jpeg"/>
  <Override PartName="/ppt/media/image53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A6A-EF01-4F14-B2F9-763DAB4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9FF-590F-42BE-A73A-F808308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5BC-F7B9-4CB5-82B0-734125AE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0AA-569E-4314-A039-463B6AEF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A7A-7964-490C-A107-29984D04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FF3-EAD7-4055-8C4F-84F784B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BB1-5A0C-475A-96F6-8EBAA64D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491-64D3-4B55-B878-BA8ECDD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F67-0CD9-47B1-8080-FB01B2F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C0B2-4554-4780-B8B8-BDE44D43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4E8-1E20-4F7D-A8B7-00E957E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0E7-70CC-4CE2-B79C-25E3A3C2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CC6C-0EDB-45F2-B21C-CADDE13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914A-A66A-4F36-B683-D1E39ED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1CCB-926C-4706-80E3-FAE1E302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FEB7-A2A4-4134-B8FA-C679F38B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1D9A-D580-4D5D-A60C-5450E746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4AF4-DA03-4BE4-A1A8-C1282233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561B-724E-4B1F-A3E3-9F46AE9A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5477-8F00-43D6-ADBE-C607A0C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2EEA-0609-4302-A270-1B1B78E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658F-E6A0-44F3-9AE2-73E003C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BEB-7DC9-4308-B79B-C0A829A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F792-D822-43EE-B8FE-28D971B4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2B38-B140-466F-90E7-44F4F40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69B6-1EA7-4F86-8D24-6B5315B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B4BC-FA2B-418D-AAAC-10BF533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A65A-6D86-4582-A771-87CD8D5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40E9-C97F-47F0-8A6A-109B041D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CDA7-48B9-4255-B607-EEDFD652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EAA-26E3-40F8-88B6-7576B33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D7F-671A-45D9-839C-C9F7BA8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6BB-C8BA-4B4A-BA59-6A5661C1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80F-3581-4DFD-A585-6AA25EC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1C8-6A4A-42C5-9A28-E50D139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651-D834-4B51-9D4B-2D5378B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BF6-4C7D-431E-87F4-9EEB0E8D9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694-E51A-496E-8E53-5E57AAD37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A997-F54D-48A2-87B8-0E6EE380E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3.jpeg"/><Relationship Id="rId3" Type="http://schemas.openxmlformats.org/officeDocument/2006/relationships/image" Target="../media/image7.jpeg"/><Relationship Id="rId4" Type="http://schemas.openxmlformats.org/officeDocument/2006/relationships/image" Target="../media/image24.jpeg"/><Relationship Id="rId5" Type="http://schemas.openxmlformats.org/officeDocument/2006/relationships/image" Target="../media/image27.png"/><Relationship Id="rId6" Type="http://schemas.openxmlformats.org/officeDocument/2006/relationships/image" Target="../media/image3.pn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3.png"/><Relationship Id="rId6" Type="http://schemas.openxmlformats.org/officeDocument/2006/relationships/image" Target="../media/image51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jpeg"/><Relationship Id="rId19" Type="http://schemas.openxmlformats.org/officeDocument/2006/relationships/image" Target="../media/image57.jpeg"/><Relationship Id="rId20" Type="http://schemas.openxmlformats.org/officeDocument/2006/relationships/image" Target="../media/image57.jpeg"/><Relationship Id="rId21" Type="http://schemas.openxmlformats.org/officeDocument/2006/relationships/image" Target="../media/image57.jpeg"/><Relationship Id="rId22" Type="http://schemas.openxmlformats.org/officeDocument/2006/relationships/image" Target="../media/image57.jpe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51"/>
          <p:cNvSpPr/>
          <p:nvPr/>
        </p:nvSpPr>
        <p:spPr>
          <a:xfrm>
            <a:off x="444600" y="3811680"/>
            <a:ext cx="8151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ШАМПУНИ+БАЛЬЗА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УХОД ЗА ВОЛ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2816280" y="54000"/>
            <a:ext cx="3108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6"/>
          <p:cNvSpPr/>
          <p:nvPr/>
        </p:nvSpPr>
        <p:spPr>
          <a:xfrm>
            <a:off x="4289400" y="19908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челиное маточное молочко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тает и восстанавливает структуру поврежденных волос и защищает волосы от воздействия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 подобра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ный компле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олняет волосы внутренней си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51"/>
          <p:cNvSpPr/>
          <p:nvPr/>
        </p:nvSpPr>
        <p:spPr>
          <a:xfrm>
            <a:off x="36360" y="4143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Термозащитны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7" descr="KL_Shampoo_240_termozachitniy.jpg"/>
          <p:cNvPicPr/>
          <p:nvPr/>
        </p:nvPicPr>
        <p:blipFill>
          <a:blip r:embed="rId2"/>
          <a:stretch/>
        </p:blipFill>
        <p:spPr>
          <a:xfrm>
            <a:off x="1019160" y="2114640"/>
            <a:ext cx="1650960" cy="3343320"/>
          </a:xfrm>
          <a:prstGeom prst="rect">
            <a:avLst/>
          </a:prstGeom>
          <a:ln w="0">
            <a:noFill/>
          </a:ln>
        </p:spPr>
      </p:pic>
      <p:sp>
        <p:nvSpPr>
          <p:cNvPr id="196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1509840" y="535320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4289400" y="198108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еины шелка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щищают волосы от потери влаги, придают волосам шелковистость и восхитительный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жож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лучшает структуру волос и укрепляет кор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7-конечная звезда 8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KL_Shampoo_240_sholkoviy_blesk.jpg"/>
          <p:cNvPicPr/>
          <p:nvPr/>
        </p:nvPicPr>
        <p:blipFill>
          <a:blip r:embed="rId2"/>
          <a:stretch/>
        </p:blipFill>
        <p:spPr>
          <a:xfrm>
            <a:off x="646200" y="2104920"/>
            <a:ext cx="1639800" cy="33242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KL_Balzam_240_shelkovy_blesk.jpg"/>
          <p:cNvPicPr/>
          <p:nvPr/>
        </p:nvPicPr>
        <p:blipFill>
          <a:blip r:embed="rId3"/>
          <a:stretch/>
        </p:blipFill>
        <p:spPr>
          <a:xfrm>
            <a:off x="2050920" y="2104920"/>
            <a:ext cx="1684440" cy="34117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9"/>
          <p:cNvSpPr/>
          <p:nvPr/>
        </p:nvSpPr>
        <p:spPr>
          <a:xfrm>
            <a:off x="1133640" y="535320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624040" y="5353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СУХИХ И ОСЛАБЛЕННЫХ ВОЛОС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Шелковый блеск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8" descr="KL_Balzam_240_yarkiy_tsvet.jpg"/>
          <p:cNvPicPr/>
          <p:nvPr/>
        </p:nvPicPr>
        <p:blipFill>
          <a:blip r:embed="rId1"/>
          <a:stretch/>
        </p:blipFill>
        <p:spPr>
          <a:xfrm>
            <a:off x="4792680" y="4691160"/>
            <a:ext cx="852480" cy="17254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KL_Shampoo_480_idealny_ob'em.jpg"/>
          <p:cNvPicPr/>
          <p:nvPr/>
        </p:nvPicPr>
        <p:blipFill>
          <a:blip r:embed="rId2"/>
          <a:stretch/>
        </p:blipFill>
        <p:spPr>
          <a:xfrm>
            <a:off x="957240" y="874800"/>
            <a:ext cx="1166760" cy="23731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51"/>
          <p:cNvSpPr/>
          <p:nvPr/>
        </p:nvSpPr>
        <p:spPr>
          <a:xfrm>
            <a:off x="-20520" y="40464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СРЕДСТВ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 ПО УХОДУ ЗА ВОЛОСАМИ 19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8" descr="KL_Shampoo_480_ukreplyauchiy.jpg"/>
          <p:cNvPicPr/>
          <p:nvPr/>
        </p:nvPicPr>
        <p:blipFill>
          <a:blip r:embed="rId3"/>
          <a:stretch/>
        </p:blipFill>
        <p:spPr>
          <a:xfrm>
            <a:off x="19080" y="876240"/>
            <a:ext cx="1165320" cy="2368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KL_Shampoo_480_elastichnost.jpg"/>
          <p:cNvPicPr/>
          <p:nvPr/>
        </p:nvPicPr>
        <p:blipFill>
          <a:blip r:embed="rId4"/>
          <a:stretch/>
        </p:blipFill>
        <p:spPr>
          <a:xfrm>
            <a:off x="1920960" y="878040"/>
            <a:ext cx="1166760" cy="2371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KL_Shampoo_480_iprotiv_perhoti.jpg"/>
          <p:cNvPicPr/>
          <p:nvPr/>
        </p:nvPicPr>
        <p:blipFill>
          <a:blip r:embed="rId5"/>
          <a:stretch/>
        </p:blipFill>
        <p:spPr>
          <a:xfrm>
            <a:off x="2882880" y="878040"/>
            <a:ext cx="1158840" cy="2352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4" descr="KL_Shampoo_240_ukreplyauchiy.jpg"/>
          <p:cNvPicPr/>
          <p:nvPr/>
        </p:nvPicPr>
        <p:blipFill>
          <a:blip r:embed="rId6"/>
          <a:stretch/>
        </p:blipFill>
        <p:spPr>
          <a:xfrm>
            <a:off x="179280" y="3073320"/>
            <a:ext cx="844560" cy="1709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KL_Shampoo_240_idealny_ob'em.jpg"/>
          <p:cNvPicPr/>
          <p:nvPr/>
        </p:nvPicPr>
        <p:blipFill>
          <a:blip r:embed="rId7"/>
          <a:stretch/>
        </p:blipFill>
        <p:spPr>
          <a:xfrm>
            <a:off x="1112760" y="3079800"/>
            <a:ext cx="846360" cy="17128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8" descr="KL_Shampoo_240_all.tif"/>
          <p:cNvPicPr/>
          <p:nvPr/>
        </p:nvPicPr>
        <p:blipFill>
          <a:blip r:embed="rId8"/>
          <a:stretch/>
        </p:blipFill>
        <p:spPr>
          <a:xfrm>
            <a:off x="2097000" y="3048120"/>
            <a:ext cx="852480" cy="17254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2" descr="KL_Shampoo_240_protiv_perhoti.jpg"/>
          <p:cNvPicPr/>
          <p:nvPr/>
        </p:nvPicPr>
        <p:blipFill>
          <a:blip r:embed="rId9"/>
          <a:stretch/>
        </p:blipFill>
        <p:spPr>
          <a:xfrm>
            <a:off x="3025800" y="3068640"/>
            <a:ext cx="839880" cy="1701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2" descr="KL_Shampoo_240_mednoe_siyanie.jpg"/>
          <p:cNvPicPr/>
          <p:nvPr/>
        </p:nvPicPr>
        <p:blipFill>
          <a:blip r:embed="rId10"/>
          <a:stretch/>
        </p:blipFill>
        <p:spPr>
          <a:xfrm>
            <a:off x="6508800" y="3079800"/>
            <a:ext cx="846000" cy="17128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KL_Shampoo_240_yarkiy_tsvet.jpg"/>
          <p:cNvPicPr/>
          <p:nvPr/>
        </p:nvPicPr>
        <p:blipFill>
          <a:blip r:embed="rId11"/>
          <a:stretch/>
        </p:blipFill>
        <p:spPr>
          <a:xfrm>
            <a:off x="4780080" y="3076560"/>
            <a:ext cx="847440" cy="17161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KL_Shampoo_240_siyanie_svetlih_volos.jpg"/>
          <p:cNvPicPr/>
          <p:nvPr/>
        </p:nvPicPr>
        <p:blipFill>
          <a:blip r:embed="rId12"/>
          <a:stretch/>
        </p:blipFill>
        <p:spPr>
          <a:xfrm>
            <a:off x="5640480" y="3078000"/>
            <a:ext cx="841320" cy="1704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2" descr="KL_Shampoo_240_idealny_balans.jpg"/>
          <p:cNvPicPr/>
          <p:nvPr/>
        </p:nvPicPr>
        <p:blipFill>
          <a:blip r:embed="rId13"/>
          <a:stretch/>
        </p:blipFill>
        <p:spPr>
          <a:xfrm>
            <a:off x="3889440" y="3079800"/>
            <a:ext cx="836640" cy="16938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KL_Shampoo_240_termozachitniy.jpg"/>
          <p:cNvPicPr/>
          <p:nvPr/>
        </p:nvPicPr>
        <p:blipFill>
          <a:blip r:embed="rId14"/>
          <a:stretch/>
        </p:blipFill>
        <p:spPr>
          <a:xfrm>
            <a:off x="8255160" y="3073320"/>
            <a:ext cx="844560" cy="17096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KL_Shampoo_240_sholkoviy_blesk.jpg"/>
          <p:cNvPicPr/>
          <p:nvPr/>
        </p:nvPicPr>
        <p:blipFill>
          <a:blip r:embed="rId15"/>
          <a:stretch/>
        </p:blipFill>
        <p:spPr>
          <a:xfrm>
            <a:off x="7359480" y="3079800"/>
            <a:ext cx="838440" cy="17002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KL_Balzam_240_yniversalniyl.jpg"/>
          <p:cNvPicPr/>
          <p:nvPr/>
        </p:nvPicPr>
        <p:blipFill>
          <a:blip r:embed="rId16"/>
          <a:stretch/>
        </p:blipFill>
        <p:spPr>
          <a:xfrm>
            <a:off x="173160" y="4735440"/>
            <a:ext cx="85068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KL_Balzam_240_elastichnost.jpg"/>
          <p:cNvPicPr/>
          <p:nvPr/>
        </p:nvPicPr>
        <p:blipFill>
          <a:blip r:embed="rId17"/>
          <a:stretch/>
        </p:blipFill>
        <p:spPr>
          <a:xfrm>
            <a:off x="2111400" y="4707000"/>
            <a:ext cx="847800" cy="1716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KL_Balzam_240_idealny_balans.jpg"/>
          <p:cNvPicPr/>
          <p:nvPr/>
        </p:nvPicPr>
        <p:blipFill>
          <a:blip r:embed="rId18"/>
          <a:stretch/>
        </p:blipFill>
        <p:spPr>
          <a:xfrm>
            <a:off x="3886200" y="4695840"/>
            <a:ext cx="844560" cy="17114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0" descr="KL_Balzam_240_shelkovy_blesk.jpg"/>
          <p:cNvPicPr/>
          <p:nvPr/>
        </p:nvPicPr>
        <p:blipFill>
          <a:blip r:embed="rId19"/>
          <a:stretch/>
        </p:blipFill>
        <p:spPr>
          <a:xfrm>
            <a:off x="7365960" y="4695840"/>
            <a:ext cx="857160" cy="1735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5"/>
          <p:cNvSpPr/>
          <p:nvPr/>
        </p:nvSpPr>
        <p:spPr>
          <a:xfrm>
            <a:off x="352440" y="723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Шампуни 480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352440" y="2952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Шампуни 240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7"/>
          <p:cNvSpPr/>
          <p:nvPr/>
        </p:nvSpPr>
        <p:spPr>
          <a:xfrm>
            <a:off x="352440" y="46274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Бальзамы 2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0" descr="Red_line_New_Logo.gif"/>
          <p:cNvPicPr/>
          <p:nvPr/>
        </p:nvPicPr>
        <p:blipFill>
          <a:blip r:embed="rId20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8" descr="KL_Balzam_240_yniversalniyl.jpg"/>
          <p:cNvPicPr/>
          <p:nvPr/>
        </p:nvPicPr>
        <p:blipFill>
          <a:blip r:embed="rId1"/>
          <a:stretch/>
        </p:blipFill>
        <p:spPr>
          <a:xfrm>
            <a:off x="8209080" y="2503440"/>
            <a:ext cx="1025280" cy="2127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KL_Shampoo_240_termozachitniy.jpg"/>
          <p:cNvPicPr/>
          <p:nvPr/>
        </p:nvPicPr>
        <p:blipFill>
          <a:blip r:embed="rId2"/>
          <a:stretch/>
        </p:blipFill>
        <p:spPr>
          <a:xfrm>
            <a:off x="6845400" y="2505240"/>
            <a:ext cx="1052280" cy="2131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KL_Shampoo_480_idealny_ob'em.jpg"/>
          <p:cNvPicPr/>
          <p:nvPr/>
        </p:nvPicPr>
        <p:blipFill>
          <a:blip r:embed="rId3"/>
          <a:stretch/>
        </p:blipFill>
        <p:spPr>
          <a:xfrm>
            <a:off x="1952640" y="1838160"/>
            <a:ext cx="1530360" cy="29401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KL_Shampoo_480_iprotiv_perhoti.jpg"/>
          <p:cNvPicPr/>
          <p:nvPr/>
        </p:nvPicPr>
        <p:blipFill>
          <a:blip r:embed="rId4"/>
          <a:stretch/>
        </p:blipFill>
        <p:spPr>
          <a:xfrm>
            <a:off x="3798720" y="1828800"/>
            <a:ext cx="1449720" cy="294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KL_Shampoo_240_all.tif"/>
          <p:cNvPicPr/>
          <p:nvPr/>
        </p:nvPicPr>
        <p:blipFill>
          <a:blip r:embed="rId5"/>
          <a:stretch/>
        </p:blipFill>
        <p:spPr>
          <a:xfrm>
            <a:off x="5452920" y="2467080"/>
            <a:ext cx="1073160" cy="217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Red_line_New_Logo.gif"/>
          <p:cNvPicPr/>
          <p:nvPr/>
        </p:nvPicPr>
        <p:blipFill>
          <a:blip r:embed="rId6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"/>
          <p:cNvPicPr/>
          <p:nvPr/>
        </p:nvPicPr>
        <p:blipFill>
          <a:blip r:embed="rId7"/>
          <a:stretch/>
        </p:blipFill>
        <p:spPr>
          <a:xfrm>
            <a:off x="4968720" y="2511360"/>
            <a:ext cx="665280" cy="21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"/>
          <p:cNvPicPr/>
          <p:nvPr/>
        </p:nvPicPr>
        <p:blipFill>
          <a:blip r:embed="rId8"/>
          <a:stretch/>
        </p:blipFill>
        <p:spPr>
          <a:xfrm>
            <a:off x="7753320" y="2508120"/>
            <a:ext cx="627120" cy="2127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"/>
          <p:cNvPicPr/>
          <p:nvPr/>
        </p:nvPicPr>
        <p:blipFill>
          <a:blip r:embed="rId9"/>
          <a:stretch/>
        </p:blipFill>
        <p:spPr>
          <a:xfrm>
            <a:off x="6364440" y="2498760"/>
            <a:ext cx="655560" cy="215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1" descr=""/>
          <p:cNvPicPr/>
          <p:nvPr/>
        </p:nvPicPr>
        <p:blipFill>
          <a:blip r:embed="rId10"/>
          <a:stretch/>
        </p:blipFill>
        <p:spPr>
          <a:xfrm>
            <a:off x="0" y="1886040"/>
            <a:ext cx="811080" cy="2604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2" descr=""/>
          <p:cNvPicPr/>
          <p:nvPr/>
        </p:nvPicPr>
        <p:blipFill>
          <a:blip r:embed="rId11"/>
          <a:stretch/>
        </p:blipFill>
        <p:spPr>
          <a:xfrm>
            <a:off x="774720" y="2610000"/>
            <a:ext cx="736560" cy="1868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3" descr=""/>
          <p:cNvPicPr/>
          <p:nvPr/>
        </p:nvPicPr>
        <p:blipFill>
          <a:blip r:embed="rId12"/>
          <a:stretch/>
        </p:blipFill>
        <p:spPr>
          <a:xfrm>
            <a:off x="1463760" y="2571840"/>
            <a:ext cx="796680" cy="18921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ЦЕНОВОЕ ПОЗИ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право 39"/>
          <p:cNvSpPr/>
          <p:nvPr/>
        </p:nvSpPr>
        <p:spPr>
          <a:xfrm>
            <a:off x="1824120" y="4668840"/>
            <a:ext cx="3252600" cy="10573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ИНУС 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7-конечная звезда 42"/>
          <p:cNvSpPr/>
          <p:nvPr/>
        </p:nvSpPr>
        <p:spPr>
          <a:xfrm>
            <a:off x="6696000" y="4259160"/>
            <a:ext cx="2171880" cy="1636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6" descr=""/>
          <p:cNvPicPr/>
          <p:nvPr/>
        </p:nvPicPr>
        <p:blipFill>
          <a:blip r:embed="rId13"/>
          <a:stretch/>
        </p:blipFill>
        <p:spPr>
          <a:xfrm>
            <a:off x="3162240" y="1905120"/>
            <a:ext cx="952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8" descr="KL_Balzam_240_yniversalniyl.jpg"/>
          <p:cNvPicPr/>
          <p:nvPr/>
        </p:nvPicPr>
        <p:blipFill>
          <a:blip r:embed="rId1"/>
          <a:stretch/>
        </p:blipFill>
        <p:spPr>
          <a:xfrm>
            <a:off x="7066080" y="4081320"/>
            <a:ext cx="774720" cy="1606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KL_Shampoo_480_idealny_ob'em.jpg"/>
          <p:cNvPicPr/>
          <p:nvPr/>
        </p:nvPicPr>
        <p:blipFill>
          <a:blip r:embed="rId2"/>
          <a:stretch/>
        </p:blipFill>
        <p:spPr>
          <a:xfrm>
            <a:off x="2406600" y="3557520"/>
            <a:ext cx="1155600" cy="22194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7" descr="KL_Shampoo_480_iprotiv_perhoti.jpg"/>
          <p:cNvPicPr/>
          <p:nvPr/>
        </p:nvPicPr>
        <p:blipFill>
          <a:blip r:embed="rId3"/>
          <a:stretch/>
        </p:blipFill>
        <p:spPr>
          <a:xfrm>
            <a:off x="3830760" y="3583080"/>
            <a:ext cx="1084320" cy="2200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8" descr="KL_Shampoo_240_all.tif"/>
          <p:cNvPicPr/>
          <p:nvPr/>
        </p:nvPicPr>
        <p:blipFill>
          <a:blip r:embed="rId4"/>
          <a:stretch/>
        </p:blipFill>
        <p:spPr>
          <a:xfrm>
            <a:off x="5265720" y="4064040"/>
            <a:ext cx="78264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0" descr="Red_line_New_Logo.gif"/>
          <p:cNvPicPr/>
          <p:nvPr/>
        </p:nvPicPr>
        <p:blipFill>
          <a:blip r:embed="rId5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KL_Shampoo_240_termozachitniy.jpg"/>
          <p:cNvPicPr/>
          <p:nvPr/>
        </p:nvPicPr>
        <p:blipFill>
          <a:blip r:embed="rId6"/>
          <a:stretch/>
        </p:blipFill>
        <p:spPr>
          <a:xfrm>
            <a:off x="6450120" y="4091040"/>
            <a:ext cx="776160" cy="1571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4826160" y="4071960"/>
            <a:ext cx="490320" cy="1566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"/>
          <p:cNvPicPr/>
          <p:nvPr/>
        </p:nvPicPr>
        <p:blipFill>
          <a:blip r:embed="rId8"/>
          <a:stretch/>
        </p:blipFill>
        <p:spPr>
          <a:xfrm>
            <a:off x="7800840" y="4081320"/>
            <a:ext cx="473040" cy="1606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9" descr=""/>
          <p:cNvPicPr/>
          <p:nvPr/>
        </p:nvPicPr>
        <p:blipFill>
          <a:blip r:embed="rId9"/>
          <a:stretch/>
        </p:blipFill>
        <p:spPr>
          <a:xfrm>
            <a:off x="6008760" y="4091040"/>
            <a:ext cx="476280" cy="156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1" descr=""/>
          <p:cNvPicPr/>
          <p:nvPr/>
        </p:nvPicPr>
        <p:blipFill>
          <a:blip r:embed="rId10"/>
          <a:stretch/>
        </p:blipFill>
        <p:spPr>
          <a:xfrm>
            <a:off x="704880" y="3586320"/>
            <a:ext cx="612720" cy="1966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2" descr=""/>
          <p:cNvPicPr/>
          <p:nvPr/>
        </p:nvPicPr>
        <p:blipFill>
          <a:blip r:embed="rId11"/>
          <a:stretch/>
        </p:blipFill>
        <p:spPr>
          <a:xfrm>
            <a:off x="1327320" y="4148280"/>
            <a:ext cx="555480" cy="1409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3" descr=""/>
          <p:cNvPicPr/>
          <p:nvPr/>
        </p:nvPicPr>
        <p:blipFill>
          <a:blip r:embed="rId12"/>
          <a:stretch/>
        </p:blipFill>
        <p:spPr>
          <a:xfrm>
            <a:off x="1871640" y="4132440"/>
            <a:ext cx="601560" cy="1428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51"/>
          <p:cNvSpPr/>
          <p:nvPr/>
        </p:nvSpPr>
        <p:spPr>
          <a:xfrm>
            <a:off x="36360" y="414360"/>
            <a:ext cx="765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Расположение на по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категория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УХОД ЗА ВОЛ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6" descr=""/>
          <p:cNvPicPr/>
          <p:nvPr/>
        </p:nvPicPr>
        <p:blipFill>
          <a:blip r:embed="rId13"/>
          <a:stretch/>
        </p:blipFill>
        <p:spPr>
          <a:xfrm>
            <a:off x="3343320" y="3618000"/>
            <a:ext cx="720720" cy="195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14"/>
          <a:stretch/>
        </p:blipFill>
        <p:spPr>
          <a:xfrm>
            <a:off x="652320" y="1838160"/>
            <a:ext cx="1684440" cy="155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15"/>
          <a:stretch/>
        </p:blipFill>
        <p:spPr>
          <a:xfrm>
            <a:off x="2298600" y="1927080"/>
            <a:ext cx="15908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16"/>
          <a:stretch/>
        </p:blipFill>
        <p:spPr>
          <a:xfrm>
            <a:off x="3987720" y="1781280"/>
            <a:ext cx="612720" cy="152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17"/>
          <a:stretch/>
        </p:blipFill>
        <p:spPr>
          <a:xfrm>
            <a:off x="4619520" y="1752480"/>
            <a:ext cx="657360" cy="155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://www.loved.ru/data/medium/sh_q10_1.jpg"/>
          <p:cNvPicPr/>
          <p:nvPr/>
        </p:nvPicPr>
        <p:blipFill>
          <a:blip r:embed="rId18"/>
          <a:stretch/>
        </p:blipFill>
        <p:spPr>
          <a:xfrm>
            <a:off x="5261040" y="1724040"/>
            <a:ext cx="669960" cy="15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артинка 17 из 59"/>
          <p:cNvPicPr/>
          <p:nvPr/>
        </p:nvPicPr>
        <p:blipFill>
          <a:blip r:embed="rId19"/>
          <a:stretch/>
        </p:blipFill>
        <p:spPr>
          <a:xfrm>
            <a:off x="6004080" y="1743120"/>
            <a:ext cx="528480" cy="1555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Картинка 17 из 59"/>
          <p:cNvPicPr/>
          <p:nvPr/>
        </p:nvPicPr>
        <p:blipFill>
          <a:blip r:embed="rId20"/>
          <a:stretch/>
        </p:blipFill>
        <p:spPr>
          <a:xfrm>
            <a:off x="6622920" y="1752480"/>
            <a:ext cx="528840" cy="155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Картинка 17 из 59"/>
          <p:cNvPicPr/>
          <p:nvPr/>
        </p:nvPicPr>
        <p:blipFill>
          <a:blip r:embed="rId21"/>
          <a:stretch/>
        </p:blipFill>
        <p:spPr>
          <a:xfrm>
            <a:off x="7203960" y="1752480"/>
            <a:ext cx="528840" cy="155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Картинка 17 из 59"/>
          <p:cNvPicPr/>
          <p:nvPr/>
        </p:nvPicPr>
        <p:blipFill>
          <a:blip r:embed="rId22"/>
          <a:stretch/>
        </p:blipFill>
        <p:spPr>
          <a:xfrm>
            <a:off x="7804080" y="1752480"/>
            <a:ext cx="5288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368280" y="1392120"/>
            <a:ext cx="84582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ФОРМЛЕНИЕ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лфто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бл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каты А3 фор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СЕТЕВЫХ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листовках и каталогах в категории «НОВ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«Снижение це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«Подарок за покуп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та «Входного биле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РОЗНИЧНЫХ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ки с анонсом нов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ус за закупку линейки (минимум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ТОРГОВЫХ ПРЕДСТАВИТЕЛЕЙ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торговых представителей при выполнении плана по А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МАРКЕТИНГОВ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89000" y="1889280"/>
          <a:ext cx="8788320" cy="1585800"/>
        </p:xfrm>
        <a:graphic>
          <a:graphicData uri="http://schemas.openxmlformats.org/drawingml/2006/table">
            <a:tbl>
              <a:tblPr/>
              <a:tblGrid>
                <a:gridCol w="461880"/>
                <a:gridCol w="463680"/>
                <a:gridCol w="461880"/>
                <a:gridCol w="463320"/>
                <a:gridCol w="462240"/>
                <a:gridCol w="463320"/>
                <a:gridCol w="460440"/>
                <a:gridCol w="463680"/>
                <a:gridCol w="463320"/>
                <a:gridCol w="460440"/>
                <a:gridCol w="463680"/>
                <a:gridCol w="463680"/>
                <a:gridCol w="460080"/>
                <a:gridCol w="463680"/>
                <a:gridCol w="461880"/>
                <a:gridCol w="463680"/>
                <a:gridCol w="461880"/>
                <a:gridCol w="463680"/>
                <a:gridCol w="461880"/>
              </a:tblGrid>
              <a:tr h="32220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ИПЕРМАРКЕТЫ / CASH &amp; CARRY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ЭЛАСТИЧ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ПРОТИВ ПЕРХО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БАЛАН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СИЯНИЕ СВЕТЛЫХ ВОЛО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МЕДНОЕ СИЯНИЕ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ИДЕАЛЬНЫЙ БАЛАН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31840" y="3981600"/>
          <a:ext cx="5629320" cy="1546200"/>
        </p:xfrm>
        <a:graphic>
          <a:graphicData uri="http://schemas.openxmlformats.org/drawingml/2006/table">
            <a:tbl>
              <a:tblPr/>
              <a:tblGrid>
                <a:gridCol w="623880"/>
                <a:gridCol w="627120"/>
                <a:gridCol w="625320"/>
                <a:gridCol w="625680"/>
                <a:gridCol w="625320"/>
                <a:gridCol w="625320"/>
                <a:gridCol w="625680"/>
                <a:gridCol w="627120"/>
                <a:gridCol w="623880"/>
              </a:tblGrid>
              <a:tr h="4284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ПЕРМАРКЕТ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262080" y="1673280"/>
          <a:ext cx="6984720" cy="1158840"/>
        </p:xfrm>
        <a:graphic>
          <a:graphicData uri="http://schemas.openxmlformats.org/drawingml/2006/table">
            <a:tbl>
              <a:tblPr/>
              <a:tblGrid>
                <a:gridCol w="63468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4680"/>
                <a:gridCol w="635040"/>
              </a:tblGrid>
              <a:tr h="320400">
                <a:tc gridSpan="11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РОГЕРИ / КОСМЕТИКА+ХОЗЯЙСТВЕННЫЙ ТОВАР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БАЛАН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760" y="3294000"/>
          <a:ext cx="2539800" cy="11588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4680"/>
              </a:tblGrid>
              <a:tr h="320400">
                <a:tc gridSpan="4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МАРКЕТ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54160" y="4943520"/>
          <a:ext cx="3174840" cy="1158840"/>
        </p:xfrm>
        <a:graphic>
          <a:graphicData uri="http://schemas.openxmlformats.org/drawingml/2006/table">
            <a:tbl>
              <a:tblPr/>
              <a:tblGrid>
                <a:gridCol w="634680"/>
                <a:gridCol w="635040"/>
                <a:gridCol w="635040"/>
                <a:gridCol w="635040"/>
                <a:gridCol w="635040"/>
              </a:tblGrid>
              <a:tr h="320400">
                <a:tc gridSpan="5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ИСКАУНТЕР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272880" y="1590840"/>
          <a:ext cx="5715000" cy="11588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4680"/>
              </a:tblGrid>
              <a:tr h="320040">
                <a:tc gridSpan="9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АДИЦИОННЫЙ МАГАЗИН. Категории 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63520" y="3209760"/>
          <a:ext cx="4378320" cy="1052640"/>
        </p:xfrm>
        <a:graphic>
          <a:graphicData uri="http://schemas.openxmlformats.org/drawingml/2006/table">
            <a:tbl>
              <a:tblPr/>
              <a:tblGrid>
                <a:gridCol w="820800"/>
                <a:gridCol w="820800"/>
                <a:gridCol w="820440"/>
                <a:gridCol w="820800"/>
                <a:gridCol w="820800"/>
                <a:gridCol w="274680"/>
              </a:tblGrid>
              <a:tr h="322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АДИЦИОННЫЙ МАГАЗИН. Категории 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76120" y="4748040"/>
          <a:ext cx="4378320" cy="1052640"/>
        </p:xfrm>
        <a:graphic>
          <a:graphicData uri="http://schemas.openxmlformats.org/drawingml/2006/table">
            <a:tbl>
              <a:tblPr/>
              <a:tblGrid>
                <a:gridCol w="820800"/>
                <a:gridCol w="820800"/>
                <a:gridCol w="820800"/>
                <a:gridCol w="820800"/>
                <a:gridCol w="820440"/>
                <a:gridCol w="274680"/>
              </a:tblGrid>
              <a:tr h="322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ОРГОВАЯ ТОЧКА на ОТКРЫТОМ РЫНК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ЛОГИСТИЧЕСК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20640" y="1800360"/>
          <a:ext cx="7799400" cy="4343400"/>
        </p:xfrm>
        <a:graphic>
          <a:graphicData uri="http://schemas.openxmlformats.org/drawingml/2006/table">
            <a:tbl>
              <a:tblPr/>
              <a:tblGrid>
                <a:gridCol w="646200"/>
                <a:gridCol w="669960"/>
                <a:gridCol w="4103640"/>
                <a:gridCol w="720720"/>
                <a:gridCol w="517680"/>
                <a:gridCol w="1141200"/>
              </a:tblGrid>
              <a:tr h="55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- холдин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вес штуки (мл,г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 в уп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-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ИДЕАЛЬНЫЙ БАЛАНС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ЯРКИЙ ЦВЕТ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ШЕЛКОВЫЙ БЛЕСК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ЭЛАСТИЧНОСТЬ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УНИВЕРСАЛЬНЫ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6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ПРОТИВ ПЕРХОТИ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ЭЛАСТИЧНОСТЬ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2в1 ИДЕАЛЬНЫЙ ОБЪЕМ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ЯРКИЙ ЦВЕТ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ТЕРМОЗАЩИТНЫ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ШЕЛКОВЫЙ БЛЕСК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ИДЕАЛЬНЫЙ БАЛАНС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УКРЕПЛЯЮЩИ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3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МЕДНОЕ СИЯНИЕ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43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СИЯНИЕ СВЕТЛЫХ ВОЛОС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4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ПРОТИВ ПЕРХОТИ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2в1 ИДЕАЛЬНЫЙ ОБЪЕМ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 8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УКРЕПЛЯЮЩИЙ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ЭЛАСТИЧНОСТЬ/480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51"/>
          <p:cNvSpPr/>
          <p:nvPr/>
        </p:nvSpPr>
        <p:spPr>
          <a:xfrm>
            <a:off x="36360" y="423720"/>
            <a:ext cx="765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Укрепляющи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БАЛЬЗАМ ДЛЯ ВСЕХ ТИПОВ ВОЛОС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Универсальны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KL_Shampoo_480_ukreplyauchiy.jpg"/>
          <p:cNvPicPr/>
          <p:nvPr/>
        </p:nvPicPr>
        <p:blipFill>
          <a:blip r:embed="rId2"/>
          <a:stretch/>
        </p:blipFill>
        <p:spPr>
          <a:xfrm>
            <a:off x="-281160" y="1457280"/>
            <a:ext cx="2048040" cy="4162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4280040" y="19810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ый антиоксидант, защищает структуру волос, наполняет волосы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жемч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крепляет волосы по всей длине, придает здоровый блеск и внутреннюю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4" descr="KL_Shampoo_240_ukreplyauchiy.jpg"/>
          <p:cNvPicPr/>
          <p:nvPr/>
        </p:nvPicPr>
        <p:blipFill>
          <a:blip r:embed="rId3"/>
          <a:stretch/>
        </p:blipFill>
        <p:spPr>
          <a:xfrm>
            <a:off x="1338120" y="2114640"/>
            <a:ext cx="165132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7-конечная звезда 7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" descr="KL_Balzam_240_yniversalniyl.jpg"/>
          <p:cNvPicPr/>
          <p:nvPr/>
        </p:nvPicPr>
        <p:blipFill>
          <a:blip r:embed="rId4"/>
          <a:stretch/>
        </p:blipFill>
        <p:spPr>
          <a:xfrm>
            <a:off x="2708280" y="2114640"/>
            <a:ext cx="1663560" cy="33703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419040" y="53532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824120" y="5353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3201840" y="53532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51"/>
          <p:cNvSpPr/>
          <p:nvPr/>
        </p:nvSpPr>
        <p:spPr>
          <a:xfrm>
            <a:off x="0" y="414360"/>
            <a:ext cx="71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НАШИ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173160" y="1612800"/>
            <a:ext cx="8653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О МЫ ЖДЕМ ОТ НОВОГО ПРОДУК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инципиально новый уровень дистрибуции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 на данной линейке всех сотрудников компании-дистрибут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количественной дистрибу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и глубины дистрибу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бязательного ассортимента во всех каналах сбыта в соответствии с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Lis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лояльности конечных потребителей к торговой марке «Красная ли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 прибыли компании-дистрибутора и доходов всех сотрудников, связанных с реализацией данной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6" descr="KL_Shampoo_480_idealny_ob'em.jpg"/>
          <p:cNvPicPr/>
          <p:nvPr/>
        </p:nvPicPr>
        <p:blipFill>
          <a:blip r:embed="rId1"/>
          <a:stretch/>
        </p:blipFill>
        <p:spPr>
          <a:xfrm>
            <a:off x="511200" y="1468440"/>
            <a:ext cx="2050920" cy="4170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4289400" y="198108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ый антиоксидант, защищает структуру волос, наполняет волосы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орхид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сстанавливает структуру волос, придавая им упругость и внутреннюю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2в1 ДЛЯ НОРМАЛЬНЫХ И ТОНКИ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объем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4" descr="KL_Shampoo_240_idealny_ob'em.jpg"/>
          <p:cNvPicPr/>
          <p:nvPr/>
        </p:nvPicPr>
        <p:blipFill>
          <a:blip r:embed="rId3"/>
          <a:stretch/>
        </p:blipFill>
        <p:spPr>
          <a:xfrm>
            <a:off x="2128680" y="2114640"/>
            <a:ext cx="1654200" cy="3349440"/>
          </a:xfrm>
          <a:prstGeom prst="rect">
            <a:avLst/>
          </a:prstGeom>
          <a:ln w="0">
            <a:noFill/>
          </a:ln>
        </p:spPr>
      </p:pic>
      <p:sp>
        <p:nvSpPr>
          <p:cNvPr id="143" name="7-конечная звезда 7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219320" y="535320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2624040" y="535320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5" descr="KL_Shampoo_480_elastichnost.jpg"/>
          <p:cNvPicPr/>
          <p:nvPr/>
        </p:nvPicPr>
        <p:blipFill>
          <a:blip r:embed="rId1"/>
          <a:stretch/>
        </p:blipFill>
        <p:spPr>
          <a:xfrm>
            <a:off x="-279360" y="1454040"/>
            <a:ext cx="2050920" cy="4167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4289400" y="19810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авокад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тает, устраняет ломкость, придает блеск и эластичность воло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зеленого ч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онизирует кожу головы, укрепляет корни, улучшает структуру волос,предотвращает чрезмерное пересушивание и обеспечивает полноценный сбалансированный  у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НОРМАЛЬ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Эластичность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БАЛЬЗАМ ДЛЯ НОРМАЛЬ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Эластичность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8" descr="KL_Shampoo_240_all.tif"/>
          <p:cNvPicPr/>
          <p:nvPr/>
        </p:nvPicPr>
        <p:blipFill>
          <a:blip r:embed="rId3"/>
          <a:stretch/>
        </p:blipFill>
        <p:spPr>
          <a:xfrm>
            <a:off x="1328760" y="2063880"/>
            <a:ext cx="1654200" cy="3346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KL_Balzam_240_elastichnost.jpg"/>
          <p:cNvPicPr/>
          <p:nvPr/>
        </p:nvPicPr>
        <p:blipFill>
          <a:blip r:embed="rId4"/>
          <a:stretch/>
        </p:blipFill>
        <p:spPr>
          <a:xfrm>
            <a:off x="2708280" y="2114640"/>
            <a:ext cx="165564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419040" y="535320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1824120" y="535320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3201840" y="5353200"/>
            <a:ext cx="10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-конечная звезда 11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7" descr="KL_Shampoo_480_iprotiv_perhoti.jpg"/>
          <p:cNvPicPr/>
          <p:nvPr/>
        </p:nvPicPr>
        <p:blipFill>
          <a:blip r:embed="rId1"/>
          <a:stretch/>
        </p:blipFill>
        <p:spPr>
          <a:xfrm>
            <a:off x="519120" y="1457280"/>
            <a:ext cx="2035080" cy="4133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4289400" y="1981080"/>
            <a:ext cx="473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нк-комлекс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ет бактерицидным и противогрибковым действием, восстанавливает естественный баланс кожи головы, эффективно устраняет перхоть и препятствует её дальнейшему появ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мя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низирует, оказывает освежающее и успокаивающее действие на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51"/>
          <p:cNvSpPr/>
          <p:nvPr/>
        </p:nvSpPr>
        <p:spPr>
          <a:xfrm>
            <a:off x="36360" y="4143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Против перхоти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2" descr="KL_Shampoo_240_protiv_perhoti.jpg"/>
          <p:cNvPicPr/>
          <p:nvPr/>
        </p:nvPicPr>
        <p:blipFill>
          <a:blip r:embed="rId3"/>
          <a:stretch/>
        </p:blipFill>
        <p:spPr>
          <a:xfrm>
            <a:off x="2130480" y="2114640"/>
            <a:ext cx="1643040" cy="3327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1219320" y="53532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624040" y="53532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-конечная звезда 9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6"/>
          <p:cNvSpPr/>
          <p:nvPr/>
        </p:nvSpPr>
        <p:spPr>
          <a:xfrm>
            <a:off x="4192560" y="20336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какао-бобов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репляет корни волос,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кор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храняет естественный блеск темных волос, придает им яркость и си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ТЕМНЫХ ВОЛОС ВСЕХ ОТТЕНКОВ  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Медное сияние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2" descr="KL_Shampoo_240_mednoe_siyanie.jpg"/>
          <p:cNvPicPr/>
          <p:nvPr/>
        </p:nvPicPr>
        <p:blipFill>
          <a:blip r:embed="rId2"/>
          <a:stretch/>
        </p:blipFill>
        <p:spPr>
          <a:xfrm>
            <a:off x="1020600" y="2114640"/>
            <a:ext cx="1654200" cy="3349440"/>
          </a:xfrm>
          <a:prstGeom prst="rect">
            <a:avLst/>
          </a:prstGeom>
          <a:ln w="0">
            <a:noFill/>
          </a:ln>
        </p:spPr>
      </p:pic>
      <p:sp>
        <p:nvSpPr>
          <p:cNvPr id="168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509840" y="53532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4289400" y="198108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абрико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тает и восстанавливает структуру окрашенных волос, надолго сохраняет цвет и придает волосам восхитительный блеск.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жож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казывает на волосы кондиционирующий эффект, защищает окрашенные волосы от обесцвечивания и придает им естественный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ОКРАШЕН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Яркий цве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              БАЛЬЗАМ ДЛЯ ОКРАШЕН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Яркий цве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7" descr="KL_Shampoo_240_yarkiy_tsvet.jpg"/>
          <p:cNvPicPr/>
          <p:nvPr/>
        </p:nvPicPr>
        <p:blipFill>
          <a:blip r:embed="rId2"/>
          <a:stretch/>
        </p:blipFill>
        <p:spPr>
          <a:xfrm>
            <a:off x="639720" y="2101680"/>
            <a:ext cx="1657440" cy="3356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KL_Balzam_240_yarkiy_tsvet.jpg"/>
          <p:cNvPicPr/>
          <p:nvPr/>
        </p:nvPicPr>
        <p:blipFill>
          <a:blip r:embed="rId3"/>
          <a:stretch/>
        </p:blipFill>
        <p:spPr>
          <a:xfrm>
            <a:off x="2038320" y="2114640"/>
            <a:ext cx="166536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133640" y="535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2624040" y="535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4289400" y="199080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ром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идает волосам золотистый оттенок, сохраняет яркость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ы цитрусо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гулируют деятельность сальных желез кожи головы,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яет ломкость волос, придает восхитительный блеск и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СВЕТЛЫХ ВОЛОС ВСЕХ ОТТЕНКОВ           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Сияние светлых воло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5" descr="KL_Shampoo_240_siyanie_svetlih_volos.jpg"/>
          <p:cNvPicPr/>
          <p:nvPr/>
        </p:nvPicPr>
        <p:blipFill>
          <a:blip r:embed="rId2"/>
          <a:stretch/>
        </p:blipFill>
        <p:spPr>
          <a:xfrm>
            <a:off x="1028880" y="2114640"/>
            <a:ext cx="1647720" cy="3335400"/>
          </a:xfrm>
          <a:prstGeom prst="rect">
            <a:avLst/>
          </a:prstGeom>
          <a:ln w="0">
            <a:noFill/>
          </a:ln>
        </p:spPr>
      </p:pic>
      <p:sp>
        <p:nvSpPr>
          <p:cNvPr id="182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509840" y="535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6"/>
          <p:cNvSpPr/>
          <p:nvPr/>
        </p:nvSpPr>
        <p:spPr>
          <a:xfrm>
            <a:off x="4289400" y="199080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ы цитрусо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гулируют деятельность сальных желез кожи головы,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яет ломкость волос, придает восхитительный блеск и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Алоэ В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казывает успокаивающее и тонизирующее действие на кожу голо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51"/>
          <p:cNvSpPr/>
          <p:nvPr/>
        </p:nvSpPr>
        <p:spPr>
          <a:xfrm>
            <a:off x="36360" y="414360"/>
            <a:ext cx="76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НОРМАЛЬНЫХ ВОЛОС, БЫСТРО СТАНОВЯЩИХСЯ ЖИРНЫМИ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балан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                БАЛЬЗАМ ДЛЯ НОРМАЛЬНЫХ ВОЛОС, БЫСТРО СТАНОВЯЩИХСЯ ЖИРНЫМИ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балан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2" descr="KL_Shampoo_240_idealny_balans.jpg"/>
          <p:cNvPicPr/>
          <p:nvPr/>
        </p:nvPicPr>
        <p:blipFill>
          <a:blip r:embed="rId2"/>
          <a:stretch/>
        </p:blipFill>
        <p:spPr>
          <a:xfrm>
            <a:off x="647640" y="2117880"/>
            <a:ext cx="1636920" cy="3311280"/>
          </a:xfrm>
          <a:prstGeom prst="rect">
            <a:avLst/>
          </a:prstGeom>
          <a:ln w="0">
            <a:noFill/>
          </a:ln>
        </p:spPr>
      </p:pic>
      <p:sp>
        <p:nvSpPr>
          <p:cNvPr id="188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KL_Balzam_240_idealny_balans.jpg"/>
          <p:cNvPicPr/>
          <p:nvPr/>
        </p:nvPicPr>
        <p:blipFill>
          <a:blip r:embed="rId3"/>
          <a:stretch/>
        </p:blipFill>
        <p:spPr>
          <a:xfrm>
            <a:off x="2057400" y="2114640"/>
            <a:ext cx="1650960" cy="3343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1133640" y="535320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624040" y="53532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1:10:01Z</dcterms:modified>
  <cp:revision>530</cp:revision>
  <dc:subject/>
  <dc:title>Слайд 1</dc:title>
</cp:coreProperties>
</file>