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6FBB-3E9D-4EBC-A3FA-BF8039F71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7356-7485-4283-B115-4878CC41F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9DF-3042-4F49-950D-A470481D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B04-793D-4CFD-BD13-EF3D3495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A83-8138-4BB0-8DF5-7BA0A040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AE1-E2CE-43B9-8C89-F0F34F44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A409-126F-4E43-8B42-F98F0A01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FFF8-CDD4-4682-AB7C-CAD9063D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AEAD-CA13-40B6-A86D-7ACCB153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252E-1892-4DC5-9642-AB0B41D0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066D-F409-4296-A02A-BDB23082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22B7-722D-4527-8301-F1181D0B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A778-8CF0-408E-A286-79F910C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A39-CC33-4494-88FD-9D8299B8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733B-F7D8-436B-BE3C-EED59246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9CA5-1763-40AA-90FA-8DE0CE0F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2EBF-A750-432E-8191-C3053830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C8DA-A41F-4251-9F00-F953446F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BB96-008A-4835-978C-8D725A6F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5E6-69B1-4812-BCCE-3430BC19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BDC-934D-4B29-85A2-51424C3D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6A9-0452-4935-975D-234643B1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612-80F1-4D62-8735-D1242500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E48-3425-4F85-B118-1EB2EAA0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EC9-A976-46E5-B16E-2BC3F479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364-E060-4A77-9EE5-6890FFB5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EC0A-856C-45A3-AFB0-D00625B5A7B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7326-E0A3-4173-A272-E45FC4F4C8F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. 2" descr=""/>
          <p:cNvPicPr/>
          <p:nvPr/>
        </p:nvPicPr>
        <p:blipFill>
          <a:blip r:embed="rId1"/>
          <a:stretch/>
        </p:blipFill>
        <p:spPr>
          <a:xfrm>
            <a:off x="785880" y="1407960"/>
            <a:ext cx="7980120" cy="22989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1640" y="47239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Сезон 2009 – 20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89ca3"/>
                </a:solidFill>
                <a:latin typeface="Constantia"/>
              </a:rPr>
              <a:t>Презентация для ключевых клиентов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9ca3"/>
                </a:solidFill>
                <a:latin typeface="Constantia"/>
              </a:rPr>
              <a:t>201</a:t>
            </a:r>
            <a:r>
              <a:rPr b="1" lang="en-US" sz="2400" spc="-1" strike="noStrike">
                <a:solidFill>
                  <a:srgbClr val="089ca3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69992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bf7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500 мл шампуни и бальзам  – наиболее продаваемые продукты в категории средств по уходу за волосами в торговой марке </a:t>
            </a:r>
            <a:r>
              <a:rPr b="0" lang="en-US" sz="2400" spc="-1" strike="noStrike">
                <a:solidFill>
                  <a:srgbClr val="0076a3"/>
                </a:solidFill>
                <a:latin typeface="Arial"/>
                <a:ea typeface="Arial"/>
              </a:rPr>
              <a:t>CLIVEN</a:t>
            </a: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Все продукты производятся в Итал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Линейка состоит из пяти шампуней и одного бальзама для волос, в том числ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Шампунь Защит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Шампунь Нейтраль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Шампунь + Бальз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Шампунь на трава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Шампунь-крем с Лактоилом и витамином 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Бальзам на растительных экстракта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7" name="Picture 4" descr="C:\Documents and Settings\kirienko\Мои документы\Мои рисунки\ШАМПУНИ Beauty line\Шампунь-защитный.gif"/>
          <p:cNvPicPr/>
          <p:nvPr/>
        </p:nvPicPr>
        <p:blipFill>
          <a:blip r:embed="rId1"/>
          <a:stretch/>
        </p:blipFill>
        <p:spPr>
          <a:xfrm>
            <a:off x="971640" y="2492280"/>
            <a:ext cx="1584360" cy="39369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2879280" y="2781360"/>
            <a:ext cx="606348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 защитный с комплексом поливитами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Особый шампунь с Провитамином В5 и Витамином 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для секущихся или химически обработанных вол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Хорошо сбалансированные активные ингредиен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делают этот шампунь идеальным моющим сред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для волос с секущимися концами или после химиче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завивки, окраски и обесцвечи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Шампунь оказывает на волосы активное и глубокое защи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действие, делает их более сильными и прочны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Волосы приобретают блеск и мягкость, не теряя при э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окраску и химическую завив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806560" y="2997360"/>
            <a:ext cx="60451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 нейтральный мягкий с комплек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поливитаминов. Мягкий шампунь с нейтра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уровнем РН, с Провитамином В5, Витамином 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Витамином Р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Этот нейтральный шампунь был специально разработан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ежедневного или частого примен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Его нейтральная формула мягко очищает волосы,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мультивитаминный комплекс глубоко проникает в волос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делая их день ото дня более блестящ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Экстракт ромашки придает волосам мягкость и пыш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Documents and Settings\kirienko\Мои документы\Мои рисунки\ШАМПУНИ Beauty line\Шампунь-нейтральный-мягкий.gif"/>
          <p:cNvPicPr/>
          <p:nvPr/>
        </p:nvPicPr>
        <p:blipFill>
          <a:blip r:embed="rId1"/>
          <a:stretch/>
        </p:blipFill>
        <p:spPr>
          <a:xfrm>
            <a:off x="826920" y="2349360"/>
            <a:ext cx="1633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2645640" y="2781360"/>
            <a:ext cx="6276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 + Бальзам с комплексом поливитами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 3 в 1 с Провитамином В5, Витамином 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Витамином РР. Моет, ополаскивает и оживляет вол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Этот шампунь обладает тройным действием: он мягко очищ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обладает эффектом бальзама и, благодаря витамин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комплексу, глубоко питает волос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Три витамина: Провитамин В5, Витамин Е и Витамин Р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действуя совместно, делают волосы более сильным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рочными, защищают их от вредного воздействия окружающ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ср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Экстракт мальвы и растительные протеины прид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волосам особую мягкость и шелковист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kirienko\Мои документы\Мои рисунки\ШАМПУНИ Beauty line\Бальзам+Шампунь.gif"/>
          <p:cNvPicPr/>
          <p:nvPr/>
        </p:nvPicPr>
        <p:blipFill>
          <a:blip r:embed="rId1"/>
          <a:stretch/>
        </p:blipFill>
        <p:spPr>
          <a:xfrm>
            <a:off x="826920" y="2360520"/>
            <a:ext cx="16336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666160" y="3068640"/>
            <a:ext cx="5996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 на травах мягкий с Провитамином В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Витамином Н и Витамином Р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Мягко моет волосы, не истощая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Нежный шампунь на базе очень мягких компон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Он отлично защищает волосы и, благодаря витамин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комплексу глубоко питает волосы, делает их более стойки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еред внешними вредными воздейств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Экстракты липы и мальвы в сочетании с протеинами зер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ридают волосам особый блеск и мяг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kirienko\Мои документы\Мои рисунки\ШАМПУНИ Beauty line\Мягкий-шампунь-на-травах.gif"/>
          <p:cNvPicPr/>
          <p:nvPr/>
        </p:nvPicPr>
        <p:blipFill>
          <a:blip r:embed="rId1"/>
          <a:stretch/>
        </p:blipFill>
        <p:spPr>
          <a:xfrm>
            <a:off x="611280" y="2057400"/>
            <a:ext cx="172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652840" y="2781360"/>
            <a:ext cx="64674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-крем с Лактоилом и Витамином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Шампунь-крем содержит Лактоил, облада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себорегулирующим действием, и чистейший концент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активного витамина С, извлеченного из цедры мандари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апельсина и лим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Совместное действие этих компонентов сохраняет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и жизненную силу воло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омогает волосам противостоять многим вредным воздействи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внешней сре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резким перепадам температуры, ультрафиолетовым луча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смогу, неправильному использованию фена, частым сло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рическам, слишком энергичному расчесыванию и др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Documents and Settings\kirienko\Мои документы\Мои рисунки\ШАМПУНИ Beauty line\Шампунь-крем.gif"/>
          <p:cNvPicPr/>
          <p:nvPr/>
        </p:nvPicPr>
        <p:blipFill>
          <a:blip r:embed="rId1"/>
          <a:stretch/>
        </p:blipFill>
        <p:spPr>
          <a:xfrm>
            <a:off x="755640" y="2133720"/>
            <a:ext cx="17035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656800" y="2781360"/>
            <a:ext cx="64231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Бальзам на растительных экстра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Кремообразный бальзам с Провитамином В5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Витамином РР, оживляет волосы и распутывает уз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Кремообразный бальзам не только облегчает расчесы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волос, но дарит им блеск и мяг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Бальзам содержит экстракты липы и мальвы, Витамин РР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ровитамин В5, которые проникают в волосы и питают его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самого корня, делают более сильными и жизнеспособ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Кроме того, в состав бальзама входят растительные протеи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которые закрепляются на волосах и укрепляют их, одновреме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защищая от вредных внешних воздейст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Documents and Settings\kirienko\Мои документы\Мои рисунки\ШАМПУНИ Beauty line\Бальзам-на-растительных-экстрактах.gif"/>
          <p:cNvPicPr/>
          <p:nvPr/>
        </p:nvPicPr>
        <p:blipFill>
          <a:blip r:embed="rId1"/>
          <a:stretch/>
        </p:blipFill>
        <p:spPr>
          <a:xfrm>
            <a:off x="539640" y="1989000"/>
            <a:ext cx="18018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7:09:18Z</dcterms:created>
  <dc:creator>Kirienko</dc:creator>
  <dc:description/>
  <dc:language>en-US</dc:language>
  <cp:lastModifiedBy>kolomiets</cp:lastModifiedBy>
  <dcterms:modified xsi:type="dcterms:W3CDTF">2012-01-19T07:35:58Z</dcterms:modified>
  <cp:revision>57</cp:revision>
  <dc:subject/>
  <dc:title>Слайд 1</dc:title>
</cp:coreProperties>
</file>