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E3F8-DF17-47E5-AD66-07F0BD155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DCEC-D516-4779-B072-C3CA16CC7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76B-2677-4D73-A959-4B2A0A2A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3D2-0336-49C3-BB60-8D81DDC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A45-3DBC-4C9D-B6F2-ACC55CD2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CA8-C507-492A-9997-ED369C5F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FCC2-7158-4636-90E9-7E15F130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E9F-F9E2-4F36-AE6C-9AD5B8DA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0BDA-96AE-4424-BB8B-B7954403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2835-675E-4A74-8D9F-430B5BE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CE4A-FB90-4FD8-9307-81BB76D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68E-F32F-4FE5-8858-20981A58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4724-4C41-4A50-AE70-56190E55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FF8-7F5D-406D-801B-8EC7D53B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87D-5C90-4FAC-8F13-F30C611C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90EF-3DC6-4BD2-A4E1-A983149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147B-D142-4D89-8C37-34FD6F0D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98C5-107A-41B8-8155-F8970B3F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2B1D-55FE-43F7-B659-9D343BA7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3C8-0DFA-4EBB-BFC7-278CAE3E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84A-D7F1-4738-BBB2-FA3B7D6B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8F7-5AFD-4A58-9FFA-718D606E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9F8-2EA7-4AD5-9F57-9CA188F1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CD1-9DC9-4732-8178-F1E6C24F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ECB-B362-4084-B86D-85976AD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58A-E449-478E-9D3C-00BFC974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CF01-FA93-479B-BC79-B5C2D3836BF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EB85-E335-4B96-8058-9B6F91F1B17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. 2" descr=""/>
          <p:cNvPicPr/>
          <p:nvPr/>
        </p:nvPicPr>
        <p:blipFill>
          <a:blip r:embed="rId1"/>
          <a:stretch/>
        </p:blipFill>
        <p:spPr>
          <a:xfrm>
            <a:off x="785880" y="1407960"/>
            <a:ext cx="7980120" cy="22989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1640" y="47239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f5f9"/>
                </a:solidFill>
                <a:latin typeface="Constantia"/>
              </a:rPr>
              <a:t>Сезон 2009 – 20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89ca3"/>
                </a:solidFill>
                <a:latin typeface="Constantia"/>
              </a:rPr>
              <a:t>Презентация для ключевых клиент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9ca3"/>
                </a:solidFill>
                <a:latin typeface="Constantia"/>
              </a:rPr>
              <a:t>201</a:t>
            </a:r>
            <a:r>
              <a:rPr b="1" lang="en-US" sz="2400" spc="-1" strike="noStrike">
                <a:solidFill>
                  <a:srgbClr val="089ca3"/>
                </a:solidFill>
                <a:latin typeface="Constant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69992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bf7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500 мл шампуни и бальзам  – наиболее продаваемые продукты в категории средств по уходу за волосами в торговой марке </a:t>
            </a:r>
            <a:r>
              <a:rPr b="0" lang="en-US" sz="2400" spc="-1" strike="noStrike">
                <a:solidFill>
                  <a:srgbClr val="0076a3"/>
                </a:solidFill>
                <a:latin typeface="Arial"/>
                <a:ea typeface="Arial"/>
              </a:rPr>
              <a:t>CLIVEN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Все продукты производятся в Итал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Линейка состоит из пяти шампуней и одного бальзама для волос, в том числ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Защит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Нейтраль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+ Бальз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 на трава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Шампунь-крем с Лактоилом и витамином 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6a3"/>
                </a:solidFill>
                <a:latin typeface="Arial"/>
                <a:ea typeface="Arial"/>
              </a:rPr>
              <a:t>Бальзам на растительных экстракта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76a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7" name="Picture 4" descr="C:\Documents and Settings\kirienko\Мои документы\Мои рисунки\ШАМПУНИ Beauty line\Шампунь-защитный.gif"/>
          <p:cNvPicPr/>
          <p:nvPr/>
        </p:nvPicPr>
        <p:blipFill>
          <a:blip r:embed="rId1"/>
          <a:stretch/>
        </p:blipFill>
        <p:spPr>
          <a:xfrm>
            <a:off x="971640" y="2492280"/>
            <a:ext cx="1584360" cy="39369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2879280" y="2781360"/>
            <a:ext cx="606348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защитный с комплексом поливитами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Особый шампунь с Провитамином В5 и Витамином 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для секущихся или химически обработанных в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Хорошо сбалансированные активные ингредиен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лают этот шампунь идеальным моющим сред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ля волос с секущимися концами или после хими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завивки, окраски и обесцвеч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Шампунь оказывает на волосы активное и глубокое защи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йствие, делает их более сильными и прочны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олосы приобретают блеск и мягкость, не теряя при э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окраску и химическую завив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806560" y="2997360"/>
            <a:ext cx="60451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нейтральный мягкий с комплек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поливитаминов. Мягкий шампунь с нейтра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уровнем РН, с Провитамином В5, Витамином 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Р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тот нейтральный шампунь был специально разработан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ежедневного или частого приме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Его нейтральная формула мягко очищает волосы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мультивитаминный комплекс глубоко проникает в волос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лая их день ото дня более блестящ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кстракт ромашки придает волосам мягкость и пыш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kirienko\Мои документы\Мои рисунки\ШАМПУНИ Beauty line\Шампунь-нейтральный-мягкий.gif"/>
          <p:cNvPicPr/>
          <p:nvPr/>
        </p:nvPicPr>
        <p:blipFill>
          <a:blip r:embed="rId1"/>
          <a:stretch/>
        </p:blipFill>
        <p:spPr>
          <a:xfrm>
            <a:off x="826920" y="2349360"/>
            <a:ext cx="1633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2645640" y="2781360"/>
            <a:ext cx="6276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+ Бальзам с комплексом поливитами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3 в 1 с Провитамином В5, Витамином 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РР. Моет, ополаскивает и оживляет вол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тот шампунь обладает тройным действием: он мягко очищ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обладает эффектом бальзама и, благодаря витаминн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омплексу, глубоко питает воло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Три витамина: Провитамин В5, Витамин Е и Витамин Р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действуя совместно, делают волосы более сильным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очными, защищают их от вредного воздействия окружаю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р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кстракт мальвы и растительные протеины при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олосам особую мягкость и шелковист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kirienko\Мои документы\Мои рисунки\ШАМПУНИ Beauty line\Бальзам+Шампунь.gif"/>
          <p:cNvPicPr/>
          <p:nvPr/>
        </p:nvPicPr>
        <p:blipFill>
          <a:blip r:embed="rId1"/>
          <a:stretch/>
        </p:blipFill>
        <p:spPr>
          <a:xfrm>
            <a:off x="826920" y="2360520"/>
            <a:ext cx="16336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666160" y="3068640"/>
            <a:ext cx="5996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 на травах мягкий с Провитамином В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Н и Витамином Р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Мягко моет волосы, не истощая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Нежный шампунь на базе очень мягких компон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Он отлично защищает волосы и, благодаря витамин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омплексу глубоко питает волосы, делает их более стойк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еред внешними вредными воздейств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Экстракты липы и мальвы в сочетании с протеинами зе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идают волосам особый блеск и мяг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kirienko\Мои документы\Мои рисунки\ШАМПУНИ Beauty line\Мягкий-шампунь-на-травах.gif"/>
          <p:cNvPicPr/>
          <p:nvPr/>
        </p:nvPicPr>
        <p:blipFill>
          <a:blip r:embed="rId1"/>
          <a:stretch/>
        </p:blipFill>
        <p:spPr>
          <a:xfrm>
            <a:off x="611280" y="2057400"/>
            <a:ext cx="172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652840" y="2781360"/>
            <a:ext cx="64674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Шампунь-крем с Лактоилом и Витамином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Шампунь-крем содержит Лактоил, облада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еборегулирующим действием, и чистейший концент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активного витамина С, извлеченного из цедры мандари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апельсина и лим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овместное действие этих компонентов сохраняет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и жизненную силу воло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омогает волосам противостоять многим вредным воздейств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нешней сре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резким перепадам температуры, ультрафиолетовым луч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могу, неправильному использованию фена, частым слож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ическам, слишком энергичному расчесыванию и др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kirienko\Мои документы\Мои рисунки\ШАМПУНИ Beauty line\Шампунь-крем.gif"/>
          <p:cNvPicPr/>
          <p:nvPr/>
        </p:nvPicPr>
        <p:blipFill>
          <a:blip r:embed="rId1"/>
          <a:stretch/>
        </p:blipFill>
        <p:spPr>
          <a:xfrm>
            <a:off x="755640" y="2133720"/>
            <a:ext cx="17035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e1ea"/>
                </a:solidFill>
                <a:latin typeface="Calibri"/>
              </a:rPr>
              <a:t>500</a:t>
            </a:r>
            <a:r>
              <a:rPr b="1" lang="ru-RU" sz="4800" spc="-1" strike="noStrike">
                <a:solidFill>
                  <a:srgbClr val="4de1ea"/>
                </a:solidFill>
                <a:latin typeface="Calibri"/>
              </a:rPr>
              <a:t>мл шампуни и бальзам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656800" y="2781360"/>
            <a:ext cx="64231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Бальзам на растительных экстра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Кремообразный бальзам с Провитамином В5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6a3"/>
                </a:solidFill>
                <a:latin typeface="Arial"/>
              </a:rPr>
              <a:t>Витамином РР, оживляет волосы и распутывает уз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ремообразный бальзам не только облегчает расчесы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волос, но дарит им блеск и мяг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Бальзам содержит экстракты липы и мальвы, Витамин РР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Провитамин В5, которые проникают в волосы и питают его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самого корня, делают более сильными и жизнеспособ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роме того, в состав бальзама входят растительные протеи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которые закрепляются на волосах и укрепляют их, одновремен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6a3"/>
                </a:solidFill>
                <a:latin typeface="Arial"/>
              </a:rPr>
              <a:t>защищая от вредных внешних воз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kirienko\Мои документы\Мои рисунки\ШАМПУНИ Beauty line\Бальзам-на-растительных-экстрактах.gif"/>
          <p:cNvPicPr/>
          <p:nvPr/>
        </p:nvPicPr>
        <p:blipFill>
          <a:blip r:embed="rId1"/>
          <a:stretch/>
        </p:blipFill>
        <p:spPr>
          <a:xfrm>
            <a:off x="539640" y="1989000"/>
            <a:ext cx="1801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7:09:18Z</dcterms:created>
  <dc:creator>Kirienko</dc:creator>
  <dc:description/>
  <dc:language>en-US</dc:language>
  <cp:lastModifiedBy>kolomiets</cp:lastModifiedBy>
  <dcterms:modified xsi:type="dcterms:W3CDTF">2012-01-19T07:35:58Z</dcterms:modified>
  <cp:revision>57</cp:revision>
  <dc:subject/>
  <dc:title>Слайд 1</dc:title>
</cp:coreProperties>
</file>