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2D5-690A-4D33-8FD4-E6E1F2C6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80E0-8DC8-4699-ADBF-5F1B528A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DBBF-004F-4654-8FC2-3E0CEC1C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A59-18DA-4F30-868F-C5800101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2E3-CF75-4011-A93B-C9992056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BE78-2781-472A-9652-8FDE97A5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005-A240-4A8C-80DB-F0165922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FB2E-DDC5-4474-82D2-602D01B3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244E-8BE4-4AF8-954E-C9311D58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1E46-B43E-495C-88B2-32A5F7D6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09A-DB9C-41FD-8DFC-F10BA428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19A8-B577-45BB-A57B-65C6CD3F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D33C-A3C4-4507-B596-4314D67B7A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Слайд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Слайд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Слайд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Слайд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Слайд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Слайд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Слайд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Слайд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Слайд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Слайд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0T06:06:09Z</dcterms:created>
  <dc:creator>averyanov</dc:creator>
  <dc:description/>
  <dc:language>en-US</dc:language>
  <cp:lastModifiedBy>Alexander</cp:lastModifiedBy>
  <dcterms:modified xsi:type="dcterms:W3CDTF">2013-01-29T12:26:28Z</dcterms:modified>
  <cp:revision>3</cp:revision>
  <dc:subject/>
  <dc:title>Слайд 1</dc:title>
</cp:coreProperties>
</file>