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186-4A0D-4004-924A-C33CC334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8FA-8346-44D6-A6E0-E74D583C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EF2-89B7-4A0F-B71C-D8128ED7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B2E-E0A0-465C-A51A-4D1C9020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3DF-DA1A-495F-8508-A87251E4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1FF-5A5F-423B-A64D-92B1E7D8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0D4-AFBC-40E0-9582-3BF5623F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A00-F3E6-464C-8EFB-2BC3397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E73-51CE-4881-AB43-3849D2DA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C9B-42B0-4DBA-88F9-CE3F4B7E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002-5EBC-4730-8E48-FA2CBABF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4FA-155E-480C-B96A-2A5151D4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DBF2-7E49-4029-91CF-2554366294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06:06:09Z</dcterms:created>
  <dc:creator>averyanov</dc:creator>
  <dc:description/>
  <dc:language>en-US</dc:language>
  <cp:lastModifiedBy>Alexander</cp:lastModifiedBy>
  <dcterms:modified xsi:type="dcterms:W3CDTF">2013-01-29T12:26:28Z</dcterms:modified>
  <cp:revision>3</cp:revision>
  <dc:subject/>
  <dc:title>Слайд 1</dc:title>
</cp:coreProperties>
</file>