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DCFB-2E82-4C41-81DF-BCFE6833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1C0-B38A-48C8-9520-4926BF90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63C-15FB-4D25-9A48-CBB59236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136-D780-4981-AA9D-21E89C7A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635-83BF-4675-A053-BD417657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3F7-8DF9-4383-B81F-076B188A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7107-2A01-4A3A-8800-586946D9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66F-414D-4DFB-9D4D-440EE47C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6F58-0D55-4671-9CB0-79D187B1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584-FCB1-4B1F-802F-77FDB85D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7C7-2BBB-4EB9-AA38-E3970E09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637-BD66-4DA4-8738-CC0BFECC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>
            <a:alpha val="8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236F-16F8-42C6-A58A-CB581F9922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Azbuka_Logo.wmf"/>
          <p:cNvPicPr/>
          <p:nvPr/>
        </p:nvPicPr>
        <p:blipFill>
          <a:blip r:embed="rId1"/>
          <a:stretch/>
        </p:blipFill>
        <p:spPr>
          <a:xfrm>
            <a:off x="428760" y="642960"/>
            <a:ext cx="8358120" cy="52592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4714920" y="52833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истота от А до 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2714760" y="14292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ССОРТ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1428840" y="3854520"/>
            <a:ext cx="271440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amily&amp;De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11"/>
          <p:cNvSpPr/>
          <p:nvPr/>
        </p:nvSpPr>
        <p:spPr>
          <a:xfrm>
            <a:off x="5072040" y="3854520"/>
            <a:ext cx="2714760" cy="92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Baby&amp;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1214280" y="514044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ниверсальн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3"/>
          <p:cNvSpPr/>
          <p:nvPr/>
        </p:nvSpPr>
        <p:spPr>
          <a:xfrm>
            <a:off x="4857840" y="514044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детей и людей с чувствительной кож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5" descr="Azbuka_Logo.wmf"/>
          <p:cNvPicPr/>
          <p:nvPr/>
        </p:nvPicPr>
        <p:blipFill>
          <a:blip r:embed="rId1"/>
          <a:stretch/>
        </p:blipFill>
        <p:spPr>
          <a:xfrm>
            <a:off x="2571840" y="500040"/>
            <a:ext cx="3835440" cy="2413080"/>
          </a:xfrm>
          <a:prstGeom prst="rect">
            <a:avLst/>
          </a:prstGeom>
          <a:ln w="0">
            <a:noFill/>
          </a:ln>
        </p:spPr>
      </p:pic>
      <p:cxnSp>
        <p:nvCxnSpPr>
          <p:cNvPr id="49" name="Прямая со стрелкой 18"/>
          <p:cNvCxnSpPr/>
          <p:nvPr/>
        </p:nvCxnSpPr>
        <p:spPr>
          <a:xfrm flipH="1">
            <a:off x="2785320" y="3071880"/>
            <a:ext cx="1143720" cy="643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0" name="Прямая со стрелкой 19"/>
          <p:cNvCxnSpPr/>
          <p:nvPr/>
        </p:nvCxnSpPr>
        <p:spPr>
          <a:xfrm>
            <a:off x="5285880" y="3071520"/>
            <a:ext cx="1143720" cy="5720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5" descr="5l_Posuda.gif"/>
          <p:cNvPicPr/>
          <p:nvPr/>
        </p:nvPicPr>
        <p:blipFill>
          <a:blip r:embed="rId1"/>
          <a:stretch/>
        </p:blipFill>
        <p:spPr>
          <a:xfrm>
            <a:off x="5786280" y="1533600"/>
            <a:ext cx="2857680" cy="48322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500_posuda.gif"/>
          <p:cNvPicPr/>
          <p:nvPr/>
        </p:nvPicPr>
        <p:blipFill>
          <a:blip r:embed="rId2"/>
          <a:stretch/>
        </p:blipFill>
        <p:spPr>
          <a:xfrm>
            <a:off x="500040" y="2635200"/>
            <a:ext cx="4429080" cy="3936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2714760" y="14292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РЕДСТВА ДЛЯ МЫТЬЯ ПОСУ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Azbuka_Logo.wmf"/>
          <p:cNvPicPr/>
          <p:nvPr/>
        </p:nvPicPr>
        <p:blipFill>
          <a:blip r:embed="rId3"/>
          <a:stretch/>
        </p:blipFill>
        <p:spPr>
          <a:xfrm>
            <a:off x="71280" y="25560"/>
            <a:ext cx="2571840" cy="1617480"/>
          </a:xfrm>
          <a:prstGeom prst="rect">
            <a:avLst/>
          </a:prstGeom>
          <a:ln w="0">
            <a:noFill/>
          </a:ln>
        </p:spPr>
      </p:pic>
      <p:sp>
        <p:nvSpPr>
          <p:cNvPr id="55" name="TextBox 7"/>
          <p:cNvSpPr/>
          <p:nvPr/>
        </p:nvSpPr>
        <p:spPr>
          <a:xfrm>
            <a:off x="50004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 мл, 24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342900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 мл, 24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657216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0 мл, 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8"/>
          <p:cNvSpPr/>
          <p:nvPr/>
        </p:nvSpPr>
        <p:spPr>
          <a:xfrm>
            <a:off x="0" y="1627200"/>
            <a:ext cx="2928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натуральным экстрактом рома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деально для детской по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 удаляет ж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 смывается вод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аллергенная отд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108240" y="1643040"/>
            <a:ext cx="24638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ий аромат сочного лим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тавляет следов и за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ко смывается вод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 удаляет ж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раздражает кожу р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5" descr="1000_Pol.gif"/>
          <p:cNvPicPr/>
          <p:nvPr/>
        </p:nvPicPr>
        <p:blipFill>
          <a:blip r:embed="rId1"/>
          <a:stretch/>
        </p:blipFill>
        <p:spPr>
          <a:xfrm>
            <a:off x="285840" y="1857240"/>
            <a:ext cx="5619600" cy="47325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5l_Pol.gif"/>
          <p:cNvPicPr/>
          <p:nvPr/>
        </p:nvPicPr>
        <p:blipFill>
          <a:blip r:embed="rId2"/>
          <a:stretch/>
        </p:blipFill>
        <p:spPr>
          <a:xfrm>
            <a:off x="5857920" y="1341360"/>
            <a:ext cx="2965320" cy="5016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2714760" y="14292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РЕДСТВА ДЛЯ УБОРКИ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Azbuka_Logo.wmf"/>
          <p:cNvPicPr/>
          <p:nvPr/>
        </p:nvPicPr>
        <p:blipFill>
          <a:blip r:embed="rId3"/>
          <a:stretch/>
        </p:blipFill>
        <p:spPr>
          <a:xfrm>
            <a:off x="71280" y="25560"/>
            <a:ext cx="2571840" cy="1617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8"/>
          <p:cNvSpPr/>
          <p:nvPr/>
        </p:nvSpPr>
        <p:spPr>
          <a:xfrm>
            <a:off x="571680" y="6381720"/>
            <a:ext cx="178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00 мл, 1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364320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00 мл, 1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0"/>
          <p:cNvSpPr/>
          <p:nvPr/>
        </p:nvSpPr>
        <p:spPr>
          <a:xfrm>
            <a:off x="657216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00 мл, 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1857240" y="1214280"/>
            <a:ext cx="3357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 для уборки дома (пол, кафель и п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трализует неприятные запах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антибактериальным эфф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оставляет следов и раз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аллергенная отд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3"/>
          <p:cNvSpPr/>
          <p:nvPr/>
        </p:nvSpPr>
        <p:spPr>
          <a:xfrm>
            <a:off x="2714760" y="14292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ДИЦИОНЕРЫ ДЛЯ БЕ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1000_Condik.gif"/>
          <p:cNvPicPr/>
          <p:nvPr/>
        </p:nvPicPr>
        <p:blipFill>
          <a:blip r:embed="rId1"/>
          <a:stretch/>
        </p:blipFill>
        <p:spPr>
          <a:xfrm>
            <a:off x="1357200" y="1360440"/>
            <a:ext cx="6715080" cy="56404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5" descr="Azbuka_Logo.wmf"/>
          <p:cNvPicPr/>
          <p:nvPr/>
        </p:nvPicPr>
        <p:blipFill>
          <a:blip r:embed="rId2"/>
          <a:stretch/>
        </p:blipFill>
        <p:spPr>
          <a:xfrm>
            <a:off x="71280" y="25560"/>
            <a:ext cx="2571840" cy="1617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214308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00 мл, 1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429160" y="638172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00 мл, 12 шт./к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3571920" y="955800"/>
            <a:ext cx="33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ает белью мягкость и свежий аром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статически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аллергеннпая отд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ый рас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1428840" y="314316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ОРОШИХ ПРОДАЖ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3:53:07Z</dcterms:created>
  <dc:creator>akhiyarova</dc:creator>
  <dc:description/>
  <dc:language>en-US</dc:language>
  <cp:lastModifiedBy>solovieva</cp:lastModifiedBy>
  <dcterms:modified xsi:type="dcterms:W3CDTF">2012-03-30T10:30:44Z</dcterms:modified>
  <cp:revision>22</cp:revision>
  <dc:subject/>
  <dc:title>Слайд 1</dc:title>
</cp:coreProperties>
</file>