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222-AE68-4D58-8E76-2124198F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996-9339-4E1D-B41C-5E2613E2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844-8057-4553-A5F7-A79F935D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A91-CDDA-4241-A47E-1BABC893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4A8-3F7E-42B2-B324-6DE87409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0CA-0F3A-48F2-9392-72EDA887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665-DE8D-45BE-9B98-57887F49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745-F773-4D69-9F74-5B9502A6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410-A80F-4677-BE70-920107B6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2D4-5938-4546-AD57-6DE3865E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73D-37BC-4BB8-9028-A3666A89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190-4C92-4458-91D0-9F82751D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C63A-F275-4473-96E9-9CF07DC04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Azbuka_Logo.wmf"/>
          <p:cNvPicPr/>
          <p:nvPr/>
        </p:nvPicPr>
        <p:blipFill>
          <a:blip r:embed="rId1"/>
          <a:stretch/>
        </p:blipFill>
        <p:spPr>
          <a:xfrm>
            <a:off x="428760" y="642960"/>
            <a:ext cx="8358120" cy="5259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714920" y="52833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истота от А до 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714760" y="14292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ССОРТ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1428840" y="3854520"/>
            <a:ext cx="271440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amily&amp;De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1"/>
          <p:cNvSpPr/>
          <p:nvPr/>
        </p:nvSpPr>
        <p:spPr>
          <a:xfrm>
            <a:off x="5072040" y="3854520"/>
            <a:ext cx="271476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aby&amp;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1214280" y="51404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4857840" y="514044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тей и людей с чувствительной кож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Azbuka_Logo.wmf"/>
          <p:cNvPicPr/>
          <p:nvPr/>
        </p:nvPicPr>
        <p:blipFill>
          <a:blip r:embed="rId1"/>
          <a:stretch/>
        </p:blipFill>
        <p:spPr>
          <a:xfrm>
            <a:off x="2571840" y="500040"/>
            <a:ext cx="3835440" cy="241308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18"/>
          <p:cNvCxnSpPr/>
          <p:nvPr/>
        </p:nvCxnSpPr>
        <p:spPr>
          <a:xfrm flipH="1">
            <a:off x="2785320" y="3071880"/>
            <a:ext cx="1143720" cy="643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Прямая со стрелкой 19"/>
          <p:cNvCxnSpPr/>
          <p:nvPr/>
        </p:nvCxnSpPr>
        <p:spPr>
          <a:xfrm>
            <a:off x="5285880" y="3071520"/>
            <a:ext cx="1143720" cy="572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5l_Posuda.gif"/>
          <p:cNvPicPr/>
          <p:nvPr/>
        </p:nvPicPr>
        <p:blipFill>
          <a:blip r:embed="rId1"/>
          <a:stretch/>
        </p:blipFill>
        <p:spPr>
          <a:xfrm>
            <a:off x="5786280" y="1533600"/>
            <a:ext cx="2857680" cy="4832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500_posuda.gif"/>
          <p:cNvPicPr/>
          <p:nvPr/>
        </p:nvPicPr>
        <p:blipFill>
          <a:blip r:embed="rId2"/>
          <a:stretch/>
        </p:blipFill>
        <p:spPr>
          <a:xfrm>
            <a:off x="500040" y="2635200"/>
            <a:ext cx="4429080" cy="3936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714760" y="14292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РЕДСТВА ДЛЯ МЫТЬЯ ПОС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Azbuka_Logo.wmf"/>
          <p:cNvPicPr/>
          <p:nvPr/>
        </p:nvPicPr>
        <p:blipFill>
          <a:blip r:embed="rId3"/>
          <a:stretch/>
        </p:blipFill>
        <p:spPr>
          <a:xfrm>
            <a:off x="71280" y="25560"/>
            <a:ext cx="2571840" cy="1617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50004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 мл, 24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342900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 мл, 24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57216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0 мл, 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0" y="1627200"/>
            <a:ext cx="2928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натуральным экстрактом рома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 для детской по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 удаляет ж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 смывается вод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аллергенная отд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108240" y="1643040"/>
            <a:ext cx="2463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ий аромат сочного лим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тавляет следов и зап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 смывается вод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 удаляет ж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раздражает кожу р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5" descr="1000_Pol.gif"/>
          <p:cNvPicPr/>
          <p:nvPr/>
        </p:nvPicPr>
        <p:blipFill>
          <a:blip r:embed="rId1"/>
          <a:stretch/>
        </p:blipFill>
        <p:spPr>
          <a:xfrm>
            <a:off x="285840" y="1857240"/>
            <a:ext cx="5619600" cy="47325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5l_Pol.gif"/>
          <p:cNvPicPr/>
          <p:nvPr/>
        </p:nvPicPr>
        <p:blipFill>
          <a:blip r:embed="rId2"/>
          <a:stretch/>
        </p:blipFill>
        <p:spPr>
          <a:xfrm>
            <a:off x="5857920" y="1341360"/>
            <a:ext cx="2965320" cy="5016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714760" y="14292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РЕДСТВА ДЛЯ УБОРКИ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Azbuka_Logo.wmf"/>
          <p:cNvPicPr/>
          <p:nvPr/>
        </p:nvPicPr>
        <p:blipFill>
          <a:blip r:embed="rId3"/>
          <a:stretch/>
        </p:blipFill>
        <p:spPr>
          <a:xfrm>
            <a:off x="71280" y="25560"/>
            <a:ext cx="2571840" cy="1617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571680" y="6381720"/>
            <a:ext cx="178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00 мл, 1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64320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00 мл, 1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657216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0 мл, 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1857240" y="1214280"/>
            <a:ext cx="33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 для уборки дома (пол, кафель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трализует неприятные запа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антибактериальным эфф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тавляет следов и раз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аллергенная отд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2714760" y="14292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ДИЦИОНЕРЫ ДЛЯ БЕ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1000_Condik.gif"/>
          <p:cNvPicPr/>
          <p:nvPr/>
        </p:nvPicPr>
        <p:blipFill>
          <a:blip r:embed="rId1"/>
          <a:stretch/>
        </p:blipFill>
        <p:spPr>
          <a:xfrm>
            <a:off x="1357200" y="1360440"/>
            <a:ext cx="6715080" cy="56404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Azbuka_Logo.wmf"/>
          <p:cNvPicPr/>
          <p:nvPr/>
        </p:nvPicPr>
        <p:blipFill>
          <a:blip r:embed="rId2"/>
          <a:stretch/>
        </p:blipFill>
        <p:spPr>
          <a:xfrm>
            <a:off x="71280" y="25560"/>
            <a:ext cx="2571840" cy="1617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214308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00 мл, 1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42916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00 мл, 1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571920" y="955800"/>
            <a:ext cx="33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ает белью мягкость и свежий аром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статически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аллергеннпая отд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ый рас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1428840" y="31431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ОРОШИХ ПРОДАЖ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53:07Z</dcterms:created>
  <dc:creator>akhiyarova</dc:creator>
  <dc:description/>
  <dc:language>en-US</dc:language>
  <cp:lastModifiedBy>solovieva</cp:lastModifiedBy>
  <dcterms:modified xsi:type="dcterms:W3CDTF">2012-03-30T10:30:44Z</dcterms:modified>
  <cp:revision>22</cp:revision>
  <dc:subject/>
  <dc:title>Слайд 1</dc:title>
</cp:coreProperties>
</file>