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BCC-143C-404F-A389-5B7812EF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3DD8-1A05-48ED-A962-8CCA490C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28C5-04F6-449E-82CD-D6E6561C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DF1A-6FFD-4C3B-B996-4F3CED21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704D-E8F3-4ECF-A7DC-D4BF48637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B432-D62D-4478-BD17-E77B01E6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4D2D-AC30-4B0C-B986-DE096311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8FC6-3CAA-40DC-AB9F-DC524D21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5641-9FD7-4BD1-8888-AEFF2178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B924-E8BD-4601-909E-89CC31E8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C9D7-1A39-4B72-9461-045FFF77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E34F-979D-4384-8778-1D5CFC8D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67F3-2CFD-46B2-B4B3-7FDCC7DFDC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843280" y="1125360"/>
            <a:ext cx="3744720" cy="1555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780000" y="5516640"/>
            <a:ext cx="1790640" cy="96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3203640" y="2565360"/>
            <a:ext cx="2987640" cy="2109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68000" y="4797360"/>
            <a:ext cx="475164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Линия косметических средств на основе ингредиентов, традиционных для Фран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948360" y="5589720"/>
            <a:ext cx="1791000" cy="958680"/>
          </a:xfrm>
          <a:prstGeom prst="rect">
            <a:avLst/>
          </a:prstGeom>
          <a:ln w="0">
            <a:noFill/>
          </a:ln>
        </p:spPr>
      </p:pic>
      <p:sp>
        <p:nvSpPr>
          <p:cNvPr id="106" name="Заголовок 3"/>
          <p:cNvSpPr/>
          <p:nvPr/>
        </p:nvSpPr>
        <p:spPr>
          <a:xfrm>
            <a:off x="1979640" y="549360"/>
            <a:ext cx="62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Косметическая серия «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» 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Заголовок 3"/>
          <p:cNvSpPr/>
          <p:nvPr/>
        </p:nvSpPr>
        <p:spPr>
          <a:xfrm>
            <a:off x="1908000" y="76500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2300"/>
                </a:solidFill>
                <a:latin typeface="Monotype Corsiva"/>
              </a:rPr>
              <a:t>создана с использованием ингредиентов, традиционных для Фран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Заголовок 3"/>
          <p:cNvSpPr/>
          <p:nvPr/>
        </p:nvSpPr>
        <p:spPr>
          <a:xfrm>
            <a:off x="971640" y="1341360"/>
            <a:ext cx="5329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62300"/>
                </a:solidFill>
                <a:latin typeface="Monotype Corsiva"/>
              </a:rPr>
              <a:t>                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Нежный крем для рук и ногтей «Олива и розмарин», 50 м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Заголовок 3"/>
          <p:cNvSpPr/>
          <p:nvPr/>
        </p:nvSpPr>
        <p:spPr>
          <a:xfrm>
            <a:off x="2124000" y="1484280"/>
            <a:ext cx="32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с эфирным маслом розмар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1"/>
          <p:cNvSpPr/>
          <p:nvPr/>
        </p:nvSpPr>
        <p:spPr>
          <a:xfrm>
            <a:off x="539640" y="1773360"/>
            <a:ext cx="5904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- Придает коже рук ощущение комфорта и неж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- Защищает руки от негативных воздействий внешней среды (жесткой воды, моющих средств и перепадов температуры).</a:t>
            </a:r>
            <a:br>
              <a:rPr sz="1600"/>
            </a:b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- Комплекс трав увлажняет кожу, насыщает полезными элементами и повышает эластичность.</a:t>
            </a:r>
            <a:br>
              <a:rPr sz="1600"/>
            </a:b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- Эфирное масло розмарина  благодаря мягкому антисептическому действию защищает кожу рук от раздражения и воспал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Нежный крем для рук и ногтей «Олива и розмарин»  дарит нежность  и молодость Вашим рук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«</a:t>
            </a:r>
            <a:r>
              <a:rPr b="1" lang="en-US" sz="16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» -  Дай себя соблазн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\\Entserver3.a2.bzri.ru\L&amp;L\АССОРТИМЕНТ КЛ\Le Flirt\2011-2012\Презентация Le Flirt\крем_Олива_Размарин.png"/>
          <p:cNvPicPr/>
          <p:nvPr/>
        </p:nvPicPr>
        <p:blipFill>
          <a:blip r:embed="rId3"/>
          <a:stretch/>
        </p:blipFill>
        <p:spPr>
          <a:xfrm>
            <a:off x="5508720" y="692280"/>
            <a:ext cx="41209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6948360" y="5589720"/>
            <a:ext cx="1791000" cy="958680"/>
          </a:xfrm>
          <a:prstGeom prst="rect">
            <a:avLst/>
          </a:prstGeom>
          <a:ln w="0">
            <a:noFill/>
          </a:ln>
        </p:spPr>
      </p:pic>
      <p:sp>
        <p:nvSpPr>
          <p:cNvPr id="114" name="Заголовок 3"/>
          <p:cNvSpPr/>
          <p:nvPr/>
        </p:nvSpPr>
        <p:spPr>
          <a:xfrm>
            <a:off x="1979640" y="549360"/>
            <a:ext cx="62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Косметическая серия «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» 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Заголовок 3"/>
          <p:cNvSpPr/>
          <p:nvPr/>
        </p:nvSpPr>
        <p:spPr>
          <a:xfrm>
            <a:off x="1908000" y="76500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2300"/>
                </a:solidFill>
                <a:latin typeface="Monotype Corsiva"/>
              </a:rPr>
              <a:t>создана с использованием ингредиентов, традиционных для Фран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Заголовок 3"/>
          <p:cNvSpPr/>
          <p:nvPr/>
        </p:nvSpPr>
        <p:spPr>
          <a:xfrm>
            <a:off x="0" y="1341360"/>
            <a:ext cx="619272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               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Крем для потрескавшейся кожи ног «Мята и можжевельник», 50 м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Заголовок 3"/>
          <p:cNvSpPr/>
          <p:nvPr/>
        </p:nvSpPr>
        <p:spPr>
          <a:xfrm>
            <a:off x="1908000" y="1484280"/>
            <a:ext cx="3240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с эфирным маслом можжевель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1"/>
          <p:cNvSpPr/>
          <p:nvPr/>
        </p:nvSpPr>
        <p:spPr>
          <a:xfrm>
            <a:off x="539640" y="1773360"/>
            <a:ext cx="60325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-  Защищает от неприятного запах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-  Уменьшает потоотдел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-  Обладает антимикробным эффектом благодаря эфирному маслу можжевель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-  Смягчает, освежает и питает сухую кож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-  Способствует заживлению трещин и предотвращает образование натоптыш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Активный компонент -  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Эфирное масло можжевель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Охлаждает, тонизирует, и приятно освежает кожу. Усиливая микроциркуляцию крови, оказывает укрепляющее воздействие на сосуды кож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Крем для потрескавшейся кожи ног «Мята и можжевельник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» -  верный помощник для снятия усталости  ног, смягчения огрубевшей кожи и профилактики трещ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«</a:t>
            </a:r>
            <a:r>
              <a:rPr b="1" lang="en-US" sz="16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» -  Дай себя соблазн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\\Entserver3.a2.bzri.ru\L&amp;L\АССОРТИМЕНТ КЛ\Le Flirt\2011-2012\Презентация Le Flirt\крем_Мята_можжевельник.png"/>
          <p:cNvPicPr/>
          <p:nvPr/>
        </p:nvPicPr>
        <p:blipFill>
          <a:blip r:embed="rId3"/>
          <a:stretch/>
        </p:blipFill>
        <p:spPr>
          <a:xfrm>
            <a:off x="5508720" y="765000"/>
            <a:ext cx="4235400" cy="59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"/>
          <p:cNvPicPr/>
          <p:nvPr/>
        </p:nvPicPr>
        <p:blipFill>
          <a:blip r:embed="rId2"/>
          <a:stretch/>
        </p:blipFill>
        <p:spPr>
          <a:xfrm>
            <a:off x="6948360" y="5589720"/>
            <a:ext cx="1791000" cy="95868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3"/>
          <p:cNvSpPr/>
          <p:nvPr/>
        </p:nvSpPr>
        <p:spPr>
          <a:xfrm>
            <a:off x="1692360" y="549360"/>
            <a:ext cx="62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Косметическая серия «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» 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Заголовок 3"/>
          <p:cNvSpPr/>
          <p:nvPr/>
        </p:nvSpPr>
        <p:spPr>
          <a:xfrm>
            <a:off x="1692360" y="76500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2300"/>
                </a:solidFill>
                <a:latin typeface="Monotype Corsiva"/>
              </a:rPr>
              <a:t>создана с использованием ингредиентов, традиционных для Фран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1042920" y="1125360"/>
            <a:ext cx="685980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6948360" y="5661000"/>
            <a:ext cx="1791000" cy="960480"/>
          </a:xfrm>
          <a:prstGeom prst="rect">
            <a:avLst/>
          </a:prstGeom>
          <a:ln w="0">
            <a:noFill/>
          </a:ln>
        </p:spPr>
      </p:pic>
      <p:sp>
        <p:nvSpPr>
          <p:cNvPr id="127" name="Заголовок 3"/>
          <p:cNvSpPr/>
          <p:nvPr/>
        </p:nvSpPr>
        <p:spPr>
          <a:xfrm>
            <a:off x="1692360" y="549360"/>
            <a:ext cx="62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Косметическая серия «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» 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Заголовок 3"/>
          <p:cNvSpPr/>
          <p:nvPr/>
        </p:nvSpPr>
        <p:spPr>
          <a:xfrm>
            <a:off x="1692360" y="76500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2300"/>
                </a:solidFill>
                <a:latin typeface="Monotype Corsiva"/>
              </a:rPr>
              <a:t>Логистическая 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125360"/>
          <a:ext cx="8280360" cy="4654800"/>
        </p:xfrm>
        <a:graphic>
          <a:graphicData uri="http://schemas.openxmlformats.org/drawingml/2006/table">
            <a:tbl>
              <a:tblPr/>
              <a:tblGrid>
                <a:gridCol w="766800"/>
                <a:gridCol w="3409920"/>
                <a:gridCol w="936720"/>
                <a:gridCol w="1295280"/>
                <a:gridCol w="1079640"/>
                <a:gridCol w="792000"/>
              </a:tblGrid>
              <a:tr h="1377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Артику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Наименов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Объем / вес единицы продук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Штрих-к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Количество в гофрокоробе, шт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Срок годности, мес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134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1. Мягкий шампу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" Мелисса и вербена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730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46070149544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14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. Мягкий шампун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"Розовый цвет и жасмин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730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4607014954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54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3. Мягкая гель-пен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"Ирис и лаванда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730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46070149544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65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4. Мягкая гель-п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"Тимьян и душица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730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46070149545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375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5. Мягкое крем-м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"Апельсиновый мед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520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46070149545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38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6. Мягкое крем-м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"Черешня и миндаль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520 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4607014954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496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7. Нежный крем для рук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и ногтей "Олива и розмарин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50 м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46070149546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506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8. Крем для потрескавшейс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кожи ног "Мята и можжевельник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50 м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46070149546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3300"/>
                          </a:solidFill>
                          <a:latin typeface="Monotype Corsiva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7" descr="\\Entserver3.a2.bzri.ru\L&amp;L\АССОРТИМЕНТ КЛ\Le Flirt\2011-2012\Презентация Le Flirt\мелисса.png"/>
          <p:cNvPicPr/>
          <p:nvPr/>
        </p:nvPicPr>
        <p:blipFill>
          <a:blip r:embed="rId3"/>
          <a:stretch/>
        </p:blipFill>
        <p:spPr>
          <a:xfrm>
            <a:off x="3780000" y="1844640"/>
            <a:ext cx="720720" cy="459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" descr=""/>
          <p:cNvPicPr/>
          <p:nvPr/>
        </p:nvPicPr>
        <p:blipFill>
          <a:blip r:embed="rId4"/>
          <a:stretch/>
        </p:blipFill>
        <p:spPr>
          <a:xfrm>
            <a:off x="3780000" y="2298600"/>
            <a:ext cx="720720" cy="507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\\Entserver3.a2.bzri.ru\L&amp;L\АССОРТИМЕНТ КЛ\Le Flirt\2011-2012\Презентация Le Flirt\лаванда.png"/>
          <p:cNvPicPr/>
          <p:nvPr/>
        </p:nvPicPr>
        <p:blipFill>
          <a:blip r:embed="rId5"/>
          <a:stretch/>
        </p:blipFill>
        <p:spPr>
          <a:xfrm>
            <a:off x="3780000" y="2801880"/>
            <a:ext cx="771480" cy="544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\\Entserver3.a2.bzri.ru\L&amp;L\АССОРТИМЕНТ КЛ\Le Flirt\2011-2012\Презентация Le Flirt\тимьян.png"/>
          <p:cNvPicPr/>
          <p:nvPr/>
        </p:nvPicPr>
        <p:blipFill>
          <a:blip r:embed="rId6"/>
          <a:stretch/>
        </p:blipFill>
        <p:spPr>
          <a:xfrm>
            <a:off x="3780000" y="3284640"/>
            <a:ext cx="720720" cy="509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\\Entserver3.a2.bzri.ru\L&amp;L\АССОРТИМЕНТ КЛ\Le Flirt\2011-2012\Презентация Le Flirt\мед.png"/>
          <p:cNvPicPr/>
          <p:nvPr/>
        </p:nvPicPr>
        <p:blipFill>
          <a:blip r:embed="rId7"/>
          <a:stretch/>
        </p:blipFill>
        <p:spPr>
          <a:xfrm>
            <a:off x="3851280" y="3789360"/>
            <a:ext cx="660240" cy="519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\\Entserver3.a2.bzri.ru\L&amp;L\АССОРТИМЕНТ КЛ\Le Flirt\2011-2012\Презентация Le Flirt\черешня.png"/>
          <p:cNvPicPr/>
          <p:nvPr/>
        </p:nvPicPr>
        <p:blipFill>
          <a:blip r:embed="rId8"/>
          <a:stretch/>
        </p:blipFill>
        <p:spPr>
          <a:xfrm>
            <a:off x="3851280" y="4292640"/>
            <a:ext cx="655560" cy="504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\\Entserver3.a2.bzri.ru\L&amp;L\АССОРТИМЕНТ КЛ\Le Flirt\2011-2012\Презентация Le Flirt\размарин.png"/>
          <p:cNvPicPr/>
          <p:nvPr/>
        </p:nvPicPr>
        <p:blipFill>
          <a:blip r:embed="rId9"/>
          <a:stretch/>
        </p:blipFill>
        <p:spPr>
          <a:xfrm>
            <a:off x="3851280" y="4797360"/>
            <a:ext cx="720720" cy="5079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\\Entserver3.a2.bzri.ru\L&amp;L\АССОРТИМЕНТ КЛ\Le Flirt\2011-2012\Презентация Le Flirt\можжевельник.png"/>
          <p:cNvPicPr/>
          <p:nvPr/>
        </p:nvPicPr>
        <p:blipFill>
          <a:blip r:embed="rId10"/>
          <a:stretch/>
        </p:blipFill>
        <p:spPr>
          <a:xfrm>
            <a:off x="3851280" y="5300640"/>
            <a:ext cx="692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3059280" y="907920"/>
            <a:ext cx="3063600" cy="1273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3780000" y="5445000"/>
            <a:ext cx="1790640" cy="959040"/>
          </a:xfrm>
          <a:prstGeom prst="rect">
            <a:avLst/>
          </a:prstGeom>
          <a:ln w="0">
            <a:noFill/>
          </a:ln>
        </p:spPr>
      </p:pic>
      <p:sp>
        <p:nvSpPr>
          <p:cNvPr id="140" name="Заголовок 3"/>
          <p:cNvSpPr/>
          <p:nvPr/>
        </p:nvSpPr>
        <p:spPr>
          <a:xfrm>
            <a:off x="1692360" y="2276640"/>
            <a:ext cx="5759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62300"/>
                </a:solidFill>
                <a:latin typeface="Monotype Corsiva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Заголовок 3"/>
          <p:cNvSpPr/>
          <p:nvPr/>
        </p:nvSpPr>
        <p:spPr>
          <a:xfrm>
            <a:off x="1692360" y="76500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Заголовок 3"/>
          <p:cNvSpPr/>
          <p:nvPr/>
        </p:nvSpPr>
        <p:spPr>
          <a:xfrm>
            <a:off x="1835280" y="4581360"/>
            <a:ext cx="5761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62300"/>
                </a:solidFill>
                <a:latin typeface="Monotype Corsiva"/>
              </a:rPr>
              <a:t>Хороших продаж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3"/>
          <a:stretch/>
        </p:blipFill>
        <p:spPr>
          <a:xfrm>
            <a:off x="3276720" y="2852640"/>
            <a:ext cx="266364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103400" cy="447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6948360" y="5661000"/>
            <a:ext cx="1791000" cy="960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00160" y="428760"/>
            <a:ext cx="62438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2300"/>
                </a:solidFill>
                <a:latin typeface="Monotype Corsiva"/>
              </a:rPr>
              <a:t>Франция – многогранная, интригующая и неповторимая…</a:t>
            </a:r>
            <a:r>
              <a:rPr b="1" lang="en-US" sz="1800" spc="-1" strike="noStrike">
                <a:solidFill>
                  <a:srgbClr val="462300"/>
                </a:solidFill>
                <a:latin typeface="Monotype Corsiva"/>
              </a:rPr>
              <a:t>  </a:t>
            </a:r>
            <a:r>
              <a:rPr b="1" lang="ru-RU" sz="1800" spc="-1" strike="noStrike">
                <a:solidFill>
                  <a:srgbClr val="462300"/>
                </a:solidFill>
                <a:latin typeface="Monotype Corsiva"/>
              </a:rPr>
              <a:t> и вдохновляющая…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Заголовок 3"/>
          <p:cNvSpPr/>
          <p:nvPr/>
        </p:nvSpPr>
        <p:spPr>
          <a:xfrm>
            <a:off x="357120" y="1000080"/>
            <a:ext cx="8286840" cy="53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             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Франция — это страна, которая олицетворяет красоту и роскош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изысканный вкус и историческое наследие многих эпох, загадочное обая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старины и молодость современных поколе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             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Франция всегда считалась царством косметики, откуда 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распространилась в дальнейшем по всему мир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             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Благоприятный климат, позволяющий выращивать множест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ценных растений, которые используются в производстве косметики,  обуслови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создание здесь сети научно-исследовательских институтов и фир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парфюмерно-косметической отрас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« 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LeFlirt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» 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французское кокетство  - царство красоты. С глубокой древности французы использовали  дары природы для придания красоты и облегчения недугов. В основу новой косметической серии положены рецепты, в состав которых входят растения, традиционно произрастающие во Фран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Все ингредиенты   новой косметической серии «</a:t>
            </a:r>
            <a:r>
              <a:rPr b="0" lang="en-US" sz="1600" spc="-1" strike="noStrike">
                <a:solidFill>
                  <a:srgbClr val="462300"/>
                </a:solidFill>
                <a:latin typeface="Monotype Corsiva"/>
              </a:rPr>
              <a:t>LeFlirt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»   собраны согласно традициям, которых придерживались  французские знахари и лекари  сотни лет наза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В серию входят: 2 шампуня, 2 пены для ванн, 2 жидких крем-мыла, 2 кре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Серия привлекает  своим ароматом и цветом, удобна и проста  в использовании, а главное — исполняет свое основное предназначение — улучшает  внешность, придает  свежесть и красоту телу и волос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chelreal.ru/files/images/parij.jpg"/>
          <p:cNvPicPr/>
          <p:nvPr/>
        </p:nvPicPr>
        <p:blipFill>
          <a:blip r:embed="rId3"/>
          <a:stretch/>
        </p:blipFill>
        <p:spPr>
          <a:xfrm>
            <a:off x="6786720" y="785880"/>
            <a:ext cx="1709640" cy="22795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1"/>
          <p:cNvSpPr/>
          <p:nvPr/>
        </p:nvSpPr>
        <p:spPr>
          <a:xfrm>
            <a:off x="1332000" y="5950080"/>
            <a:ext cx="59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Прикоснитесь к Франции с новой косметической серией «</a:t>
            </a:r>
            <a:r>
              <a:rPr b="1" lang="en-US" sz="16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»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6948360" y="5589720"/>
            <a:ext cx="1791000" cy="958680"/>
          </a:xfrm>
          <a:prstGeom prst="rect">
            <a:avLst/>
          </a:prstGeom>
          <a:ln w="0">
            <a:noFill/>
          </a:ln>
        </p:spPr>
      </p:pic>
      <p:sp>
        <p:nvSpPr>
          <p:cNvPr id="53" name="Заголовок 3"/>
          <p:cNvSpPr/>
          <p:nvPr/>
        </p:nvSpPr>
        <p:spPr>
          <a:xfrm>
            <a:off x="1979640" y="549360"/>
            <a:ext cx="62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Косметическая серия «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» 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Заголовок 3"/>
          <p:cNvSpPr/>
          <p:nvPr/>
        </p:nvSpPr>
        <p:spPr>
          <a:xfrm>
            <a:off x="1908000" y="76500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2300"/>
                </a:solidFill>
                <a:latin typeface="Monotype Corsiva"/>
              </a:rPr>
              <a:t>создана с использованием ингредиентов, традиционных для Фран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0"/>
          <p:cNvSpPr/>
          <p:nvPr/>
        </p:nvSpPr>
        <p:spPr>
          <a:xfrm>
            <a:off x="642960" y="1143000"/>
            <a:ext cx="778680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Преимущества </a:t>
            </a:r>
            <a:r>
              <a:rPr b="1" lang="en-US" sz="16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ТМ « </a:t>
            </a:r>
            <a:r>
              <a:rPr b="1" lang="en-US" sz="1600" spc="-1" strike="noStrike">
                <a:solidFill>
                  <a:srgbClr val="462300"/>
                </a:solidFill>
                <a:latin typeface="Monotype Corsiva"/>
              </a:rPr>
              <a:t>LeFlirt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» и компании - производ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462300"/>
                </a:solidFill>
                <a:latin typeface="Monotype Corsiva"/>
              </a:rPr>
              <a:t>-  Завод-производитель  «Русская Косметика »  ( ранее «Красная линия» ) был образован в 2001 году. На сегодняшний день продукция компании представлена по всей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2300"/>
                </a:solidFill>
                <a:latin typeface="Monotype Corsiva"/>
              </a:rPr>
              <a:t>«Русская Косметика» представляет на рынок более 1 000 наименований косметики и бытовой химии, разработанных в собственной технологической лабора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462300"/>
                </a:solidFill>
                <a:latin typeface="Monotype Corsiva"/>
              </a:rPr>
              <a:t>-   Продукция производится строго по международным стандартам качества и тщательно тестируе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2300"/>
                </a:solidFill>
                <a:latin typeface="Monotype Corsiva"/>
              </a:rPr>
              <a:t>   </a:t>
            </a:r>
            <a:r>
              <a:rPr b="0" lang="ru-RU" sz="1800" spc="-1" strike="noStrike">
                <a:solidFill>
                  <a:srgbClr val="462300"/>
                </a:solidFill>
                <a:latin typeface="Monotype Corsiva"/>
              </a:rPr>
              <a:t>-  Производство косметики в строгом соответствии с гигиеническими требованиями Минздрава РФ 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462300"/>
                </a:solidFill>
                <a:latin typeface="Monotype Corsiva"/>
              </a:rPr>
              <a:t>- Жесткие требования к качеству сырь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2300"/>
                </a:solidFill>
                <a:latin typeface="Monotype Corsiva"/>
              </a:rPr>
              <a:t> </a:t>
            </a:r>
            <a:r>
              <a:rPr b="0" lang="ru-RU" sz="1800" spc="-1" strike="noStrike">
                <a:solidFill>
                  <a:srgbClr val="462300"/>
                </a:solidFill>
                <a:latin typeface="Monotype Corsiva"/>
              </a:rPr>
              <a:t>-  Вся продукция сертифициров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6948360" y="5589720"/>
            <a:ext cx="1791000" cy="958680"/>
          </a:xfrm>
          <a:prstGeom prst="rect">
            <a:avLst/>
          </a:prstGeom>
          <a:ln w="0">
            <a:noFill/>
          </a:ln>
        </p:spPr>
      </p:pic>
      <p:sp>
        <p:nvSpPr>
          <p:cNvPr id="58" name="Заголовок 3"/>
          <p:cNvSpPr/>
          <p:nvPr/>
        </p:nvSpPr>
        <p:spPr>
          <a:xfrm>
            <a:off x="1979640" y="549360"/>
            <a:ext cx="62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Косметическая серия «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» 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Заголовок 3"/>
          <p:cNvSpPr/>
          <p:nvPr/>
        </p:nvSpPr>
        <p:spPr>
          <a:xfrm>
            <a:off x="1908000" y="76500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2300"/>
                </a:solidFill>
                <a:latin typeface="Monotype Corsiva"/>
              </a:rPr>
              <a:t>создана с использованием ингредиентов, традиционных для Фран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Заголовок 3"/>
          <p:cNvSpPr/>
          <p:nvPr/>
        </p:nvSpPr>
        <p:spPr>
          <a:xfrm>
            <a:off x="1187280" y="1341360"/>
            <a:ext cx="583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               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Мягкий шампунь  «Мелисса и вербена», 730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Заголовок 3"/>
          <p:cNvSpPr/>
          <p:nvPr/>
        </p:nvSpPr>
        <p:spPr>
          <a:xfrm>
            <a:off x="2124000" y="1484280"/>
            <a:ext cx="2735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с цветочной водой мели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1"/>
          <p:cNvSpPr/>
          <p:nvPr/>
        </p:nvSpPr>
        <p:spPr>
          <a:xfrm>
            <a:off x="539640" y="1773360"/>
            <a:ext cx="590400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Мелисса</a:t>
            </a: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Оказывает противовоспалительное действие на кожу головы, питает и регенерирует поврежденные волосы любого тип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Вербе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Аромат Вербены легко избавляет от накопившейся усталости, раздражительности и апат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Активный компонент - Цветочная вода мелисс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Обладает очищающим, антиоксидантным и успокаивающим свойствами, нормализует функции сальных желез и липидный обме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Шампунь  разработан  для  смягчения и питания Ваших вол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«</a:t>
            </a:r>
            <a:r>
              <a:rPr b="1" lang="en-US" sz="16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» -  Дай себя соблазн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3"/>
          <a:stretch/>
        </p:blipFill>
        <p:spPr>
          <a:xfrm>
            <a:off x="5703840" y="1052640"/>
            <a:ext cx="34401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6948360" y="5589720"/>
            <a:ext cx="1791000" cy="958680"/>
          </a:xfrm>
          <a:prstGeom prst="rect">
            <a:avLst/>
          </a:prstGeom>
          <a:ln w="0">
            <a:noFill/>
          </a:ln>
        </p:spPr>
      </p:pic>
      <p:sp>
        <p:nvSpPr>
          <p:cNvPr id="66" name="Заголовок 3"/>
          <p:cNvSpPr/>
          <p:nvPr/>
        </p:nvSpPr>
        <p:spPr>
          <a:xfrm>
            <a:off x="1979640" y="549360"/>
            <a:ext cx="62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Косметическая серия «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» 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3"/>
          <p:cNvSpPr/>
          <p:nvPr/>
        </p:nvSpPr>
        <p:spPr>
          <a:xfrm>
            <a:off x="1908000" y="76500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2300"/>
                </a:solidFill>
                <a:latin typeface="Monotype Corsiva"/>
              </a:rPr>
              <a:t>создана с использованием ингредиентов, традиционных для Фран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3"/>
          <a:stretch/>
        </p:blipFill>
        <p:spPr>
          <a:xfrm>
            <a:off x="5632560" y="1052640"/>
            <a:ext cx="3511440" cy="4968720"/>
          </a:xfrm>
          <a:prstGeom prst="rect">
            <a:avLst/>
          </a:prstGeom>
          <a:ln w="0">
            <a:noFill/>
          </a:ln>
        </p:spPr>
      </p:pic>
      <p:sp>
        <p:nvSpPr>
          <p:cNvPr id="69" name="Заголовок 3"/>
          <p:cNvSpPr/>
          <p:nvPr/>
        </p:nvSpPr>
        <p:spPr>
          <a:xfrm>
            <a:off x="900000" y="1341360"/>
            <a:ext cx="5832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               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Мягкий шампунь «Розовый цвет и жасмин», 730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Заголовок 3"/>
          <p:cNvSpPr/>
          <p:nvPr/>
        </p:nvSpPr>
        <p:spPr>
          <a:xfrm>
            <a:off x="2195640" y="1484280"/>
            <a:ext cx="2736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с цветочной водой жасм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1"/>
          <p:cNvSpPr/>
          <p:nvPr/>
        </p:nvSpPr>
        <p:spPr>
          <a:xfrm>
            <a:off x="539640" y="1773360"/>
            <a:ext cx="5904000" cy="49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Розовый цв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Нежный тонкий аромат розы действует гармонизирующе: успокаивает нервную систему, снимает нервное напряжение и в то же время поднимает тонус, улучшает настро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Жасм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Питает и укрепляет волосы, придавая им ощущение шелковистости и приятного аромата цветов жасмина. Питает волосы, помогая им быть здоровыми по всей длине и великолепно пахнущи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Активный компонент -  Цветочная вода жасми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Как и эфирное масло Жасмина — прекрасно воздействует на кожу головы, эффективно действует на поврежденные, ослабленные или пересушенные волосы увлажняя и тонизируя и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Шампунь   разработан  для увлажнения и укрепления Ваших вол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«</a:t>
            </a:r>
            <a:r>
              <a:rPr b="1" lang="en-US" sz="16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» -  Дай себя соблазн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6948360" y="5589720"/>
            <a:ext cx="1791000" cy="958680"/>
          </a:xfrm>
          <a:prstGeom prst="rect">
            <a:avLst/>
          </a:prstGeom>
          <a:ln w="0">
            <a:noFill/>
          </a:ln>
        </p:spPr>
      </p:pic>
      <p:sp>
        <p:nvSpPr>
          <p:cNvPr id="74" name="Заголовок 3"/>
          <p:cNvSpPr/>
          <p:nvPr/>
        </p:nvSpPr>
        <p:spPr>
          <a:xfrm>
            <a:off x="1979640" y="549360"/>
            <a:ext cx="62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Косметическая серия «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» 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3"/>
          <p:cNvSpPr/>
          <p:nvPr/>
        </p:nvSpPr>
        <p:spPr>
          <a:xfrm>
            <a:off x="1908000" y="76500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2300"/>
                </a:solidFill>
                <a:latin typeface="Monotype Corsiva"/>
              </a:rPr>
              <a:t>создана с использованием ингредиентов, традиционных для Фран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3"/>
          <p:cNvSpPr/>
          <p:nvPr/>
        </p:nvSpPr>
        <p:spPr>
          <a:xfrm>
            <a:off x="1187280" y="1341360"/>
            <a:ext cx="446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               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Мягкая гель-пена «Ирис и лаванда», 730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Заголовок 3"/>
          <p:cNvSpPr/>
          <p:nvPr/>
        </p:nvSpPr>
        <p:spPr>
          <a:xfrm>
            <a:off x="2050920" y="1484280"/>
            <a:ext cx="2737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с эфирным маслом лаван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1"/>
          <p:cNvSpPr/>
          <p:nvPr/>
        </p:nvSpPr>
        <p:spPr>
          <a:xfrm>
            <a:off x="539640" y="1773360"/>
            <a:ext cx="5904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Ири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Аромат Ириса уравновешивает, придает ощущение гармонии, окутывает мягким глубоким покоем и настраивает на безмятежный со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Лаван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Дарит неповторимые минуты релаксации и бережно окутывает кожу заботой  и благоухающим арома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Активный компонент - Эфирное масло лаванд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Подходит для ухода за кожей любого типа, прекрасно очищает, питает и увлажняет кожу, улучшает регенерацию клеток кож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Мягкая гель-пена «Ирис и лаванда» -  приятный  способ завершить день, полный забот и стрес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«</a:t>
            </a:r>
            <a:r>
              <a:rPr b="1" lang="en-US" sz="16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» -  Дай себя соблазн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\\Entserver3.a2.bzri.ru\L&amp;L\АССОРТИМЕНТ КЛ\Le Flirt\2011-2012\Презентация Le Flirt\гель-пена_Лаванда.png"/>
          <p:cNvPicPr/>
          <p:nvPr/>
        </p:nvPicPr>
        <p:blipFill>
          <a:blip r:embed="rId3"/>
          <a:stretch/>
        </p:blipFill>
        <p:spPr>
          <a:xfrm>
            <a:off x="5724360" y="1052640"/>
            <a:ext cx="34988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6948360" y="5589720"/>
            <a:ext cx="1791000" cy="958680"/>
          </a:xfrm>
          <a:prstGeom prst="rect">
            <a:avLst/>
          </a:prstGeom>
          <a:ln w="0">
            <a:noFill/>
          </a:ln>
        </p:spPr>
      </p:pic>
      <p:sp>
        <p:nvSpPr>
          <p:cNvPr id="82" name="Заголовок 3"/>
          <p:cNvSpPr/>
          <p:nvPr/>
        </p:nvSpPr>
        <p:spPr>
          <a:xfrm>
            <a:off x="1979640" y="549360"/>
            <a:ext cx="62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Косметическая серия «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» 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3"/>
          <p:cNvSpPr/>
          <p:nvPr/>
        </p:nvSpPr>
        <p:spPr>
          <a:xfrm>
            <a:off x="1908000" y="76500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2300"/>
                </a:solidFill>
                <a:latin typeface="Monotype Corsiva"/>
              </a:rPr>
              <a:t>создана с использованием ингредиентов, традиционных для Фран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3"/>
          <p:cNvSpPr/>
          <p:nvPr/>
        </p:nvSpPr>
        <p:spPr>
          <a:xfrm>
            <a:off x="1187280" y="1341360"/>
            <a:ext cx="446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               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Мягкая гель-пена «Тимьян и душица», 730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3"/>
          <p:cNvSpPr/>
          <p:nvPr/>
        </p:nvSpPr>
        <p:spPr>
          <a:xfrm>
            <a:off x="2195640" y="1484280"/>
            <a:ext cx="2736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с эфирным маслом тимья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11"/>
          <p:cNvSpPr/>
          <p:nvPr/>
        </p:nvSpPr>
        <p:spPr>
          <a:xfrm>
            <a:off x="539640" y="1773360"/>
            <a:ext cx="59040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Тимья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Активный антисептик, обезболивающее при ревматических болях. Стимулирует кровообращение, повышает кровяное дав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Душ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Аромат душицы оказывает успокаивающее действие, устраняет неврозы и страхи, помогает победить бессонницу и способствует быстрому восстановлению с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Активный компонент -Эфирное масло тимья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В аромаваннах обладает выраженным тонизирующим действием, способствует заживлению ран, помогает справиться с целлюлитом и дряблостью кожи,  возвращает ей естественный цвет, усиливает кровообращение и вызывает ощущение теп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Мягкая гель-пена «Тимьян  и душица» -  лучший выбор для души и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«</a:t>
            </a:r>
            <a:r>
              <a:rPr b="1" lang="en-US" sz="16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» -  Дай себя соблазн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\\Entserver3.a2.bzri.ru\L&amp;L\АССОРТИМЕНТ КЛ\Le Flirt\2011-2012\Презентация Le Flirt\гель-пена_Темьян-Душица.png"/>
          <p:cNvPicPr/>
          <p:nvPr/>
        </p:nvPicPr>
        <p:blipFill>
          <a:blip r:embed="rId3"/>
          <a:stretch/>
        </p:blipFill>
        <p:spPr>
          <a:xfrm>
            <a:off x="5680080" y="1052640"/>
            <a:ext cx="346392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6948360" y="5589720"/>
            <a:ext cx="1791000" cy="95868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3"/>
          <p:cNvSpPr/>
          <p:nvPr/>
        </p:nvSpPr>
        <p:spPr>
          <a:xfrm>
            <a:off x="1979640" y="549360"/>
            <a:ext cx="62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Косметическая серия «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» 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Заголовок 3"/>
          <p:cNvSpPr/>
          <p:nvPr/>
        </p:nvSpPr>
        <p:spPr>
          <a:xfrm>
            <a:off x="1908000" y="76500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2300"/>
                </a:solidFill>
                <a:latin typeface="Monotype Corsiva"/>
              </a:rPr>
              <a:t>создана с использованием ингредиентов, традиционных для Фран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Заголовок 3"/>
          <p:cNvSpPr/>
          <p:nvPr/>
        </p:nvSpPr>
        <p:spPr>
          <a:xfrm>
            <a:off x="1187280" y="1341360"/>
            <a:ext cx="446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               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Мягкое крем-мыло «Апельсиновый мёд», 520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Заголовок 3"/>
          <p:cNvSpPr/>
          <p:nvPr/>
        </p:nvSpPr>
        <p:spPr>
          <a:xfrm>
            <a:off x="2050920" y="1484280"/>
            <a:ext cx="3241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с натуральным экстрактом мё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1"/>
          <p:cNvSpPr/>
          <p:nvPr/>
        </p:nvSpPr>
        <p:spPr>
          <a:xfrm>
            <a:off x="539640" y="1773360"/>
            <a:ext cx="5904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Апельсиновый м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Никакой другой мед по вкусу и аромату не может заменить апельсиновый мед, сохраняющий в себе благоухание цветков, с которых он был собран пчел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Активный компонент -  Экстракт ме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Один из самых древних ингредиентов, используемых в косметике для  смягчения и увлажнения кож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Мягкое крем-мыло «Апельсиновый мёд» окутывает нежным ароматом и бережно ухаживает за кож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«</a:t>
            </a:r>
            <a:r>
              <a:rPr b="1" lang="en-US" sz="16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» -  Дай себя соблазн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\\Entserver3.a2.bzri.ru\L&amp;L\АССОРТИМЕНТ КЛ\Le Flirt\2011-2012\Презентация Le Flirt\мыло-Апельсиновый_мед.png"/>
          <p:cNvPicPr/>
          <p:nvPr/>
        </p:nvPicPr>
        <p:blipFill>
          <a:blip r:embed="rId3"/>
          <a:stretch/>
        </p:blipFill>
        <p:spPr>
          <a:xfrm>
            <a:off x="6156360" y="1341360"/>
            <a:ext cx="245736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1081080" cy="447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6948360" y="5589720"/>
            <a:ext cx="1791000" cy="95868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3"/>
          <p:cNvSpPr/>
          <p:nvPr/>
        </p:nvSpPr>
        <p:spPr>
          <a:xfrm>
            <a:off x="1979640" y="549360"/>
            <a:ext cx="626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Косметическая серия «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2000" spc="-1" strike="noStrike">
                <a:solidFill>
                  <a:srgbClr val="462300"/>
                </a:solidFill>
                <a:latin typeface="Monotype Corsiva"/>
              </a:rPr>
              <a:t>» </a:t>
            </a:r>
            <a:r>
              <a:rPr b="1" lang="en-US" sz="2000" spc="-1" strike="noStrike">
                <a:solidFill>
                  <a:srgbClr val="462300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Заголовок 3"/>
          <p:cNvSpPr/>
          <p:nvPr/>
        </p:nvSpPr>
        <p:spPr>
          <a:xfrm>
            <a:off x="1908000" y="765000"/>
            <a:ext cx="626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62300"/>
                </a:solidFill>
                <a:latin typeface="Monotype Corsiva"/>
              </a:rPr>
              <a:t>создана с использованием ингредиентов, традиционных для Фран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Заголовок 3"/>
          <p:cNvSpPr/>
          <p:nvPr/>
        </p:nvSpPr>
        <p:spPr>
          <a:xfrm>
            <a:off x="1187280" y="1341360"/>
            <a:ext cx="4464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                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Мягкое крем-мыло «Черешня и миндаль», 520 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3"/>
          <p:cNvSpPr/>
          <p:nvPr/>
        </p:nvSpPr>
        <p:spPr>
          <a:xfrm>
            <a:off x="2124000" y="1484280"/>
            <a:ext cx="324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с маслом минда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1"/>
          <p:cNvSpPr/>
          <p:nvPr/>
        </p:nvSpPr>
        <p:spPr>
          <a:xfrm>
            <a:off x="539640" y="1773360"/>
            <a:ext cx="5904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Череш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Оказывает стимулирующее, общеукрепляющее действие на организм, прекрасно действует на кож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Минда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Придает коже роскошный свежий и восхитительный аром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Активный компонент -  Масло Минда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62300"/>
                </a:solidFill>
                <a:latin typeface="Monotype Corsiva"/>
              </a:rPr>
              <a:t>Богатое витаминами А и Е, широко используют в косметике, так как оно хорошо очищает, увлажняет кожу, делает ее нежной и упругой. Масло миндаля поддерживает рН-баланс кожи и незаменимо для ухода за сухой, огрубевшей  и чувствительной кож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Уступите ароматному искушению – позвольте сочной Черешне и миндалю  ухаживать за вашей кожей, даря ей упругость и нежность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«</a:t>
            </a:r>
            <a:r>
              <a:rPr b="1" lang="en-US" sz="1600" spc="-1" strike="noStrike">
                <a:solidFill>
                  <a:srgbClr val="462300"/>
                </a:solidFill>
                <a:latin typeface="Monotype Corsiva"/>
              </a:rPr>
              <a:t>Le Flirt</a:t>
            </a:r>
            <a:r>
              <a:rPr b="1" lang="ru-RU" sz="1600" spc="-1" strike="noStrike">
                <a:solidFill>
                  <a:srgbClr val="462300"/>
                </a:solidFill>
                <a:latin typeface="Monotype Corsiva"/>
              </a:rPr>
              <a:t>» -  Дай себя соблазни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\\Entserver3.a2.bzri.ru\L&amp;L\АССОРТИМЕНТ КЛ\Le Flirt\2011-2012\Презентация Le Flirt\мыло--Черешня-и-мендаль.png"/>
          <p:cNvPicPr/>
          <p:nvPr/>
        </p:nvPicPr>
        <p:blipFill>
          <a:blip r:embed="rId3"/>
          <a:stretch/>
        </p:blipFill>
        <p:spPr>
          <a:xfrm>
            <a:off x="6300720" y="1341360"/>
            <a:ext cx="239400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tovkina</dc:creator>
  <dc:description/>
  <dc:language>en-US</dc:language>
  <cp:lastModifiedBy>solovieva</cp:lastModifiedBy>
  <dcterms:modified xsi:type="dcterms:W3CDTF">2012-03-30T10:39:15Z</dcterms:modified>
  <cp:revision>244</cp:revision>
  <dc:subject/>
  <dc:title>Слайд 1</dc:title>
</cp:coreProperties>
</file>