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C00-2EB8-4297-8F5F-5F997039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56B-DEAA-42B6-B712-EEC30B9E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CAB-05B2-4DD0-89DE-1719CFC5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B56-5152-4F42-8308-3B7D3208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A31-3B20-43CB-9DF2-17FE12E6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45A-1618-4CA9-B288-AA53052D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34E-0422-47D8-90BE-E16EBB30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504-3DD4-4F57-BB2B-77C2090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5C6-906C-492A-AAB7-83A8D2F2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FF4-7B92-46BB-A41B-A235E08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E86-45A8-4DB4-AC40-BE571AF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D52-A02B-456E-9815-03FD0C7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DAB2-DF30-4071-9A83-EAE6FEF22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843280" y="1125360"/>
            <a:ext cx="3744720" cy="155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780000" y="5516640"/>
            <a:ext cx="1790640" cy="96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987640" cy="2109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000" y="4797360"/>
            <a:ext cx="475164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Линия косметических средств на основе ингредиентов, традиционных для Фра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3"/>
          <p:cNvSpPr/>
          <p:nvPr/>
        </p:nvSpPr>
        <p:spPr>
          <a:xfrm>
            <a:off x="971640" y="1341360"/>
            <a:ext cx="53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Нежный крем для рук и ногтей «Олива и розмарин», 50 м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Заголовок 3"/>
          <p:cNvSpPr/>
          <p:nvPr/>
        </p:nvSpPr>
        <p:spPr>
          <a:xfrm>
            <a:off x="2124000" y="1484280"/>
            <a:ext cx="32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эфирным маслом розма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539640" y="1773360"/>
            <a:ext cx="590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Придает коже рук ощущение комфорта и неж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Защищает руки от негативных воздействий внешней среды (жесткой воды, моющих средств и перепадов температуры).</a:t>
            </a:r>
            <a:br>
              <a:rPr sz="1600"/>
            </a:b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- Комплекс трав увлажняет кожу, насыщает полезными элементами и повышает эластичность.</a:t>
            </a:r>
            <a:br>
              <a:rPr sz="1600"/>
            </a:b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- Эфирное масло розмарина  благодаря мягкому антисептическому действию защищает кожу рук от раздражения и воспа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Нежный крем для рук и ногтей «Олива и розмарин»  дарит нежность  и молодость Вашим рук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\\Entserver3.a2.bzri.ru\L&amp;L\АССОРТИМЕНТ КЛ\Le Flirt\2011-2012\Презентация Le Flirt\крем_Олива_Размарин.png"/>
          <p:cNvPicPr/>
          <p:nvPr/>
        </p:nvPicPr>
        <p:blipFill>
          <a:blip r:embed="rId3"/>
          <a:stretch/>
        </p:blipFill>
        <p:spPr>
          <a:xfrm>
            <a:off x="5508720" y="692280"/>
            <a:ext cx="4120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Заголовок 3"/>
          <p:cNvSpPr/>
          <p:nvPr/>
        </p:nvSpPr>
        <p:spPr>
          <a:xfrm>
            <a:off x="0" y="1341360"/>
            <a:ext cx="619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Крем для потрескавшейся кожи ног «Мята и можжевельник», 50 м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3"/>
          <p:cNvSpPr/>
          <p:nvPr/>
        </p:nvSpPr>
        <p:spPr>
          <a:xfrm>
            <a:off x="1908000" y="1484280"/>
            <a:ext cx="324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эфирным маслом можжеве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39640" y="1773360"/>
            <a:ext cx="60325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Защищает от неприятного запа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Уменьшает потоот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Обладает антимикробным эффектом благодаря эфирному маслу можжеве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Смягчает, освежает и питает сухую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Способствует заживлению трещин и предотвращает образование натоптыш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Эфирное масло можжеве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хлаждает, тонизирует, и приятно освежает кожу. Усиливая микроциркуляцию крови, оказывает укрепляющее воздействие на сосуды кож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Крем для потрескавшейся кожи ног «Мята и можжевельник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» -  верный помощник для снятия усталости  ног, смягчения огрубевшей кожи и профилактики трещ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\Entserver3.a2.bzri.ru\L&amp;L\АССОРТИМЕНТ КЛ\Le Flirt\2011-2012\Презентация Le Flirt\крем_Мята_можжевельник.png"/>
          <p:cNvPicPr/>
          <p:nvPr/>
        </p:nvPicPr>
        <p:blipFill>
          <a:blip r:embed="rId3"/>
          <a:stretch/>
        </p:blipFill>
        <p:spPr>
          <a:xfrm>
            <a:off x="5508720" y="765000"/>
            <a:ext cx="423540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3"/>
          <p:cNvSpPr/>
          <p:nvPr/>
        </p:nvSpPr>
        <p:spPr>
          <a:xfrm>
            <a:off x="169236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оловок 3"/>
          <p:cNvSpPr/>
          <p:nvPr/>
        </p:nvSpPr>
        <p:spPr>
          <a:xfrm>
            <a:off x="169236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68598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6948360" y="5661000"/>
            <a:ext cx="1791000" cy="960480"/>
          </a:xfrm>
          <a:prstGeom prst="rect">
            <a:avLst/>
          </a:prstGeom>
          <a:ln w="0">
            <a:noFill/>
          </a:ln>
        </p:spPr>
      </p:pic>
      <p:sp>
        <p:nvSpPr>
          <p:cNvPr id="127" name="Заголовок 3"/>
          <p:cNvSpPr/>
          <p:nvPr/>
        </p:nvSpPr>
        <p:spPr>
          <a:xfrm>
            <a:off x="169236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3"/>
          <p:cNvSpPr/>
          <p:nvPr/>
        </p:nvSpPr>
        <p:spPr>
          <a:xfrm>
            <a:off x="169236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Логистическ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125360"/>
          <a:ext cx="8280360" cy="4654800"/>
        </p:xfrm>
        <a:graphic>
          <a:graphicData uri="http://schemas.openxmlformats.org/drawingml/2006/table">
            <a:tbl>
              <a:tblPr/>
              <a:tblGrid>
                <a:gridCol w="766800"/>
                <a:gridCol w="3409920"/>
                <a:gridCol w="936720"/>
                <a:gridCol w="1295280"/>
                <a:gridCol w="1079640"/>
                <a:gridCol w="792000"/>
              </a:tblGrid>
              <a:tr h="1377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Артику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Наиме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Объем / вес единицы продук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Штрих-к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Количество в гофрокоробе, ш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Срок годности, мес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3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. Мягкий шампу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 Мелисса и вербен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3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4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. Мягкий шампу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Розовый цвет и жасмин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3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5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3. Мягкая гель-пе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Ирис и лаванд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3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6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. Мягкая гель-п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Тимьян и душиц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3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37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. Мягкое крем-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Апельсиновый ме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2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38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6. Мягкое крем-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Черешня и миндаль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2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9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. Нежный крем для ру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и ногтей "Олива и розмарин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0 м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0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8. Крем для потрескавшей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кожи ног "Мята и можжевельник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0 м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7" descr="\\Entserver3.a2.bzri.ru\L&amp;L\АССОРТИМЕНТ КЛ\Le Flirt\2011-2012\Презентация Le Flirt\мелисса.png"/>
          <p:cNvPicPr/>
          <p:nvPr/>
        </p:nvPicPr>
        <p:blipFill>
          <a:blip r:embed="rId3"/>
          <a:stretch/>
        </p:blipFill>
        <p:spPr>
          <a:xfrm>
            <a:off x="3780000" y="1844640"/>
            <a:ext cx="720720" cy="459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3780000" y="2298600"/>
            <a:ext cx="720720" cy="50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\\Entserver3.a2.bzri.ru\L&amp;L\АССОРТИМЕНТ КЛ\Le Flirt\2011-2012\Презентация Le Flirt\лаванда.png"/>
          <p:cNvPicPr/>
          <p:nvPr/>
        </p:nvPicPr>
        <p:blipFill>
          <a:blip r:embed="rId5"/>
          <a:stretch/>
        </p:blipFill>
        <p:spPr>
          <a:xfrm>
            <a:off x="3780000" y="2801880"/>
            <a:ext cx="771480" cy="54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\\Entserver3.a2.bzri.ru\L&amp;L\АССОРТИМЕНТ КЛ\Le Flirt\2011-2012\Презентация Le Flirt\тимьян.png"/>
          <p:cNvPicPr/>
          <p:nvPr/>
        </p:nvPicPr>
        <p:blipFill>
          <a:blip r:embed="rId6"/>
          <a:stretch/>
        </p:blipFill>
        <p:spPr>
          <a:xfrm>
            <a:off x="3780000" y="3284640"/>
            <a:ext cx="720720" cy="50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\\Entserver3.a2.bzri.ru\L&amp;L\АССОРТИМЕНТ КЛ\Le Flirt\2011-2012\Презентация Le Flirt\мед.png"/>
          <p:cNvPicPr/>
          <p:nvPr/>
        </p:nvPicPr>
        <p:blipFill>
          <a:blip r:embed="rId7"/>
          <a:stretch/>
        </p:blipFill>
        <p:spPr>
          <a:xfrm>
            <a:off x="3851280" y="3789360"/>
            <a:ext cx="660240" cy="519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\\Entserver3.a2.bzri.ru\L&amp;L\АССОРТИМЕНТ КЛ\Le Flirt\2011-2012\Презентация Le Flirt\черешня.png"/>
          <p:cNvPicPr/>
          <p:nvPr/>
        </p:nvPicPr>
        <p:blipFill>
          <a:blip r:embed="rId8"/>
          <a:stretch/>
        </p:blipFill>
        <p:spPr>
          <a:xfrm>
            <a:off x="3851280" y="4292640"/>
            <a:ext cx="655560" cy="50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\\Entserver3.a2.bzri.ru\L&amp;L\АССОРТИМЕНТ КЛ\Le Flirt\2011-2012\Презентация Le Flirt\размарин.png"/>
          <p:cNvPicPr/>
          <p:nvPr/>
        </p:nvPicPr>
        <p:blipFill>
          <a:blip r:embed="rId9"/>
          <a:stretch/>
        </p:blipFill>
        <p:spPr>
          <a:xfrm>
            <a:off x="3851280" y="4797360"/>
            <a:ext cx="720720" cy="50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\\Entserver3.a2.bzri.ru\L&amp;L\АССОРТИМЕНТ КЛ\Le Flirt\2011-2012\Презентация Le Flirt\можжевельник.png"/>
          <p:cNvPicPr/>
          <p:nvPr/>
        </p:nvPicPr>
        <p:blipFill>
          <a:blip r:embed="rId10"/>
          <a:stretch/>
        </p:blipFill>
        <p:spPr>
          <a:xfrm>
            <a:off x="3851280" y="5300640"/>
            <a:ext cx="692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063600" cy="127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3780000" y="5445000"/>
            <a:ext cx="1790640" cy="95904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3"/>
          <p:cNvSpPr/>
          <p:nvPr/>
        </p:nvSpPr>
        <p:spPr>
          <a:xfrm>
            <a:off x="1692360" y="2276640"/>
            <a:ext cx="5759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Заголовок 3"/>
          <p:cNvSpPr/>
          <p:nvPr/>
        </p:nvSpPr>
        <p:spPr>
          <a:xfrm>
            <a:off x="169236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Заголовок 3"/>
          <p:cNvSpPr/>
          <p:nvPr/>
        </p:nvSpPr>
        <p:spPr>
          <a:xfrm>
            <a:off x="1835280" y="458136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Хороших продаж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3276720" y="2852640"/>
            <a:ext cx="26636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103400" cy="44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948360" y="5661000"/>
            <a:ext cx="1791000" cy="960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00160" y="428760"/>
            <a:ext cx="62438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Monotype Corsiva"/>
              </a:rPr>
              <a:t>Франция – многогранная, интригующая и неповторимая…</a:t>
            </a:r>
            <a:r>
              <a:rPr b="1" lang="en-US" sz="1800" spc="-1" strike="noStrike">
                <a:solidFill>
                  <a:srgbClr val="4623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462300"/>
                </a:solidFill>
                <a:latin typeface="Monotype Corsiva"/>
              </a:rPr>
              <a:t> и вдохновляющая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3"/>
          <p:cNvSpPr/>
          <p:nvPr/>
        </p:nvSpPr>
        <p:spPr>
          <a:xfrm>
            <a:off x="357120" y="1000080"/>
            <a:ext cx="8286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            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Франция — это страна, которая олицетворяет красоту и роскош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изысканный вкус и историческое наследие многих эпох, загадочное обая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тарины и молодость современных покол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Франция всегда считалась царством косметики, откуда 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распространилась в дальнейшем по всему ми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Благоприятный климат, позволяющий выращивать множ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ценных растений, которые используются в производстве косметики,  обуслов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оздание здесь сети научно-исследовательских институтов и фир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парфюмерно-косметической отрас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«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французское кокетство  - царство красоты. С глубокой древности французы использовали  дары природы для придания красоты и облегчения недугов. В основу новой косметической серии положены рецепты, в состав которых входят растения, традиционно произрастающие во Фран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Все ингредиенты   новой косметической серии «</a:t>
            </a:r>
            <a:r>
              <a:rPr b="0" lang="en-US" sz="1600" spc="-1" strike="noStrike">
                <a:solidFill>
                  <a:srgbClr val="462300"/>
                </a:solidFill>
                <a:latin typeface="Monotype Corsiva"/>
              </a:rPr>
              <a:t>LeFlirt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»   собраны согласно традициям, которых придерживались  французские знахари и лекари  сотни лет наз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В серию входят: 2 шампуня, 2 пены для ванн, 2 жидких крем-мыла, 2 кре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ерия привлекает  своим ароматом и цветом, удобна и проста  в использовании, а главное — исполняет свое основное предназначение — улучшает  внешность, придает  свежесть и красоту телу и воло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chelreal.ru/files/images/parij.jpg"/>
          <p:cNvPicPr/>
          <p:nvPr/>
        </p:nvPicPr>
        <p:blipFill>
          <a:blip r:embed="rId3"/>
          <a:stretch/>
        </p:blipFill>
        <p:spPr>
          <a:xfrm>
            <a:off x="6786720" y="785880"/>
            <a:ext cx="1709640" cy="22795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1"/>
          <p:cNvSpPr/>
          <p:nvPr/>
        </p:nvSpPr>
        <p:spPr>
          <a:xfrm>
            <a:off x="1332000" y="5950080"/>
            <a:ext cx="59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Прикоснитесь к Франции с новой косметической серией 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642960" y="1143000"/>
            <a:ext cx="77868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Преимущества 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ТМ « 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и компании - произво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 Завод-производитель  «Русская Косметика »  ( ранее «Красная линия» ) был образован в 2001 году. На сегодняшний день продукция компании представлена по всей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«Русская Косметика» представляет на рынок более 1 000 наименований косметики и бытовой химии, разработанных в собственной технологической лабора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  Продукция производится строго по международным стандартам качества и тщательно тестиру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  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 Производство косметики в строгом соответствии с гигиеническими требованиями Минздрава РФ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Жесткие требования к качеству сыр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 Вся продукция сертифициров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3"/>
          <p:cNvSpPr/>
          <p:nvPr/>
        </p:nvSpPr>
        <p:spPr>
          <a:xfrm>
            <a:off x="1187280" y="1341360"/>
            <a:ext cx="583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ий шампунь  «Мелисса и вербена», 73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3"/>
          <p:cNvSpPr/>
          <p:nvPr/>
        </p:nvSpPr>
        <p:spPr>
          <a:xfrm>
            <a:off x="2124000" y="1484280"/>
            <a:ext cx="27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цветочной водой мели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539640" y="1773360"/>
            <a:ext cx="590400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елисса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казывает противовоспалительное действие на кожу головы, питает и регенерирует поврежденные волосы любого ти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Верб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Аромат Вербены легко избавляет от накопившейся усталости, раздражительности и апа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Цветочная вода мелис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бладает очищающим, антиоксидантным и успокаивающим свойствами, нормализует функции сальных желез и липидный обм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Шампунь  разработан  для  смягчения и питания Ваших в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5703840" y="1052640"/>
            <a:ext cx="3440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3"/>
          <a:stretch/>
        </p:blipFill>
        <p:spPr>
          <a:xfrm>
            <a:off x="5632560" y="1052640"/>
            <a:ext cx="3511440" cy="496872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3"/>
          <p:cNvSpPr/>
          <p:nvPr/>
        </p:nvSpPr>
        <p:spPr>
          <a:xfrm>
            <a:off x="900000" y="1341360"/>
            <a:ext cx="583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ий шампунь «Розовый цвет и жасмин», 73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3"/>
          <p:cNvSpPr/>
          <p:nvPr/>
        </p:nvSpPr>
        <p:spPr>
          <a:xfrm>
            <a:off x="2195640" y="1484280"/>
            <a:ext cx="27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цветочной водой жас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539640" y="1773360"/>
            <a:ext cx="590400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Розовый цв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Нежный тонкий аромат розы действует гармонизирующе: успокаивает нервную систему, снимает нервное напряжение и в то же время поднимает тонус, улучшает настр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Жасм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Питает и укрепляет волосы, придавая им ощущение шелковистости и приятного аромата цветов жасмина. Питает волосы, помогая им быть здоровыми по всей длине и великолепно пахнущ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 Цветочная вода жасм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Как и эфирное масло Жасмина — прекрасно воздействует на кожу головы, эффективно действует на поврежденные, ослабленные или пересушенные волосы увлажняя и тонизируя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Шампунь   разработан  для увлажнения и укрепления Ваших в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3"/>
          <p:cNvSpPr/>
          <p:nvPr/>
        </p:nvSpPr>
        <p:spPr>
          <a:xfrm>
            <a:off x="1187280" y="1341360"/>
            <a:ext cx="446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ая гель-пена «Ирис и лаванда», 73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3"/>
          <p:cNvSpPr/>
          <p:nvPr/>
        </p:nvSpPr>
        <p:spPr>
          <a:xfrm>
            <a:off x="2050920" y="1484280"/>
            <a:ext cx="273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эфирным маслом лаван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"/>
          <p:cNvSpPr/>
          <p:nvPr/>
        </p:nvSpPr>
        <p:spPr>
          <a:xfrm>
            <a:off x="539640" y="1773360"/>
            <a:ext cx="590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Ири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Аромат Ириса уравновешивает, придает ощущение гармонии, окутывает мягким глубоким покоем и настраивает на безмятежный с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Лава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Дарит неповторимые минуты релаксации и бережно окутывает кожу заботой  и благоухающим арома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Эфирное масло лаван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Подходит для ухода за кожей любого типа, прекрасно очищает, питает и увлажняет кожу, улучшает регенерацию клеток кож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ая гель-пена «Ирис и лаванда» -  приятный  способ завершить день, полный забот и стре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\\Entserver3.a2.bzri.ru\L&amp;L\АССОРТИМЕНТ КЛ\Le Flirt\2011-2012\Презентация Le Flirt\гель-пена_Лаванда.png"/>
          <p:cNvPicPr/>
          <p:nvPr/>
        </p:nvPicPr>
        <p:blipFill>
          <a:blip r:embed="rId3"/>
          <a:stretch/>
        </p:blipFill>
        <p:spPr>
          <a:xfrm>
            <a:off x="5724360" y="1052640"/>
            <a:ext cx="34988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3"/>
          <p:cNvSpPr/>
          <p:nvPr/>
        </p:nvSpPr>
        <p:spPr>
          <a:xfrm>
            <a:off x="1187280" y="1341360"/>
            <a:ext cx="446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ая гель-пена «Тимьян и душица», 73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3"/>
          <p:cNvSpPr/>
          <p:nvPr/>
        </p:nvSpPr>
        <p:spPr>
          <a:xfrm>
            <a:off x="2195640" y="1484280"/>
            <a:ext cx="27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эфирным маслом тимь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539640" y="1773360"/>
            <a:ext cx="5904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Тимья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Активный антисептик, обезболивающее при ревматических болях. Стимулирует кровообращение, повышает кровяное д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Душ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Аромат душицы оказывает успокаивающее действие, устраняет неврозы и страхи, помогает победить бессонницу и способствует быстрому восстановлению 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Эфирное масло тимья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В аромаваннах обладает выраженным тонизирующим действием, способствует заживлению ран, помогает справиться с целлюлитом и дряблостью кожи,  возвращает ей естественный цвет, усиливает кровообращение и вызывает ощущение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ая гель-пена «Тимьян  и душица» -  лучший выбор для души и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\\Entserver3.a2.bzri.ru\L&amp;L\АССОРТИМЕНТ КЛ\Le Flirt\2011-2012\Презентация Le Flirt\гель-пена_Темьян-Душица.png"/>
          <p:cNvPicPr/>
          <p:nvPr/>
        </p:nvPicPr>
        <p:blipFill>
          <a:blip r:embed="rId3"/>
          <a:stretch/>
        </p:blipFill>
        <p:spPr>
          <a:xfrm>
            <a:off x="5680080" y="1052640"/>
            <a:ext cx="34639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3"/>
          <p:cNvSpPr/>
          <p:nvPr/>
        </p:nvSpPr>
        <p:spPr>
          <a:xfrm>
            <a:off x="1187280" y="1341360"/>
            <a:ext cx="446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ое крем-мыло «Апельсиновый мёд», 52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Заголовок 3"/>
          <p:cNvSpPr/>
          <p:nvPr/>
        </p:nvSpPr>
        <p:spPr>
          <a:xfrm>
            <a:off x="2050920" y="1484280"/>
            <a:ext cx="3241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натуральным экстрактом мё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539640" y="1773360"/>
            <a:ext cx="590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пельсиновый м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Никакой другой мед по вкусу и аромату не может заменить апельсиновый мед, сохраняющий в себе благоухание цветков, с которых он был собран пче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 Экстракт м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дин из самых древних ингредиентов, используемых в косметике для  смягчения и увлажнения кож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ое крем-мыло «Апельсиновый мёд» окутывает нежным ароматом и бережно ухаживает за ко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\\Entserver3.a2.bzri.ru\L&amp;L\АССОРТИМЕНТ КЛ\Le Flirt\2011-2012\Презентация Le Flirt\мыло-Апельсиновый_мед.png"/>
          <p:cNvPicPr/>
          <p:nvPr/>
        </p:nvPicPr>
        <p:blipFill>
          <a:blip r:embed="rId3"/>
          <a:stretch/>
        </p:blipFill>
        <p:spPr>
          <a:xfrm>
            <a:off x="6156360" y="1341360"/>
            <a:ext cx="245736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3"/>
          <p:cNvSpPr/>
          <p:nvPr/>
        </p:nvSpPr>
        <p:spPr>
          <a:xfrm>
            <a:off x="1187280" y="1341360"/>
            <a:ext cx="446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ое крем-мыло «Черешня и миндаль», 52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3"/>
          <p:cNvSpPr/>
          <p:nvPr/>
        </p:nvSpPr>
        <p:spPr>
          <a:xfrm>
            <a:off x="2124000" y="1484280"/>
            <a:ext cx="32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маслом минда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539640" y="1773360"/>
            <a:ext cx="5904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Череш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казывает стимулирующее, общеукрепляющее действие на организм, прекрасно действует на кож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ин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Придает коже роскошный свежий и восхитительный аром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 Масло Минда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Богатое витаминами А и Е, широко используют в косметике, так как оно хорошо очищает, увлажняет кожу, делает ее нежной и упругой. Масло миндаля поддерживает рН-баланс кожи и незаменимо для ухода за сухой, огрубевшей  и чувствительной ко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Уступите ароматному искушению – позвольте сочной Черешне и миндалю  ухаживать за вашей кожей, даря ей упругость и нежность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\\Entserver3.a2.bzri.ru\L&amp;L\АССОРТИМЕНТ КЛ\Le Flirt\2011-2012\Презентация Le Flirt\мыло--Черешня-и-мендаль.png"/>
          <p:cNvPicPr/>
          <p:nvPr/>
        </p:nvPicPr>
        <p:blipFill>
          <a:blip r:embed="rId3"/>
          <a:stretch/>
        </p:blipFill>
        <p:spPr>
          <a:xfrm>
            <a:off x="6300720" y="1341360"/>
            <a:ext cx="23940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tovkina</dc:creator>
  <dc:description/>
  <dc:language>en-US</dc:language>
  <cp:lastModifiedBy>solovieva</cp:lastModifiedBy>
  <dcterms:modified xsi:type="dcterms:W3CDTF">2012-03-30T10:39:15Z</dcterms:modified>
  <cp:revision>244</cp:revision>
  <dc:subject/>
  <dc:title>Слайд 1</dc:title>
</cp:coreProperties>
</file>