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jpeg" ContentType="image/jpeg"/>
  <Override PartName="/ppt/media/image20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9.jpeg" ContentType="image/jpeg"/>
  <Override PartName="/ppt/media/image42.jpeg" ContentType="image/jpeg"/>
  <Override PartName="/ppt/media/image2.png" ContentType="image/png"/>
  <Override PartName="/ppt/media/image32.png" ContentType="image/png"/>
  <Override PartName="/ppt/media/image30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3.png" ContentType="image/png"/>
  <Override PartName="/ppt/media/image34.jpeg" ContentType="image/jpeg"/>
  <Override PartName="/ppt/media/image37.png" ContentType="image/png"/>
  <Override PartName="/ppt/media/image35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40.png" ContentType="image/png"/>
  <Override PartName="/ppt/media/image36.jpeg" ContentType="image/jpeg"/>
  <Override PartName="/ppt/media/image41.png" ContentType="image/png"/>
  <Override PartName="/ppt/media/image39.png" ContentType="image/png"/>
  <Override PartName="/ppt/media/image43.jpeg" ContentType="image/jpeg"/>
  <Override PartName="/ppt/media/image44.png" ContentType="image/png"/>
  <Override PartName="/ppt/media/image45.jpeg" ContentType="image/jpeg"/>
  <Override PartName="/ppt/media/image7.jpeg" ContentType="image/jpeg"/>
  <Override PartName="/ppt/media/image28.png" ContentType="image/png"/>
  <Override PartName="/ppt/media/image38.jpeg" ContentType="image/jpeg"/>
  <Override PartName="/ppt/media/image5.jpeg" ContentType="image/jpeg"/>
  <Override PartName="/ppt/media/image26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9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22D72-4C11-41AC-99A2-3C037322FCC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0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49E2E-E007-42A6-81A4-A0AC3D174EC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D01F8-6195-428D-9B4A-ADC0C43ED88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f0"/>
                </a:solidFill>
                <a:latin typeface="Calibri"/>
              </a:rPr>
              <a:t>SMARTMEDIA</a:t>
            </a:r>
            <a:r>
              <a:rPr b="1" lang="ru-RU" sz="1200" spc="-1" strike="noStrike">
                <a:solidFill>
                  <a:srgbClr val="00b0f0"/>
                </a:solidFill>
                <a:latin typeface="Calibri"/>
              </a:rPr>
              <a:t>.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Здоровь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6FF62-695C-4F89-AA2D-ED530CC2F37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D97C1-FFC6-4B5F-8E52-28FB6BBB29C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798A7-585A-4F5D-A80E-0543129710E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67402-F50B-4E04-9E65-D16C3119017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03DF-0B37-4EAB-AE15-F27875018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C4A2-14A1-4231-BFAE-C05D68F7A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3CD9-8A40-4F27-84B1-9BF0AE89A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E3BA-9667-41CC-818F-0C36B52CF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BA4A-C7C3-4DD3-BD22-CF6386675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91E2-942D-4B9D-BE16-A28DC21E9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0C31-BFE3-4B13-B596-77F613923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CF84-FBC2-49B5-96AC-81E374D97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820F-5BF2-47CB-A965-2802F424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A833-EDDF-43E7-8DA1-B144A865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5D3D-4074-4118-8793-918CB5B3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E56E-B743-495A-89BA-BAFA53A9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99546-389E-432F-9979-47FB02C1E3D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CE788-47E7-4737-A0CB-A365AF81DB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3.jpe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hyperlink" Target="http://vkontakte.ru/club20015029" TargetMode="External"/><Relationship Id="rId6" Type="http://schemas.openxmlformats.org/officeDocument/2006/relationships/hyperlink" Target="http://vkontakte.ru/club20015029" TargetMode="External"/><Relationship Id="rId7" Type="http://schemas.openxmlformats.org/officeDocument/2006/relationships/hyperlink" Target="http://vkontakte.ru/club20015029" TargetMode="External"/><Relationship Id="rId8" Type="http://schemas.openxmlformats.org/officeDocument/2006/relationships/hyperlink" Target="http://vkontakte.ru/club20015029" TargetMode="External"/><Relationship Id="rId9" Type="http://schemas.openxmlformats.org/officeDocument/2006/relationships/hyperlink" Target="http://vkontakte.ru/club20015029" TargetMode="External"/><Relationship Id="rId10" Type="http://schemas.openxmlformats.org/officeDocument/2006/relationships/image" Target="../media/image20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12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714240" y="652320"/>
            <a:ext cx="2527560" cy="9907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7"/>
          <p:cNvSpPr/>
          <p:nvPr/>
        </p:nvSpPr>
        <p:spPr>
          <a:xfrm>
            <a:off x="541440" y="4422600"/>
            <a:ext cx="367344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428760" y="2357280"/>
            <a:ext cx="71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76092"/>
                </a:solidFill>
                <a:uFillTx/>
                <a:latin typeface="Calibri"/>
              </a:rPr>
              <a:t>SMM. </a:t>
            </a:r>
            <a:r>
              <a:rPr b="1" lang="ru-RU" sz="3600" spc="-1" strike="noStrike" u="sng">
                <a:solidFill>
                  <a:srgbClr val="376092"/>
                </a:solidFill>
                <a:uFillTx/>
                <a:latin typeface="Calibri"/>
              </a:rPr>
              <a:t>Портфолио</a:t>
            </a:r>
            <a:r>
              <a:rPr b="1" lang="en-US" sz="3600" spc="-1" strike="noStrike" u="sng">
                <a:solidFill>
                  <a:srgbClr val="376092"/>
                </a:solidFill>
                <a:uFillTx/>
                <a:latin typeface="Calibri"/>
              </a:rPr>
              <a:t> </a:t>
            </a:r>
            <a:r>
              <a:rPr b="1" lang="ru-RU" sz="3600" spc="-1" strike="noStrike" u="sng">
                <a:solidFill>
                  <a:srgbClr val="376092"/>
                </a:solidFill>
                <a:uFillTx/>
                <a:latin typeface="Calibri"/>
              </a:rPr>
              <a:t>проек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Заголовок 3"/>
          <p:cNvSpPr/>
          <p:nvPr/>
        </p:nvSpPr>
        <p:spPr>
          <a:xfrm>
            <a:off x="557280" y="115920"/>
            <a:ext cx="822960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Заголовок 3"/>
          <p:cNvSpPr/>
          <p:nvPr/>
        </p:nvSpPr>
        <p:spPr>
          <a:xfrm>
            <a:off x="714240" y="3036960"/>
            <a:ext cx="14288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61,2 мл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56760" y="857160"/>
            <a:ext cx="60008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сновные задач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ссказать о Шоу широкой аудитории поклонников Майкла Джексо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высить интерес к шоу за счет активностей, проводимых в социальных сетя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ивлечь зрителей на шоу в Кроку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еш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оздание групп в соц.сетя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Широкое анонсирование в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Vkontakte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: брендирование топ-групп и фан-сообществ. Регулярное обновление интересного контента: каверы, факты из жизни. Проведение конкурсов: фотоконкурсы и пародии с ценными призами от организатор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движение через «лидеров мнений» и популярных блогеров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езульта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смотры видео-контента: 100 0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овлеченность: 30 000 пользователе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иняли участие в конкурсах: 550 челове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 380 билетов куплен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9"/>
          <p:cNvSpPr/>
          <p:nvPr/>
        </p:nvSpPr>
        <p:spPr>
          <a:xfrm>
            <a:off x="6500880" y="6114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C83D6-3764-4EA6-A7D5-582BFC8222FD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1" descr="C:\Users\mkoshelenko.SMART-MEDIA\Desktop\Smm\Лого соцсетей\ipad_120_vkontakte.jpg"/>
          <p:cNvPicPr/>
          <p:nvPr/>
        </p:nvPicPr>
        <p:blipFill>
          <a:blip r:embed="rId1"/>
          <a:stretch/>
        </p:blipFill>
        <p:spPr>
          <a:xfrm>
            <a:off x="285840" y="214200"/>
            <a:ext cx="857160" cy="86688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18"/>
          <p:cNvSpPr/>
          <p:nvPr/>
        </p:nvSpPr>
        <p:spPr>
          <a:xfrm>
            <a:off x="1357200" y="214200"/>
            <a:ext cx="72154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Продвижение мероприят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M. Jackson</a:t>
            </a: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 «</a:t>
            </a: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The Ultimate</a:t>
            </a: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://vkontakte.ru/mjshow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C:\Users\user\Desktop\картинки\джексон.png"/>
          <p:cNvPicPr/>
          <p:nvPr/>
        </p:nvPicPr>
        <p:blipFill>
          <a:blip r:embed="rId2"/>
          <a:stretch/>
        </p:blipFill>
        <p:spPr>
          <a:xfrm>
            <a:off x="5556240" y="928800"/>
            <a:ext cx="358776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5"/>
          <p:cNvSpPr/>
          <p:nvPr/>
        </p:nvSpPr>
        <p:spPr>
          <a:xfrm>
            <a:off x="785880" y="357120"/>
            <a:ext cx="714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Продвижение в форумах и блогах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On Cli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C:\Users\mkoshelenko.SMART-MEDIA\Desktop\Smm\Презентации SMM\Картинки\link-exchange-forums-optimizeguyz.jpg"/>
          <p:cNvPicPr/>
          <p:nvPr/>
        </p:nvPicPr>
        <p:blipFill>
          <a:blip r:embed="rId1"/>
          <a:stretch/>
        </p:blipFill>
        <p:spPr>
          <a:xfrm>
            <a:off x="214200" y="214200"/>
            <a:ext cx="1258920" cy="1571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C:\Users\mkoshelenko.SMART-MEDIA\Desktop\Smm\Презентации SMM\Лого клиентов\онклиник.jpg"/>
          <p:cNvPicPr/>
          <p:nvPr/>
        </p:nvPicPr>
        <p:blipFill>
          <a:blip r:embed="rId2"/>
          <a:stretch/>
        </p:blipFill>
        <p:spPr>
          <a:xfrm>
            <a:off x="6858000" y="785880"/>
            <a:ext cx="2048040" cy="460440"/>
          </a:xfrm>
          <a:prstGeom prst="rect">
            <a:avLst/>
          </a:prstGeom>
          <a:ln w="0">
            <a:noFill/>
          </a:ln>
        </p:spPr>
      </p:pic>
      <p:sp>
        <p:nvSpPr>
          <p:cNvPr id="125" name="TextBox 11"/>
          <p:cNvSpPr/>
          <p:nvPr/>
        </p:nvSpPr>
        <p:spPr>
          <a:xfrm>
            <a:off x="214200" y="1844640"/>
            <a:ext cx="664380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сновные задач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величение количества записей на прием и общего числа посетителей сети клини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ивелирование негатива. Управление репутацией: формирование лояльного отношения представителей целевых групп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истанцировать от конкурентов с похожим названи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еш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ониторинг информационного интернет пространства и выявление «проблемных» ресурсов, а также локации качественной Ц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змещение положительных отзывов на форумах и опровергающих постов в популярных блога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езультат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олее 90% всех отзывов о клинике носит положительный или нейтральный характ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C:\Users\flash\Pictures\2.jpg"/>
          <p:cNvPicPr/>
          <p:nvPr/>
        </p:nvPicPr>
        <p:blipFill>
          <a:blip r:embed="rId3"/>
          <a:stretch/>
        </p:blipFill>
        <p:spPr>
          <a:xfrm>
            <a:off x="6929280" y="2071800"/>
            <a:ext cx="18608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" descr="C:\Users\mkoshelenko.SMART-MEDIA\Desktop\Smm\Презентации SMM\Лого клиентов\1251299941_oscillococcinum.jpg"/>
          <p:cNvPicPr/>
          <p:nvPr/>
        </p:nvPicPr>
        <p:blipFill>
          <a:blip r:embed="rId1"/>
          <a:stretch/>
        </p:blipFill>
        <p:spPr>
          <a:xfrm>
            <a:off x="5280120" y="2143080"/>
            <a:ext cx="3863880" cy="3429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C:\Users\mkoshelenko.SMART-MEDIA\Desktop\Smm\Презентации SMM\Картинки\link-exchange-forums-optimizeguyz.jpg"/>
          <p:cNvPicPr/>
          <p:nvPr/>
        </p:nvPicPr>
        <p:blipFill>
          <a:blip r:embed="rId2"/>
          <a:stretch/>
        </p:blipFill>
        <p:spPr>
          <a:xfrm>
            <a:off x="214200" y="214200"/>
            <a:ext cx="1258920" cy="1571760"/>
          </a:xfrm>
          <a:prstGeom prst="rect">
            <a:avLst/>
          </a:prstGeom>
          <a:ln w="0">
            <a:noFill/>
          </a:ln>
        </p:spPr>
      </p:pic>
      <p:sp>
        <p:nvSpPr>
          <p:cNvPr id="129" name="TextBox 5"/>
          <p:cNvSpPr/>
          <p:nvPr/>
        </p:nvSpPr>
        <p:spPr>
          <a:xfrm>
            <a:off x="785880" y="357120"/>
            <a:ext cx="714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Продвижение в форумах и блогах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Оциллококцину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1"/>
          <p:cNvSpPr/>
          <p:nvPr/>
        </p:nvSpPr>
        <p:spPr>
          <a:xfrm>
            <a:off x="357120" y="1571760"/>
            <a:ext cx="5643720" cy="46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сновные задач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пределение общего отношения целевой аудитории к препарату, выявления каналов распространения негативных отзыв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ивелирование негатива (70/30, где 70% - негативные отзывы, 30% - положительные или нейтральные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ормирование общего положительного фона вокруг препарата (бренд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еш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змещение положительных отзывов на форумах и постов в популярных блогах, с последующим выведением в топ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писание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 –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а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перативный мониторинг информации, так или иначе касающейся препарата, в сети Интерне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езультат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остижение 90% от всех отзывов о препарате в положительном или нейтральном ключ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ост упоминаемости препарата в сети Интерне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C:\Users\mkoshelenko.SMART-MEDIA\Desktop\Smm\Презентации SMM\Лого клиентов\boiron-transparent-logo.png"/>
          <p:cNvPicPr/>
          <p:nvPr/>
        </p:nvPicPr>
        <p:blipFill>
          <a:blip r:embed="rId3"/>
          <a:stretch/>
        </p:blipFill>
        <p:spPr>
          <a:xfrm>
            <a:off x="6715080" y="428760"/>
            <a:ext cx="219096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5"/>
          <p:cNvSpPr/>
          <p:nvPr/>
        </p:nvSpPr>
        <p:spPr>
          <a:xfrm>
            <a:off x="785880" y="357120"/>
            <a:ext cx="714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Вирусное виде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Нижфарм (</a:t>
            </a: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STADA CIS)</a:t>
            </a: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, Гексик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http://im6-tub-ru.yandex.net/i?id=409979042-11-72"/>
          <p:cNvPicPr/>
          <p:nvPr/>
        </p:nvPicPr>
        <p:blipFill>
          <a:blip r:embed="rId1"/>
          <a:stretch/>
        </p:blipFill>
        <p:spPr>
          <a:xfrm>
            <a:off x="357120" y="357120"/>
            <a:ext cx="1428840" cy="981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C:\Users\user\Desktop\картинки\гексикон3.png"/>
          <p:cNvPicPr/>
          <p:nvPr/>
        </p:nvPicPr>
        <p:blipFill>
          <a:blip r:embed="rId2"/>
          <a:stretch/>
        </p:blipFill>
        <p:spPr>
          <a:xfrm>
            <a:off x="6429240" y="4579920"/>
            <a:ext cx="2714760" cy="15638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C:\Users\user\Desktop\картинки\Гексикон2.png"/>
          <p:cNvPicPr/>
          <p:nvPr/>
        </p:nvPicPr>
        <p:blipFill>
          <a:blip r:embed="rId3"/>
          <a:stretch/>
        </p:blipFill>
        <p:spPr>
          <a:xfrm>
            <a:off x="6429240" y="3178080"/>
            <a:ext cx="2714760" cy="1393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C:\Users\user\Desktop\картинки\Гексикон.png"/>
          <p:cNvPicPr/>
          <p:nvPr/>
        </p:nvPicPr>
        <p:blipFill>
          <a:blip r:embed="rId4"/>
          <a:stretch/>
        </p:blipFill>
        <p:spPr>
          <a:xfrm>
            <a:off x="6429240" y="1162080"/>
            <a:ext cx="2714760" cy="1981080"/>
          </a:xfrm>
          <a:prstGeom prst="rect">
            <a:avLst/>
          </a:prstGeom>
          <a:ln w="0">
            <a:noFill/>
          </a:ln>
        </p:spPr>
      </p:pic>
      <p:sp>
        <p:nvSpPr>
          <p:cNvPr id="137" name="TextBox 10"/>
          <p:cNvSpPr/>
          <p:nvPr/>
        </p:nvSpPr>
        <p:spPr>
          <a:xfrm>
            <a:off x="285840" y="1643040"/>
            <a:ext cx="5929200" cy="40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Задач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пуляризация препарата среди ц.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аксимально охватить ц.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информировать ц.а. о препара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ешение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оздание вирусного видео-ролика с последующим посевом в сети. Креативная группа нашего агентства разработала идею ролика, где венерические заболевания представлены в образе злого дракона, а спасение от них – доблестный рыцарь Гексикон. Ролик представлен в юмористическом стиле, выполнен в технике рисуно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сев: видеохостинги, социальные сети, популярные блоге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 результат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олее 100 000 просмот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5"/>
          <p:cNvSpPr/>
          <p:nvPr/>
        </p:nvSpPr>
        <p:spPr>
          <a:xfrm>
            <a:off x="785880" y="357120"/>
            <a:ext cx="714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Вирусное виде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Novartis Pharma</a:t>
            </a: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, Фамв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http://im6-tub-ru.yandex.net/i?id=409979042-11-72"/>
          <p:cNvPicPr/>
          <p:nvPr/>
        </p:nvPicPr>
        <p:blipFill>
          <a:blip r:embed="rId1"/>
          <a:stretch/>
        </p:blipFill>
        <p:spPr>
          <a:xfrm>
            <a:off x="357120" y="357120"/>
            <a:ext cx="1428840" cy="9810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10"/>
          <p:cNvSpPr/>
          <p:nvPr/>
        </p:nvSpPr>
        <p:spPr>
          <a:xfrm>
            <a:off x="285840" y="1643040"/>
            <a:ext cx="5500440" cy="43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Задач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пуляризация препарата среди ц.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аксимально охватить ц.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информировать ц.а. о препара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ешение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оздание вирусного видео-ролика с последующим посевом в сети. В основе идеи ролика была заложена «улыбка». Мы хотели сопоставить эффект от препарата с эффектом от доброй улыбки. Т.е. благодаря Фамвиру мир улыбается. Сюжет ролика и музыкальное сопровождение вкупе формирую положительные эмоции и невольно вызывают улыбку на лице пользовате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сев: видеохостинги, социальные сети, блоге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 результат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олее 200 000 просмот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" descr="C:\Users\user\Desktop\картинки\фамвир1.png"/>
          <p:cNvPicPr/>
          <p:nvPr/>
        </p:nvPicPr>
        <p:blipFill>
          <a:blip r:embed="rId2"/>
          <a:stretch/>
        </p:blipFill>
        <p:spPr>
          <a:xfrm>
            <a:off x="6629400" y="1303200"/>
            <a:ext cx="2514600" cy="17528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C:\Users\user\Desktop\картинки\фанвир5.png"/>
          <p:cNvPicPr/>
          <p:nvPr/>
        </p:nvPicPr>
        <p:blipFill>
          <a:blip r:embed="rId3"/>
          <a:stretch/>
        </p:blipFill>
        <p:spPr>
          <a:xfrm>
            <a:off x="6359400" y="2660760"/>
            <a:ext cx="2784600" cy="1681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C:\Users\user\Desktop\картинки\фамвир3.png"/>
          <p:cNvPicPr/>
          <p:nvPr/>
        </p:nvPicPr>
        <p:blipFill>
          <a:blip r:embed="rId4"/>
          <a:stretch/>
        </p:blipFill>
        <p:spPr>
          <a:xfrm>
            <a:off x="5572080" y="4160880"/>
            <a:ext cx="3571920" cy="19112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Номер слайда 16"/>
          <p:cNvSpPr/>
          <p:nvPr/>
        </p:nvSpPr>
        <p:spPr>
          <a:xfrm>
            <a:off x="6500880" y="6114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6D541-1DD4-4C27-A7B7-A5904D3E8453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Заголовок 3"/>
          <p:cNvSpPr/>
          <p:nvPr/>
        </p:nvSpPr>
        <p:spPr>
          <a:xfrm>
            <a:off x="557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Calibri"/>
              </a:rPr>
              <a:t>Наши кли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ая соединительная линия 20"/>
          <p:cNvSpPr/>
          <p:nvPr/>
        </p:nvSpPr>
        <p:spPr>
          <a:xfrm>
            <a:off x="642960" y="973080"/>
            <a:ext cx="8001000" cy="1800"/>
          </a:xfrm>
          <a:prstGeom prst="line">
            <a:avLst/>
          </a:prstGeom>
          <a:ln w="9360">
            <a:solidFill>
              <a:srgbClr val="007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Рисунок 44" descr="Общий_.jpg"/>
          <p:cNvPicPr/>
          <p:nvPr/>
        </p:nvPicPr>
        <p:blipFill>
          <a:blip r:embed="rId1"/>
          <a:stretch/>
        </p:blipFill>
        <p:spPr>
          <a:xfrm>
            <a:off x="571680" y="1071720"/>
            <a:ext cx="8329320" cy="47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Заголовок 3"/>
          <p:cNvSpPr/>
          <p:nvPr/>
        </p:nvSpPr>
        <p:spPr>
          <a:xfrm>
            <a:off x="557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Заголовок 3"/>
          <p:cNvSpPr/>
          <p:nvPr/>
        </p:nvSpPr>
        <p:spPr>
          <a:xfrm>
            <a:off x="714240" y="3036960"/>
            <a:ext cx="14288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61,2 мл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9"/>
          <p:cNvSpPr/>
          <p:nvPr/>
        </p:nvSpPr>
        <p:spPr>
          <a:xfrm>
            <a:off x="214200" y="285840"/>
            <a:ext cx="8001000" cy="43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e6202"/>
                </a:solidFill>
                <a:latin typeface="Arial"/>
              </a:rPr>
              <a:t>Идеология: теория восхищ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то время как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аши клиент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рассказывают о вас своим друзьям и знакомым, делятся эмоциями, восхищаются и гордятся своим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ерны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ыбором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анализируем, подсчитываем, придумываем, исследуем, планируем и делаем вывод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то время как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осхищенно делитесь своими успехами с коллегами и друзьями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анализируем, подсчитываем, придумываем, исследуем, планируем и делаем выво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то время как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осхищенно делимся своими успехами с коллегами и друзьями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читаете деньг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верное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схищени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ньг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учшая нагр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да за труд. Вы согласны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C:\Users\mkoshelenko.SMART-MEDIA\Desktop\Smm\Презентации SMM\Портфолио Смарт М\Картинки\paint.png"/>
          <p:cNvPicPr/>
          <p:nvPr/>
        </p:nvPicPr>
        <p:blipFill>
          <a:blip r:embed="rId1"/>
          <a:stretch/>
        </p:blipFill>
        <p:spPr>
          <a:xfrm>
            <a:off x="7246800" y="214200"/>
            <a:ext cx="1897200" cy="1768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C:\Users\mkoshelenko.SMART-MEDIA\Desktop\Smm\Презентации SMM\Портфолио Смарт М\Картинки\img_2169617_2T2.jpg"/>
          <p:cNvPicPr/>
          <p:nvPr/>
        </p:nvPicPr>
        <p:blipFill>
          <a:blip r:embed="rId2"/>
          <a:stretch/>
        </p:blipFill>
        <p:spPr>
          <a:xfrm>
            <a:off x="328680" y="4500720"/>
            <a:ext cx="2100240" cy="1571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C:\Users\mkoshelenko.SMART-MEDIA\Desktop\Smm\Презентации SMM\Портфолио Смарт М\Картинки\4.jpg"/>
          <p:cNvPicPr/>
          <p:nvPr/>
        </p:nvPicPr>
        <p:blipFill>
          <a:blip r:embed="rId3"/>
          <a:stretch/>
        </p:blipFill>
        <p:spPr>
          <a:xfrm rot="6176400">
            <a:off x="2597760" y="5147280"/>
            <a:ext cx="933480" cy="795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C:\Users\mkoshelenko.SMART-MEDIA\Desktop\Smm\Презентации SMM\Портфолио Смарт М\Картинки\1.jpg"/>
          <p:cNvPicPr/>
          <p:nvPr/>
        </p:nvPicPr>
        <p:blipFill>
          <a:blip r:embed="rId4"/>
          <a:stretch/>
        </p:blipFill>
        <p:spPr>
          <a:xfrm rot="17856000">
            <a:off x="3501000" y="4382280"/>
            <a:ext cx="1000080" cy="763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" descr="C:\Users\mkoshelenko.SMART-MEDIA\Desktop\Smm\Презентации SMM\Портфолио Смарт М\Картинки\3.jpg"/>
          <p:cNvPicPr/>
          <p:nvPr/>
        </p:nvPicPr>
        <p:blipFill>
          <a:blip r:embed="rId5"/>
          <a:stretch/>
        </p:blipFill>
        <p:spPr>
          <a:xfrm rot="5207400">
            <a:off x="4844160" y="4493160"/>
            <a:ext cx="1073160" cy="846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C:\Users\mkoshelenko.SMART-MEDIA\Desktop\Smm\Презентации SMM\Портфолио Смарт М\Картинки\6.jpg"/>
          <p:cNvPicPr/>
          <p:nvPr/>
        </p:nvPicPr>
        <p:blipFill>
          <a:blip r:embed="rId6"/>
          <a:stretch/>
        </p:blipFill>
        <p:spPr>
          <a:xfrm rot="4220400">
            <a:off x="4320000" y="5010840"/>
            <a:ext cx="868320" cy="987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" descr="C:\Users\mkoshelenko.SMART-MEDIA\Desktop\Smm\Презентации SMM\Портфолио Смарт М\Картинки\Make-website-a-success (1).jpg"/>
          <p:cNvPicPr/>
          <p:nvPr/>
        </p:nvPicPr>
        <p:blipFill>
          <a:blip r:embed="rId7"/>
          <a:stretch/>
        </p:blipFill>
        <p:spPr>
          <a:xfrm>
            <a:off x="6643800" y="4411800"/>
            <a:ext cx="2214360" cy="16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0" y="928440"/>
            <a:ext cx="9144000" cy="47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Каждая задача требует особого подхода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еред тем как выбрать подходящие инструменты и начать сбор информации, мы анализируем  ваш бизнес, изучаем конкурентов, расставляем приоритеты и разрабатываем стратегию  продвижения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нструменты, которые мы используем для воплощения идей в жизнь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AFEDF-69B7-442B-AD78-47E94FF2EF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C:\Users\mkoshelenko.SMART-MEDIA\Desktop\Smm\Дикая Орхидея\Картинки\Facebook.png"/>
          <p:cNvPicPr/>
          <p:nvPr/>
        </p:nvPicPr>
        <p:blipFill>
          <a:blip r:embed="rId1"/>
          <a:stretch/>
        </p:blipFill>
        <p:spPr>
          <a:xfrm>
            <a:off x="500040" y="428616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C:\Users\mkoshelenko.SMART-MEDIA\Desktop\Smm\Лого соцсетей\ipad_120_vkontakte.jpg"/>
          <p:cNvPicPr/>
          <p:nvPr/>
        </p:nvPicPr>
        <p:blipFill>
          <a:blip r:embed="rId2"/>
          <a:stretch/>
        </p:blipFill>
        <p:spPr>
          <a:xfrm>
            <a:off x="1285920" y="4286160"/>
            <a:ext cx="714240" cy="722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3"/>
          <a:stretch/>
        </p:blipFill>
        <p:spPr>
          <a:xfrm>
            <a:off x="2071800" y="428616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C:\Users\mkoshelenko.SMART-MEDIA\Desktop\Smm\Презентации SMM\Картинки\Проекты\apple_idea.jpg"/>
          <p:cNvPicPr/>
          <p:nvPr/>
        </p:nvPicPr>
        <p:blipFill>
          <a:blip r:embed="rId4"/>
          <a:stretch/>
        </p:blipFill>
        <p:spPr>
          <a:xfrm>
            <a:off x="3286080" y="5899320"/>
            <a:ext cx="2286000" cy="958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C:\Users\uyakomaskina\Desktop\ПРОШЛАЯ_ЖИЗНЬ\картинки\моймир.png"/>
          <p:cNvPicPr/>
          <p:nvPr/>
        </p:nvPicPr>
        <p:blipFill>
          <a:blip r:embed="rId5"/>
          <a:stretch/>
        </p:blipFill>
        <p:spPr>
          <a:xfrm>
            <a:off x="500040" y="5072040"/>
            <a:ext cx="2200320" cy="27612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13"/>
          <p:cNvSpPr/>
          <p:nvPr/>
        </p:nvSpPr>
        <p:spPr>
          <a:xfrm>
            <a:off x="3214800" y="3143160"/>
            <a:ext cx="27144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перативный мониторинг, размещение положительных упоминаний и отзывов на рекомендательных ресурсах и тематических форумах, написание постов популярными блоггер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4"/>
          <p:cNvSpPr/>
          <p:nvPr/>
        </p:nvSpPr>
        <p:spPr>
          <a:xfrm>
            <a:off x="285840" y="3143160"/>
            <a:ext cx="2786040" cy="24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510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оздание сообществ в популярных соц.сетя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51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аргетированная реклама в соц.сетях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51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51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51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51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51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5"/>
          <p:cNvSpPr/>
          <p:nvPr/>
        </p:nvSpPr>
        <p:spPr>
          <a:xfrm>
            <a:off x="6215040" y="3143160"/>
            <a:ext cx="271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ирусный маркетинг:  видео, сайты, игры, стать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C:\Users\mkoshelenko.SMART-MEDIA\Desktop\Smm\Презентации SMM\Картинки\Проекты\349462800-08151631.jpg"/>
          <p:cNvPicPr/>
          <p:nvPr/>
        </p:nvPicPr>
        <p:blipFill>
          <a:blip r:embed="rId6"/>
          <a:stretch/>
        </p:blipFill>
        <p:spPr>
          <a:xfrm>
            <a:off x="6786720" y="3929040"/>
            <a:ext cx="1342800" cy="142416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e6202"/>
                </a:solidFill>
                <a:latin typeface="Arial"/>
                <a:ea typeface="Arial"/>
              </a:rPr>
              <a:t>Воплощение идей в жизн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Заголовок 3"/>
          <p:cNvSpPr/>
          <p:nvPr/>
        </p:nvSpPr>
        <p:spPr>
          <a:xfrm>
            <a:off x="557280" y="115920"/>
            <a:ext cx="822960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Заголовок 3"/>
          <p:cNvSpPr/>
          <p:nvPr/>
        </p:nvSpPr>
        <p:spPr>
          <a:xfrm>
            <a:off x="714240" y="3036960"/>
            <a:ext cx="14288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61,2 мл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56760" y="1071360"/>
            <a:ext cx="442908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Задач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ивлечь внимание региональной аудитории автолюбителей к автомобильным шинам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rdiant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а также в целом повысить узнаваемость бренд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еш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зработка Приложения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Vkontakte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 создание и ведение тематической группы + проведение многоэтапного конкурса среди участник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езульта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олее 50 000 игроков только из регионов России (Москва и МО по условиям акции не принимали участия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олее 18 000 участников в групп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иложение установили 30 150 человек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Номер слайда 9"/>
          <p:cNvSpPr/>
          <p:nvPr/>
        </p:nvSpPr>
        <p:spPr>
          <a:xfrm>
            <a:off x="6500880" y="6114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7BA29-FD14-4F79-8466-E9E47380DD54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1" descr="C:\Users\mkoshelenko.SMART-MEDIA\Desktop\Smm\Лого соцсетей\ipad_120_vkontakte.jpg"/>
          <p:cNvPicPr/>
          <p:nvPr/>
        </p:nvPicPr>
        <p:blipFill>
          <a:blip r:embed="rId1"/>
          <a:stretch/>
        </p:blipFill>
        <p:spPr>
          <a:xfrm>
            <a:off x="285840" y="214200"/>
            <a:ext cx="857160" cy="8668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C:\Users\mkoshelenko.SMART-MEDIA\Desktop\Smm\Презентации SMM\Картинки\сибур 3.jpg"/>
          <p:cNvPicPr/>
          <p:nvPr/>
        </p:nvPicPr>
        <p:blipFill>
          <a:blip r:embed="rId2"/>
          <a:stretch/>
        </p:blipFill>
        <p:spPr>
          <a:xfrm>
            <a:off x="5500800" y="2786040"/>
            <a:ext cx="2500200" cy="1657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4" descr="C:\Users\mkoshelenko.SMART-MEDIA\Desktop\Smm\Презентации SMM\Картинки\сибур2.jpg"/>
          <p:cNvPicPr/>
          <p:nvPr/>
        </p:nvPicPr>
        <p:blipFill>
          <a:blip r:embed="rId3"/>
          <a:stretch/>
        </p:blipFill>
        <p:spPr>
          <a:xfrm>
            <a:off x="6143760" y="4429080"/>
            <a:ext cx="2500200" cy="1644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5" descr="C:\Users\mkoshelenko.SMART-MEDIA\Desktop\Smm\Презентации SMM\Картинки\сибур вк.jpg"/>
          <p:cNvPicPr/>
          <p:nvPr/>
        </p:nvPicPr>
        <p:blipFill>
          <a:blip r:embed="rId4"/>
          <a:stretch/>
        </p:blipFill>
        <p:spPr>
          <a:xfrm>
            <a:off x="4929120" y="1143000"/>
            <a:ext cx="2489400" cy="163512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18"/>
          <p:cNvSpPr/>
          <p:nvPr/>
        </p:nvSpPr>
        <p:spPr>
          <a:xfrm>
            <a:off x="1857240" y="214200"/>
            <a:ext cx="521496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Сибур «Русские шин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:/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vkontakte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.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ru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lub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2001502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.smarmedia.ru</a:t>
            </a: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6" descr="C:\Users\mkoshelenko.SMART-MEDIA\Desktop\Smm\Презентации SMM\Лого клиентов\cordiant.jpg"/>
          <p:cNvPicPr/>
          <p:nvPr/>
        </p:nvPicPr>
        <p:blipFill>
          <a:blip r:embed="rId10"/>
          <a:stretch/>
        </p:blipFill>
        <p:spPr>
          <a:xfrm>
            <a:off x="6715080" y="357120"/>
            <a:ext cx="2000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C:\Users\mkoshelenko.SMART-MEDIA\Desktop\Smm\Презентации SMM\Картинки\Проекты\continental_conticrosscontact_uhp.jpg"/>
          <p:cNvPicPr/>
          <p:nvPr/>
        </p:nvPicPr>
        <p:blipFill>
          <a:blip r:embed="rId1"/>
          <a:stretch/>
        </p:blipFill>
        <p:spPr>
          <a:xfrm>
            <a:off x="5786280" y="1428840"/>
            <a:ext cx="3048120" cy="4572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4286160" y="4429080"/>
            <a:ext cx="1711440" cy="1782720"/>
          </a:xfrm>
          <a:prstGeom prst="rect">
            <a:avLst/>
          </a:prstGeom>
          <a:ln w="0">
            <a:noFill/>
          </a:ln>
        </p:spPr>
      </p:pic>
      <p:sp>
        <p:nvSpPr>
          <p:cNvPr id="86" name="Заголовок 3"/>
          <p:cNvSpPr/>
          <p:nvPr/>
        </p:nvSpPr>
        <p:spPr>
          <a:xfrm>
            <a:off x="557280" y="115920"/>
            <a:ext cx="822960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Заголовок 3"/>
          <p:cNvSpPr/>
          <p:nvPr/>
        </p:nvSpPr>
        <p:spPr>
          <a:xfrm>
            <a:off x="714240" y="3036960"/>
            <a:ext cx="14288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61,2 мл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57120" y="1071360"/>
            <a:ext cx="514368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сновные задач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движение бренда «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ntinental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» в сети интернет посредством нестандартной игровой коммуникаци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нформирование аудитории о преимуществах продук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отивация аудитории к покупке продук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еш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зработка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lash-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гры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ntinental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ire constructor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в стиле «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uild and Try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.е. конструктор, позволяющий сконструировать некий продукт и опробовать ег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езульта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олее 20 000 установо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ост количества запросов на 34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Номер слайда 9"/>
          <p:cNvSpPr/>
          <p:nvPr/>
        </p:nvSpPr>
        <p:spPr>
          <a:xfrm>
            <a:off x="6500880" y="6114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27356-61FD-46E8-8DFE-E76CBDEAA894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1" descr="C:\Users\mkoshelenko.SMART-MEDIA\Desktop\Smm\Лого соцсетей\ipad_120_vkontakte.jpg"/>
          <p:cNvPicPr/>
          <p:nvPr/>
        </p:nvPicPr>
        <p:blipFill>
          <a:blip r:embed="rId3"/>
          <a:stretch/>
        </p:blipFill>
        <p:spPr>
          <a:xfrm>
            <a:off x="285840" y="214200"/>
            <a:ext cx="85716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18"/>
          <p:cNvSpPr/>
          <p:nvPr/>
        </p:nvSpPr>
        <p:spPr>
          <a:xfrm>
            <a:off x="1357200" y="214200"/>
            <a:ext cx="52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Автошины </a:t>
            </a: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Contin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"/>
          <p:cNvPicPr/>
          <p:nvPr/>
        </p:nvPicPr>
        <p:blipFill>
          <a:blip r:embed="rId4"/>
          <a:stretch/>
        </p:blipFill>
        <p:spPr>
          <a:xfrm>
            <a:off x="6429240" y="428760"/>
            <a:ext cx="2479680" cy="40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5"/>
          <p:cNvSpPr/>
          <p:nvPr/>
        </p:nvSpPr>
        <p:spPr>
          <a:xfrm>
            <a:off x="500040" y="21420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Аналитическое исследование и мониторинг  интернет пространства   для   автомобильной марки </a:t>
            </a: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G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1"/>
          <p:cNvSpPr/>
          <p:nvPr/>
        </p:nvSpPr>
        <p:spPr>
          <a:xfrm>
            <a:off x="500040" y="1000080"/>
            <a:ext cx="3786120" cy="61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Задач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нализ восприятия модели автомобиля в социальных меди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казываемые услу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иск всех упоминаний модели за 2010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нализ упоминаний и составление отчета с рекомендациями по повышению эффективности реклманой кампан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 результа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дентификация реальной аудитор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лучение качественной обратной связи от владельце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ыявление лидеров мн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екомендации по формированию новой стратегии продвижения, исходя из ресурсов обитания ЦА, уровню вовлеченности, интерес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ыявленные недостатки автомодели были переданы производител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Содержимое 3" descr=""/>
          <p:cNvPicPr/>
          <p:nvPr/>
        </p:nvPicPr>
        <p:blipFill>
          <a:blip r:embed="rId1"/>
          <a:stretch/>
        </p:blipFill>
        <p:spPr>
          <a:xfrm>
            <a:off x="4786200" y="1549440"/>
            <a:ext cx="4071960" cy="2643120"/>
          </a:xfrm>
          <a:prstGeom prst="rect">
            <a:avLst/>
          </a:prstGeom>
          <a:ln w="0">
            <a:noFill/>
          </a:ln>
        </p:spPr>
      </p:pic>
      <p:sp>
        <p:nvSpPr>
          <p:cNvPr id="96" name="TextBox 14"/>
          <p:cNvSpPr/>
          <p:nvPr/>
        </p:nvSpPr>
        <p:spPr>
          <a:xfrm>
            <a:off x="4643280" y="1241280"/>
            <a:ext cx="392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спределение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поминаний по типам ресурс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Диаграмма 15" descr=""/>
          <p:cNvPicPr/>
          <p:nvPr/>
        </p:nvPicPr>
        <p:blipFill>
          <a:blip r:embed="rId2"/>
          <a:stretch/>
        </p:blipFill>
        <p:spPr>
          <a:xfrm>
            <a:off x="4138560" y="4187880"/>
            <a:ext cx="422424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C:\Users\mkoshelenko.SMART-MEDIA\Desktop\Smm\Презентации SMM\Картинки\Проекты\Полноэкранная запись 21.02.2012 174408.jpg"/>
          <p:cNvPicPr/>
          <p:nvPr/>
        </p:nvPicPr>
        <p:blipFill>
          <a:blip r:embed="rId1"/>
          <a:stretch/>
        </p:blipFill>
        <p:spPr>
          <a:xfrm>
            <a:off x="5000760" y="1714680"/>
            <a:ext cx="3882960" cy="36781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99" name=""/>
          <p:cNvSpPr txBox="1"/>
          <p:nvPr/>
        </p:nvSpPr>
        <p:spPr>
          <a:xfrm>
            <a:off x="357120" y="1428840"/>
            <a:ext cx="45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сновные задач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пуляризация сети магазинов «Подружка»: вывод бренда на новый уровень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вышение узнаваемости бренда, формирование лояльного отношения целевой аудитори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вышение посещаемости розничных магазин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величение объема продаж косметик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еш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оздание сообщества «Подружка» в социальной сети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Vkontakte.r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езультаты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7 700 участников групп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1200 «лайков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300 перепост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27D15-1F78-4AFA-ADE3-F5D011D9CC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4"/>
          <p:cNvSpPr/>
          <p:nvPr/>
        </p:nvSpPr>
        <p:spPr>
          <a:xfrm>
            <a:off x="1643040" y="285840"/>
            <a:ext cx="47149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Сеть магазинов «Подруж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vk.com/podrygka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C:\Users\mkoshelenko.SMART-MEDIA\Desktop\Smm\Презентации SMM\Лого клиентов\161754b.jpg"/>
          <p:cNvPicPr/>
          <p:nvPr/>
        </p:nvPicPr>
        <p:blipFill>
          <a:blip r:embed="rId2"/>
          <a:stretch/>
        </p:blipFill>
        <p:spPr>
          <a:xfrm>
            <a:off x="6572160" y="214200"/>
            <a:ext cx="2320920" cy="11397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C:\Users\mkoshelenko.SMART-MEDIA\Desktop\Smm\Лого соцсетей\ipad_120_vkontakte.jpg"/>
          <p:cNvPicPr/>
          <p:nvPr/>
        </p:nvPicPr>
        <p:blipFill>
          <a:blip r:embed="rId3"/>
          <a:stretch/>
        </p:blipFill>
        <p:spPr>
          <a:xfrm>
            <a:off x="428760" y="285840"/>
            <a:ext cx="857160" cy="86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57120" y="1428840"/>
            <a:ext cx="45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сновные задач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пуляризация сети магазинов «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lmonte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»: расширение целевой аудитори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вышение узнаваемости бренда, формирование лояльного отношения целевой аудитори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вышение посещаемости розничных магазин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еш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оздание сообщества «Модный город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lmonte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» в социальной сети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Vkontakte.r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езультаты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6 800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участников групп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350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«лайков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00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ерепост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00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омментарие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EE686-BDA8-4D8E-9263-4AF1BBBB70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4"/>
          <p:cNvSpPr/>
          <p:nvPr/>
        </p:nvSpPr>
        <p:spPr>
          <a:xfrm>
            <a:off x="1643040" y="285840"/>
            <a:ext cx="47149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Сеть магазинов обуви «</a:t>
            </a: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Elmonte</a:t>
            </a: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vkontakte.ru/feed#/elmo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1" descr="C:\Users\mkoshelenko.SMART-MEDIA\Desktop\Smm\Лого соцсетей\ipad_120_vkontakte.jpg"/>
          <p:cNvPicPr/>
          <p:nvPr/>
        </p:nvPicPr>
        <p:blipFill>
          <a:blip r:embed="rId1"/>
          <a:stretch/>
        </p:blipFill>
        <p:spPr>
          <a:xfrm>
            <a:off x="428760" y="285840"/>
            <a:ext cx="857160" cy="86652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7" descr=""/>
          <p:cNvPicPr/>
          <p:nvPr/>
        </p:nvPicPr>
        <p:blipFill>
          <a:blip r:embed="rId2"/>
          <a:stretch/>
        </p:blipFill>
        <p:spPr>
          <a:xfrm>
            <a:off x="4929120" y="1214280"/>
            <a:ext cx="3841920" cy="4776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09" name="Picture 2" descr="C:\Users\mkoshelenko.SMART-MEDIA\Desktop\Smm\Презентации SMM\Лого клиентов\logo-141.jpg"/>
          <p:cNvPicPr/>
          <p:nvPr/>
        </p:nvPicPr>
        <p:blipFill>
          <a:blip r:embed="rId3"/>
          <a:stretch/>
        </p:blipFill>
        <p:spPr>
          <a:xfrm>
            <a:off x="6786720" y="214200"/>
            <a:ext cx="1761840" cy="8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C:\Users\mkoshelenko.SMART-MEDIA\Desktop\Smm\Презентации SMM\Картинки\Проекты\waiter.jpg"/>
          <p:cNvPicPr/>
          <p:nvPr/>
        </p:nvPicPr>
        <p:blipFill>
          <a:blip r:embed="rId1"/>
          <a:stretch/>
        </p:blipFill>
        <p:spPr>
          <a:xfrm>
            <a:off x="0" y="0"/>
            <a:ext cx="1849320" cy="157176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1357200" y="357120"/>
            <a:ext cx="71438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Спецпроек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КБ «МИА» (московское ипотечное агентст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http://promo.mia.r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1"/>
          <p:cNvSpPr/>
          <p:nvPr/>
        </p:nvSpPr>
        <p:spPr>
          <a:xfrm>
            <a:off x="214200" y="1500120"/>
            <a:ext cx="4500720" cy="38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сновные задач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енерация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n-line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явок на ипотечное кредит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еш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еализация промо-сайта в новой стилистике «видео-продажи»: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харизматичный «помощник» (один из классических типажей ЦА) посетителю сайта в свойственной манере рассказывает преимущества ипотеки, в частности от КБ МИА, а также подсказывает навигацию по сайту. Во-вторых, разработана акция со слоганом «Безопасность в подарок», что вызывало доверие к банку и убежденность в его надежности как партнера.  Продвижение проекта через социальные меди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C:\Users\uyakomaskina\Desktop\миа.png"/>
          <p:cNvPicPr/>
          <p:nvPr/>
        </p:nvPicPr>
        <p:blipFill>
          <a:blip r:embed="rId2"/>
          <a:stretch/>
        </p:blipFill>
        <p:spPr>
          <a:xfrm>
            <a:off x="4786200" y="1643040"/>
            <a:ext cx="4002120" cy="304812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6"/>
          <p:cNvSpPr/>
          <p:nvPr/>
        </p:nvSpPr>
        <p:spPr>
          <a:xfrm>
            <a:off x="4714920" y="4714920"/>
            <a:ext cx="4357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езультат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первый месяц троекратное увеличение количества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n-line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явок. Сайт реализован с вирусным эффектом, что резко увеличило ежедневный трафик и повысило узнаваемость бренда среди Ц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4T18:48:53Z</dcterms:created>
  <dc:creator>Mark</dc:creator>
  <dc:description/>
  <dc:language>en-US</dc:language>
  <cp:lastModifiedBy> Калашникова</cp:lastModifiedBy>
  <dcterms:modified xsi:type="dcterms:W3CDTF">2012-03-13T07:36:20Z</dcterms:modified>
  <cp:revision>294</cp:revision>
  <dc:subject/>
  <dc:title>Слайд 1</dc:title>
</cp:coreProperties>
</file>