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png" ContentType="image/png"/>
  <Override PartName="/ppt/media/image36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548-E414-4549-A55E-7CCD247EB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AEC-9D3D-4FB9-9FD9-FCD4DFD82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0F84-BF6A-45DD-898A-6E9D93406A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SMARTMEDIA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D4B2-B7CB-4A15-90CE-E9BC1EE39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AD9C-3218-49F0-8486-67B1839C3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E90A-D8D3-4AB9-88D4-B33AB2BEB7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5C9D-D043-42E8-977E-982456422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A61-2551-435E-B565-B9DC211C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232-407E-49DD-9198-6705A43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CC3-C6D9-4499-8FCE-3F657849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27F-8DFA-4053-9B69-1E66E17E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CEB-0FC2-4476-BF6F-CD8DA3C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21B-C000-4651-A63D-629B714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140-69FD-4D1F-928F-56852A4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266-A5FE-4871-9BD1-B2F791B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D62-C427-458A-8FD6-382EBCF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123-2DD9-4267-98FB-798C7DA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9CB-16C2-4832-B3A0-29EFA58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5A5-4DDF-4317-BE6D-F6E9D91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9DE-F8A4-4ED4-B735-D8A408B6C2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B3A-2CAC-484C-8A45-155192A07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3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vkontakte.ru/club20015029" TargetMode="External"/><Relationship Id="rId6" Type="http://schemas.openxmlformats.org/officeDocument/2006/relationships/hyperlink" Target="http://vkontakte.ru/club20015029" TargetMode="External"/><Relationship Id="rId7" Type="http://schemas.openxmlformats.org/officeDocument/2006/relationships/hyperlink" Target="http://vkontakte.ru/club20015029" TargetMode="External"/><Relationship Id="rId8" Type="http://schemas.openxmlformats.org/officeDocument/2006/relationships/hyperlink" Target="http://vkontakte.ru/club20015029" TargetMode="External"/><Relationship Id="rId9" Type="http://schemas.openxmlformats.org/officeDocument/2006/relationships/hyperlink" Target="http://vkontakte.ru/club20015029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14240" y="652320"/>
            <a:ext cx="252756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41440" y="4422600"/>
            <a:ext cx="3673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28760" y="23572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76092"/>
                </a:solidFill>
                <a:uFillTx/>
                <a:latin typeface="Calibri"/>
              </a:rPr>
              <a:t>SMM. </a:t>
            </a:r>
            <a:r>
              <a:rPr b="1" lang="ru-RU" sz="3600" spc="-1" strike="noStrike" u="sng">
                <a:solidFill>
                  <a:srgbClr val="376092"/>
                </a:solidFill>
                <a:uFillTx/>
                <a:latin typeface="Calibri"/>
              </a:rPr>
              <a:t>Портфолио</a:t>
            </a:r>
            <a:r>
              <a:rPr b="1" lang="en-US" sz="3600" spc="-1" strike="noStrike" u="sng">
                <a:solidFill>
                  <a:srgbClr val="376092"/>
                </a:solidFill>
                <a:uFillTx/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376092"/>
                </a:solidFill>
                <a:uFillTx/>
                <a:latin typeface="Calibri"/>
              </a:rPr>
              <a:t>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857160"/>
            <a:ext cx="6000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казать о Шоу широкой аудитории поклонников Майкла Джекс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сить интерес к шоу за счет активностей, проводимых в социальных сет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влечь зрителей на шоу в Крок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групп в соц.сет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ирокое анонсирование 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брендирование топ-групп и фан-сообществ. Регулярное обновление интересного контента: каверы, факты из жизни. Проведение конкурсов: фотоконкурсы и пародии с ценными призами от организато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вижение через «лидеров мнений» и популярных блогер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смотры видео-контента: 100 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ность: 30 000 пользова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яли участие в конкурсах: 550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380 билетов купле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41D-F584-4915-A675-D4C6823031A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8"/>
          <p:cNvSpPr/>
          <p:nvPr/>
        </p:nvSpPr>
        <p:spPr>
          <a:xfrm>
            <a:off x="1357200" y="214200"/>
            <a:ext cx="721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. Jackson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«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The Ultimate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vkontakte.ru/mjshow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user\Desktop\картинки\джексон.png"/>
          <p:cNvPicPr/>
          <p:nvPr/>
        </p:nvPicPr>
        <p:blipFill>
          <a:blip r:embed="rId2"/>
          <a:stretch/>
        </p:blipFill>
        <p:spPr>
          <a:xfrm>
            <a:off x="5556240" y="928800"/>
            <a:ext cx="3587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в форумах и блог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n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mkoshelenko.SMART-MEDIA\Desktop\Smm\Презентации SMM\Картинки\link-exchange-forums-optimizeguyz.jpg"/>
          <p:cNvPicPr/>
          <p:nvPr/>
        </p:nvPicPr>
        <p:blipFill>
          <a:blip r:embed="rId1"/>
          <a:stretch/>
        </p:blipFill>
        <p:spPr>
          <a:xfrm>
            <a:off x="214200" y="214200"/>
            <a:ext cx="1258920" cy="1571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mkoshelenko.SMART-MEDIA\Desktop\Smm\Презентации SMM\Лого клиентов\онклиник.jpg"/>
          <p:cNvPicPr/>
          <p:nvPr/>
        </p:nvPicPr>
        <p:blipFill>
          <a:blip r:embed="rId2"/>
          <a:stretch/>
        </p:blipFill>
        <p:spPr>
          <a:xfrm>
            <a:off x="6858000" y="785880"/>
            <a:ext cx="2048040" cy="4604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14200" y="1844640"/>
            <a:ext cx="664380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ение количества записей на прием и общего числа посетителей сети кли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велирование негатива. Управление репутацией: формирование лояльного отношения представителей целевых груп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станцировать от конкурентов с похожим наз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ниторинг информационного интернет пространства и выявление «проблемных» ресурсов, а также локации качественной 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щение положительных отзывов на форумах и опровергающих постов в популярных блог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90% всех отзывов о клинике носит положительный или нейтраль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flash\Pictures\2.jpg"/>
          <p:cNvPicPr/>
          <p:nvPr/>
        </p:nvPicPr>
        <p:blipFill>
          <a:blip r:embed="rId3"/>
          <a:stretch/>
        </p:blipFill>
        <p:spPr>
          <a:xfrm>
            <a:off x="6929280" y="2071800"/>
            <a:ext cx="1860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mkoshelenko.SMART-MEDIA\Desktop\Smm\Презентации SMM\Лого клиентов\1251299941_oscillococcinum.jpg"/>
          <p:cNvPicPr/>
          <p:nvPr/>
        </p:nvPicPr>
        <p:blipFill>
          <a:blip r:embed="rId1"/>
          <a:stretch/>
        </p:blipFill>
        <p:spPr>
          <a:xfrm>
            <a:off x="5280120" y="2143080"/>
            <a:ext cx="38638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mkoshelenko.SMART-MEDIA\Desktop\Smm\Презентации SMM\Картинки\link-exchange-forums-optimizeguyz.jpg"/>
          <p:cNvPicPr/>
          <p:nvPr/>
        </p:nvPicPr>
        <p:blipFill>
          <a:blip r:embed="rId2"/>
          <a:stretch/>
        </p:blipFill>
        <p:spPr>
          <a:xfrm>
            <a:off x="214200" y="214200"/>
            <a:ext cx="1258920" cy="1571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в форумах и блог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циллококцин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57120" y="1571760"/>
            <a:ext cx="564372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ение общего отношения целевой аудитории к препарату, выявления каналов распространения негативных отзы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велирование негатива (70/30, где 70% - негативные отзывы, 30% - положительные или нейтральны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общего положительного фона вокруг препарата (брен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щение положительных отзывов на форумах и постов в популярных блогах, с последующим выведением в то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исани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й мониторинг информации, так или иначе касающейся препарата, в сети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стижение 90% от всех отзывов о препарате в положительном или нейтральном ключ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упоминаемости препарата в сети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mkoshelenko.SMART-MEDIA\Desktop\Smm\Презентации SMM\Лого клиентов\boiron-transparent-logo.png"/>
          <p:cNvPicPr/>
          <p:nvPr/>
        </p:nvPicPr>
        <p:blipFill>
          <a:blip r:embed="rId3"/>
          <a:stretch/>
        </p:blipFill>
        <p:spPr>
          <a:xfrm>
            <a:off x="6715080" y="428760"/>
            <a:ext cx="2190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ирусное виде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Нижфарм (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STADA CIS)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, Гекси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im6-tub-ru.yandex.net/i?id=409979042-11-72"/>
          <p:cNvPicPr/>
          <p:nvPr/>
        </p:nvPicPr>
        <p:blipFill>
          <a:blip r:embed="rId1"/>
          <a:stretch/>
        </p:blipFill>
        <p:spPr>
          <a:xfrm>
            <a:off x="357120" y="357120"/>
            <a:ext cx="1428840" cy="98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user\Desktop\картинки\гексикон3.png"/>
          <p:cNvPicPr/>
          <p:nvPr/>
        </p:nvPicPr>
        <p:blipFill>
          <a:blip r:embed="rId2"/>
          <a:stretch/>
        </p:blipFill>
        <p:spPr>
          <a:xfrm>
            <a:off x="6429240" y="4579920"/>
            <a:ext cx="2714760" cy="156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user\Desktop\картинки\Гексикон2.png"/>
          <p:cNvPicPr/>
          <p:nvPr/>
        </p:nvPicPr>
        <p:blipFill>
          <a:blip r:embed="rId3"/>
          <a:stretch/>
        </p:blipFill>
        <p:spPr>
          <a:xfrm>
            <a:off x="6429240" y="3178080"/>
            <a:ext cx="2714760" cy="139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user\Desktop\картинки\Гексикон.png"/>
          <p:cNvPicPr/>
          <p:nvPr/>
        </p:nvPicPr>
        <p:blipFill>
          <a:blip r:embed="rId4"/>
          <a:stretch/>
        </p:blipFill>
        <p:spPr>
          <a:xfrm>
            <a:off x="6429240" y="1162080"/>
            <a:ext cx="271476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285840" y="1643040"/>
            <a:ext cx="59292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препарата среди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о охватить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информировать ц.а. о препар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вирусного видео-ролика с последующим посевом в сети. Креативная группа нашего агентства разработала идею ролика, где венерические заболевания представлены в образе злого дракона, а спасение от них – доблестный рыцарь Гексикон. Ролик представлен в юмористическом стиле, выполнен в технике рису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ев: видеохостинги, социальные сети, популярные блог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100 000 просмо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ирусное виде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Novartis Pharma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, Фам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im6-tub-ru.yandex.net/i?id=409979042-11-72"/>
          <p:cNvPicPr/>
          <p:nvPr/>
        </p:nvPicPr>
        <p:blipFill>
          <a:blip r:embed="rId1"/>
          <a:stretch/>
        </p:blipFill>
        <p:spPr>
          <a:xfrm>
            <a:off x="357120" y="357120"/>
            <a:ext cx="1428840" cy="981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285840" y="1643040"/>
            <a:ext cx="550044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препарата среди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о охватить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информировать ц.а. о препар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вирусного видео-ролика с последующим посевом в сети. В основе идеи ролика была заложена «улыбка». Мы хотели сопоставить эффект от препарата с эффектом от доброй улыбки. Т.е. благодаря Фамвиру мир улыбается. Сюжет ролика и музыкальное сопровождение вкупе формирую положительные эмоции и невольно вызывают улыбку на лице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ев: видеохостинги, социальные сети, блог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200 000 просмо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:\Users\user\Desktop\картинки\фамвир1.png"/>
          <p:cNvPicPr/>
          <p:nvPr/>
        </p:nvPicPr>
        <p:blipFill>
          <a:blip r:embed="rId2"/>
          <a:stretch/>
        </p:blipFill>
        <p:spPr>
          <a:xfrm>
            <a:off x="6629400" y="1303200"/>
            <a:ext cx="2514600" cy="175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user\Desktop\картинки\фанвир5.png"/>
          <p:cNvPicPr/>
          <p:nvPr/>
        </p:nvPicPr>
        <p:blipFill>
          <a:blip r:embed="rId3"/>
          <a:stretch/>
        </p:blipFill>
        <p:spPr>
          <a:xfrm>
            <a:off x="6359400" y="2660760"/>
            <a:ext cx="278460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user\Desktop\картинки\фамвир3.png"/>
          <p:cNvPicPr/>
          <p:nvPr/>
        </p:nvPicPr>
        <p:blipFill>
          <a:blip r:embed="rId4"/>
          <a:stretch/>
        </p:blipFill>
        <p:spPr>
          <a:xfrm>
            <a:off x="5572080" y="4160880"/>
            <a:ext cx="3571920" cy="1911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6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4080-F26D-4D06-AAE2-018BA59C1C1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3"/>
          <p:cNvSpPr/>
          <p:nvPr/>
        </p:nvSpPr>
        <p:spPr>
          <a:xfrm>
            <a:off x="557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Наши кли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0"/>
          <p:cNvSpPr/>
          <p:nvPr/>
        </p:nvSpPr>
        <p:spPr>
          <a:xfrm>
            <a:off x="642960" y="973080"/>
            <a:ext cx="8001000" cy="1800"/>
          </a:xfrm>
          <a:prstGeom prst="line">
            <a:avLst/>
          </a:prstGeom>
          <a:ln w="93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4" descr="Общий_.jpg"/>
          <p:cNvPicPr/>
          <p:nvPr/>
        </p:nvPicPr>
        <p:blipFill>
          <a:blip r:embed="rId1"/>
          <a:stretch/>
        </p:blipFill>
        <p:spPr>
          <a:xfrm>
            <a:off x="571680" y="1071720"/>
            <a:ext cx="8329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3"/>
          <p:cNvSpPr/>
          <p:nvPr/>
        </p:nvSpPr>
        <p:spPr>
          <a:xfrm>
            <a:off x="557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214200" y="285840"/>
            <a:ext cx="80010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6202"/>
                </a:solidFill>
                <a:latin typeface="Arial"/>
              </a:rPr>
              <a:t>Идеология: теория восхи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ши клиен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казывают о вас своим друзьям и знакомым, делятся эмоциями, восхищаются и гордятся свои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рн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боро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ируем, подсчитываем, придумываем, исследуем, планируем и делаем вы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схищенно делитесь своими успехами с коллегами и друзья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ируем, подсчитываем, придумываем, исследуем, планируем и делаем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схищенно делимся своими успехами с коллегами и друзья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читаете деньг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ерно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хищ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чшая наг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 за труд. Вы соглас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:\Users\mkoshelenko.SMART-MEDIA\Desktop\Smm\Презентации SMM\Портфолио Смарт М\Картинки\paint.png"/>
          <p:cNvPicPr/>
          <p:nvPr/>
        </p:nvPicPr>
        <p:blipFill>
          <a:blip r:embed="rId1"/>
          <a:stretch/>
        </p:blipFill>
        <p:spPr>
          <a:xfrm>
            <a:off x="7246800" y="214200"/>
            <a:ext cx="1897200" cy="176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Users\mkoshelenko.SMART-MEDIA\Desktop\Smm\Презентации SMM\Портфолио Смарт М\Картинки\img_2169617_2T2.jpg"/>
          <p:cNvPicPr/>
          <p:nvPr/>
        </p:nvPicPr>
        <p:blipFill>
          <a:blip r:embed="rId2"/>
          <a:stretch/>
        </p:blipFill>
        <p:spPr>
          <a:xfrm>
            <a:off x="328680" y="4500720"/>
            <a:ext cx="2100240" cy="157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Users\mkoshelenko.SMART-MEDIA\Desktop\Smm\Презентации SMM\Портфолио Смарт М\Картинки\4.jpg"/>
          <p:cNvPicPr/>
          <p:nvPr/>
        </p:nvPicPr>
        <p:blipFill>
          <a:blip r:embed="rId3"/>
          <a:stretch/>
        </p:blipFill>
        <p:spPr>
          <a:xfrm rot="6176400">
            <a:off x="2597760" y="5147280"/>
            <a:ext cx="933480" cy="79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C:\Users\mkoshelenko.SMART-MEDIA\Desktop\Smm\Презентации SMM\Портфолио Смарт М\Картинки\1.jpg"/>
          <p:cNvPicPr/>
          <p:nvPr/>
        </p:nvPicPr>
        <p:blipFill>
          <a:blip r:embed="rId4"/>
          <a:stretch/>
        </p:blipFill>
        <p:spPr>
          <a:xfrm rot="17856000">
            <a:off x="3501000" y="4382280"/>
            <a:ext cx="1000080" cy="76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Users\mkoshelenko.SMART-MEDIA\Desktop\Smm\Презентации SMM\Портфолио Смарт М\Картинки\3.jpg"/>
          <p:cNvPicPr/>
          <p:nvPr/>
        </p:nvPicPr>
        <p:blipFill>
          <a:blip r:embed="rId5"/>
          <a:stretch/>
        </p:blipFill>
        <p:spPr>
          <a:xfrm rot="5207400">
            <a:off x="4844160" y="4493160"/>
            <a:ext cx="107316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mkoshelenko.SMART-MEDIA\Desktop\Smm\Презентации SMM\Портфолио Смарт М\Картинки\6.jpg"/>
          <p:cNvPicPr/>
          <p:nvPr/>
        </p:nvPicPr>
        <p:blipFill>
          <a:blip r:embed="rId6"/>
          <a:stretch/>
        </p:blipFill>
        <p:spPr>
          <a:xfrm rot="4220400">
            <a:off x="4320000" y="5010840"/>
            <a:ext cx="86832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C:\Users\mkoshelenko.SMART-MEDIA\Desktop\Smm\Презентации SMM\Портфолио Смарт М\Картинки\Make-website-a-success (1).jpg"/>
          <p:cNvPicPr/>
          <p:nvPr/>
        </p:nvPicPr>
        <p:blipFill>
          <a:blip r:embed="rId7"/>
          <a:stretch/>
        </p:blipFill>
        <p:spPr>
          <a:xfrm>
            <a:off x="6643800" y="4411800"/>
            <a:ext cx="2214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928440"/>
            <a:ext cx="91440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ждая задача требует особого подход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ред тем как выбрать подходящие инструменты и начать сбор информации, мы анализируем  ваш бизнес, изучаем конкурентов, расставляем приоритеты и разрабатываем стратегию  продвиж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менты, которые мы используем для воплощения идей в жизн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A23A-1AEC-4570-BEE0-6ED2FF72E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mkoshelenko.SMART-MEDIA\Desktop\Smm\Дикая Орхидея\Картинки\Facebook.png"/>
          <p:cNvPicPr/>
          <p:nvPr/>
        </p:nvPicPr>
        <p:blipFill>
          <a:blip r:embed="rId1"/>
          <a:stretch/>
        </p:blipFill>
        <p:spPr>
          <a:xfrm>
            <a:off x="500040" y="42861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mkoshelenko.SMART-MEDIA\Desktop\Smm\Лого соцсетей\ipad_120_vkontakte.jpg"/>
          <p:cNvPicPr/>
          <p:nvPr/>
        </p:nvPicPr>
        <p:blipFill>
          <a:blip r:embed="rId2"/>
          <a:stretch/>
        </p:blipFill>
        <p:spPr>
          <a:xfrm>
            <a:off x="1285920" y="4286160"/>
            <a:ext cx="714240" cy="72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071800" y="42861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mkoshelenko.SMART-MEDIA\Desktop\Smm\Презентации SMM\Картинки\Проекты\apple_idea.jpg"/>
          <p:cNvPicPr/>
          <p:nvPr/>
        </p:nvPicPr>
        <p:blipFill>
          <a:blip r:embed="rId4"/>
          <a:stretch/>
        </p:blipFill>
        <p:spPr>
          <a:xfrm>
            <a:off x="3286080" y="5899320"/>
            <a:ext cx="2286000" cy="95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uyakomaskina\Desktop\ПРОШЛАЯ_ЖИЗНЬ\картинки\моймир.png"/>
          <p:cNvPicPr/>
          <p:nvPr/>
        </p:nvPicPr>
        <p:blipFill>
          <a:blip r:embed="rId5"/>
          <a:stretch/>
        </p:blipFill>
        <p:spPr>
          <a:xfrm>
            <a:off x="500040" y="5072040"/>
            <a:ext cx="2200320" cy="276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3"/>
          <p:cNvSpPr/>
          <p:nvPr/>
        </p:nvSpPr>
        <p:spPr>
          <a:xfrm>
            <a:off x="3214800" y="3143160"/>
            <a:ext cx="2714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й мониторинг, размещение положительных упоминаний и отзывов на рекомендательных ресурсах и тематических форумах, написание постов популярными блогг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285840" y="3143160"/>
            <a:ext cx="27860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 в популярных соц.се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ргетированная реклама в соц.сетя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6215040" y="3143160"/>
            <a:ext cx="27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русный маркетинг:  видео, сайты, игры, стат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mkoshelenko.SMART-MEDIA\Desktop\Smm\Презентации SMM\Картинки\Проекты\349462800-08151631.jpg"/>
          <p:cNvPicPr/>
          <p:nvPr/>
        </p:nvPicPr>
        <p:blipFill>
          <a:blip r:embed="rId6"/>
          <a:stretch/>
        </p:blipFill>
        <p:spPr>
          <a:xfrm>
            <a:off x="6786720" y="3929040"/>
            <a:ext cx="1342800" cy="1424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6202"/>
                </a:solidFill>
                <a:latin typeface="Arial"/>
                <a:ea typeface="Arial"/>
              </a:rPr>
              <a:t>Воплощение идей в жиз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1071360"/>
            <a:ext cx="44290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влечь внимание региональной аудитории автолюбителей к автомобильным шин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dian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 также в целом повысить узнаваемость брен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Приложени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создание и ведение тематической группы + проведение многоэтапного конкурса среди участ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50 000 игроков только из регионов России (Москва и МО по условиям акции не принимали учас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18 000 участников в групп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ложение установили 30 150 челове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E8C-0087-46A8-A6FE-8B41E5387FB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C:\Users\mkoshelenko.SMART-MEDIA\Desktop\Smm\Презентации SMM\Картинки\сибур 3.jpg"/>
          <p:cNvPicPr/>
          <p:nvPr/>
        </p:nvPicPr>
        <p:blipFill>
          <a:blip r:embed="rId2"/>
          <a:stretch/>
        </p:blipFill>
        <p:spPr>
          <a:xfrm>
            <a:off x="5500800" y="2786040"/>
            <a:ext cx="250020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C:\Users\mkoshelenko.SMART-MEDIA\Desktop\Smm\Презентации SMM\Картинки\сибур2.jpg"/>
          <p:cNvPicPr/>
          <p:nvPr/>
        </p:nvPicPr>
        <p:blipFill>
          <a:blip r:embed="rId3"/>
          <a:stretch/>
        </p:blipFill>
        <p:spPr>
          <a:xfrm>
            <a:off x="6143760" y="4429080"/>
            <a:ext cx="2500200" cy="164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C:\Users\mkoshelenko.SMART-MEDIA\Desktop\Smm\Презентации SMM\Картинки\сибур вк.jpg"/>
          <p:cNvPicPr/>
          <p:nvPr/>
        </p:nvPicPr>
        <p:blipFill>
          <a:blip r:embed="rId4"/>
          <a:stretch/>
        </p:blipFill>
        <p:spPr>
          <a:xfrm>
            <a:off x="4929120" y="1143000"/>
            <a:ext cx="2489400" cy="1635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8"/>
          <p:cNvSpPr/>
          <p:nvPr/>
        </p:nvSpPr>
        <p:spPr>
          <a:xfrm>
            <a:off x="1857240" y="214200"/>
            <a:ext cx="52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ибур «Русские ш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vkontakt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150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.smarmedia.ru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C:\Users\mkoshelenko.SMART-MEDIA\Desktop\Smm\Презентации SMM\Лого клиентов\cordiant.jpg"/>
          <p:cNvPicPr/>
          <p:nvPr/>
        </p:nvPicPr>
        <p:blipFill>
          <a:blip r:embed="rId10"/>
          <a:stretch/>
        </p:blipFill>
        <p:spPr>
          <a:xfrm>
            <a:off x="6715080" y="357120"/>
            <a:ext cx="2000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koshelenko.SMART-MEDIA\Desktop\Smm\Презентации SMM\Картинки\Проекты\continental_conticrosscontact_uhp.jpg"/>
          <p:cNvPicPr/>
          <p:nvPr/>
        </p:nvPicPr>
        <p:blipFill>
          <a:blip r:embed="rId1"/>
          <a:stretch/>
        </p:blipFill>
        <p:spPr>
          <a:xfrm>
            <a:off x="5786280" y="14288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286160" y="4429080"/>
            <a:ext cx="1711440" cy="17827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071360"/>
            <a:ext cx="51436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вижение бренда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enta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в сети интернет посредством нестандартной игровой коммуник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ирование аудитории о преимуществах проду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тивация аудитории к покупке проду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sh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ы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enta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re constructor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 стиле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 and Try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.е. конструктор, позволяющий сконструировать некий продукт и опробовать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20 000 установ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количества запросов на 3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9FDF-DA99-40D7-9890-1D738C47911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C:\Users\mkoshelenko.SMART-MEDIA\Desktop\Smm\Лого соцсетей\ipad_120_vkontakte.jpg"/>
          <p:cNvPicPr/>
          <p:nvPr/>
        </p:nvPicPr>
        <p:blipFill>
          <a:blip r:embed="rId3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8"/>
          <p:cNvSpPr/>
          <p:nvPr/>
        </p:nvSpPr>
        <p:spPr>
          <a:xfrm>
            <a:off x="1357200" y="21420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втошины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4"/>
          <a:stretch/>
        </p:blipFill>
        <p:spPr>
          <a:xfrm>
            <a:off x="6429240" y="428760"/>
            <a:ext cx="2479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5"/>
          <p:cNvSpPr/>
          <p:nvPr/>
        </p:nvSpPr>
        <p:spPr>
          <a:xfrm>
            <a:off x="5000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налитическое исследование и мониторинг  интернет пространства   для   автомобильной марки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0040" y="1000080"/>
            <a:ext cx="378612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ализ восприятия модели автомобиля в социальных меди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ываем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иск всех упоминаний модели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ализ упоминаний и составление отчета с рекомендациями по повышению эффективности реклманой ка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дентификация реальной ауди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чение качественной обратной связи от владель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явление лидеров м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новой стратегии продвижения, исходя из ресурсов обитания ЦА, уровню вовлеченности,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явленные недостатки автомодели были переданы производ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4786200" y="1549440"/>
            <a:ext cx="4071960" cy="2643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4643280" y="1241280"/>
            <a:ext cx="39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оминаний по типам рес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15" descr=""/>
          <p:cNvPicPr/>
          <p:nvPr/>
        </p:nvPicPr>
        <p:blipFill>
          <a:blip r:embed="rId2"/>
          <a:stretch/>
        </p:blipFill>
        <p:spPr>
          <a:xfrm>
            <a:off x="4138560" y="4187880"/>
            <a:ext cx="42242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Users\mkoshelenko.SMART-MEDIA\Desktop\Smm\Презентации SMM\Картинки\Проекты\Полноэкранная запись 21.02.2012 174408.jpg"/>
          <p:cNvPicPr/>
          <p:nvPr/>
        </p:nvPicPr>
        <p:blipFill>
          <a:blip r:embed="rId1"/>
          <a:stretch/>
        </p:blipFill>
        <p:spPr>
          <a:xfrm>
            <a:off x="5000760" y="1714680"/>
            <a:ext cx="3882960" cy="3678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357120" y="14288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сети магазинов «Подружка»: вывод бренда на новый уров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узнаваемости бренда, формирование лояльного отношения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посещаемости розничных магази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ение объема продаж косме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а «Подружка» в социальной сети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 700 участников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200 «лайк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00 перепо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13F-8465-47BC-93D5-1F609AA59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643040" y="285840"/>
            <a:ext cx="4714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еть магазинов «Подруж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k.com/podrygka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mkoshelenko.SMART-MEDIA\Desktop\Smm\Презентации SMM\Лого клиентов\161754b.jpg"/>
          <p:cNvPicPr/>
          <p:nvPr/>
        </p:nvPicPr>
        <p:blipFill>
          <a:blip r:embed="rId2"/>
          <a:stretch/>
        </p:blipFill>
        <p:spPr>
          <a:xfrm>
            <a:off x="6572160" y="214200"/>
            <a:ext cx="2320920" cy="113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:\Users\mkoshelenko.SMART-MEDIA\Desktop\Smm\Лого соцсетей\ipad_120_vkontakte.jpg"/>
          <p:cNvPicPr/>
          <p:nvPr/>
        </p:nvPicPr>
        <p:blipFill>
          <a:blip r:embed="rId3"/>
          <a:stretch/>
        </p:blipFill>
        <p:spPr>
          <a:xfrm>
            <a:off x="428760" y="285840"/>
            <a:ext cx="85716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14288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сети магазинов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mon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: расширение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узнаваемости бренда, формирование лояльного отношения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посещаемости розничных магази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а «Модный город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mon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в социальной сети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 8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астников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5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«лайк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по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мментари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D46-2057-45EB-9EF1-C02B99235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643040" y="285840"/>
            <a:ext cx="4714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еть магазинов обуви «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lmonte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kontakte.ru/feed#/elmo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428760" y="285840"/>
            <a:ext cx="857160" cy="866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2"/>
          <a:stretch/>
        </p:blipFill>
        <p:spPr>
          <a:xfrm>
            <a:off x="4929120" y="1214280"/>
            <a:ext cx="3841920" cy="4776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2" descr="C:\Users\mkoshelenko.SMART-MEDIA\Desktop\Smm\Презентации SMM\Лого клиентов\logo-141.jpg"/>
          <p:cNvPicPr/>
          <p:nvPr/>
        </p:nvPicPr>
        <p:blipFill>
          <a:blip r:embed="rId3"/>
          <a:stretch/>
        </p:blipFill>
        <p:spPr>
          <a:xfrm>
            <a:off x="6786720" y="214200"/>
            <a:ext cx="1761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mkoshelenko.SMART-MEDIA\Desktop\Smm\Презентации SMM\Картинки\Проекты\waiter.jpg"/>
          <p:cNvPicPr/>
          <p:nvPr/>
        </p:nvPicPr>
        <p:blipFill>
          <a:blip r:embed="rId1"/>
          <a:stretch/>
        </p:blipFill>
        <p:spPr>
          <a:xfrm>
            <a:off x="0" y="0"/>
            <a:ext cx="184932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1357200" y="357120"/>
            <a:ext cx="714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пец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КБ «МИА» (московское ипотечное агент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http://promo.mi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4200" y="1500120"/>
            <a:ext cx="450072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нераци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явок на ипотечное кредит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промо-сайта в новой стилистике «видео-продажи»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аризматичный «помощник» (один из классических типажей ЦА) посетителю сайта в свойственной манере рассказывает преимущества ипотеки, в частности от КБ МИА, а также подсказывает навигацию по сайту. Во-вторых, разработана акция со слоганом «Безопасность в подарок», что вызывало доверие к банку и убежденность в его надежности как партнера.  Продвижение проекта через социальные меди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uyakomaskina\Desktop\миа.png"/>
          <p:cNvPicPr/>
          <p:nvPr/>
        </p:nvPicPr>
        <p:blipFill>
          <a:blip r:embed="rId2"/>
          <a:stretch/>
        </p:blipFill>
        <p:spPr>
          <a:xfrm>
            <a:off x="4786200" y="1643040"/>
            <a:ext cx="400212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4714920" y="4714920"/>
            <a:ext cx="43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ервый месяц троекратное увеличение количест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явок. Сайт реализован с вирусным эффектом, что резко увеличило ежедневный трафик и повысило узнаваемость бренда среди 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8:48:53Z</dcterms:created>
  <dc:creator>Mark</dc:creator>
  <dc:description/>
  <dc:language>en-US</dc:language>
  <cp:lastModifiedBy> Калашникова</cp:lastModifiedBy>
  <dcterms:modified xsi:type="dcterms:W3CDTF">2012-03-13T07:36:20Z</dcterms:modified>
  <cp:revision>294</cp:revision>
  <dc:subject/>
  <dc:title>Слайд 1</dc:title>
</cp:coreProperties>
</file>