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AB6-0E5D-4CE2-87F1-71794294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14D-EA07-40FB-A3E1-7639BA0D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CB9-3250-4D92-A05F-A32BCF7F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5F4-4F95-48E1-843E-90918C8E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6A2-497C-4F8F-B7E9-ADB0F4F0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5FC-35B8-4A72-9D23-5276736B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2BF-40A3-499D-9D42-EFFBAFAB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AD2-CCA5-4B28-8141-8844A7E5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E75-F9ED-4687-AE65-0DE3731C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1AD-7ECF-45A3-A732-5AB583F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B32-481C-49AC-B7CE-D3DB5BE0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56B-9B8E-4687-BF2C-735ECD05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524E-13D3-4A11-83D7-3DBA8D3846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D:\My Documents\ПРОЕКТЫ\Smart-Media\Фирменный стиль\NEW\presentation jpeg\main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1720" y="3143160"/>
            <a:ext cx="72864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d99"/>
                </a:solidFill>
                <a:latin typeface="Calibri"/>
              </a:rPr>
              <a:t>Презентация рекламного аген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28880" y="3571920"/>
            <a:ext cx="5286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Идеи для 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krasnaya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7" descr="smartmedia-ppt-logo.png"/>
          <p:cNvPicPr/>
          <p:nvPr/>
        </p:nvPicPr>
        <p:blipFill>
          <a:blip r:embed="rId2"/>
          <a:stretch/>
        </p:blipFill>
        <p:spPr>
          <a:xfrm>
            <a:off x="3143160" y="1571760"/>
            <a:ext cx="25275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Имидж линейки това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71280" y="2357280"/>
            <a:ext cx="902844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571680" y="1071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Иконки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каждой линейки товаров можно поместить в верху блока с большими имиджевыми изображениями, так, что при наведении на каждый ярлык будет отображаться большая картинка, описывающая и создающая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имидж данной линии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Фильтры ката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71680" y="121428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Для удобного отображения каталога, в дополнение к стандартному каталогу можно сделать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удобный фильтр всего каталога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: можно выбрать, для какой части тела предназначен продукт (лицо, тело, ногти, волосы и т.д.), его тип (крем, шампунь, гель и проч.), эффект (разглаживание морщин, освежение цвета, увлажнение кожи и т.д.) а так же, из какой линейки продуктов будет тов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чень удобная реализация на сайте 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www.maybell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42920" y="3643200"/>
            <a:ext cx="88581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71680" y="107172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а первой странице линейки продуктов можно сделать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слайдер из товаров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которые требуют наибольшего продвижения или которые наиболее популяр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42920" y="221472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71680" y="1071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Так же,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для каталога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требуются более качественные изображения товара со стилизацией, а так же необходимо более творческое описание каждого продукта. Недопустимо отсутствие описания у какого-либо товара или катег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143000" y="2786040"/>
            <a:ext cx="69534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План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040" y="1857240"/>
            <a:ext cx="43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Этап 1. 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азработка технического задания. </a:t>
            </a: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Анализ и определение требований к сай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пределение структуры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пределение функционала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929120" y="2500200"/>
            <a:ext cx="378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Этап 2.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Создание дизайна сай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одготовка 2-х вариантов дизайн – мак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роработка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утвержденного варианта дизайна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азработка 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flash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-элементов сайта (шапка и заста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одготовка макета внутренней стра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71680" y="114300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Разработка сайта будет содержать следующие эта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571680" y="4071960"/>
            <a:ext cx="428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Этап 3.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Верстка и программная 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Верстка дизайна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рограммирование функцио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Тес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Запу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План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9640" y="1052640"/>
          <a:ext cx="8280360" cy="4619520"/>
        </p:xfrm>
        <a:graphic>
          <a:graphicData uri="http://schemas.openxmlformats.org/drawingml/2006/table">
            <a:tbl>
              <a:tblPr/>
              <a:tblGrid>
                <a:gridCol w="1882800"/>
                <a:gridCol w="3882960"/>
                <a:gridCol w="2514600"/>
              </a:tblGrid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1a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ы рабо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1a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на, 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1ac"/>
                    </a:solidFill>
                  </a:tcPr>
                </a:tc>
              </a:tr>
              <a:tr h="179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технического зад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дизайна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2.1. Разработка концепции оформления сайта (3-шт)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2.2. Подготовка дизайн – макета (1-шт)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2.3. Разработка внутренних страниц (6-шт)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2.4. Разработка оформления интерактивных элем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ная реализация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1. Доработка системы управления сайтом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2. Разработка интерактивных элементов сайта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3. Разработка модуля «Акции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4. Разработка модуля «Новости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5. Разработка модуля "Каталог продукции"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6. Разработка модуля «Поиск по сайту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7. Разработка модуля «Вопрос-Ответ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8. Разработка модуля «On-line консультант» (чат)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9. Разработка форм обратной связи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10. Разработка модуля «Фото и Видеогалерея»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11. Интеграция интерактивной карты проезда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4.12. Интеграция модуля статистики посещаем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 9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1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ск проекта: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5.1. Перенос сайта на хостинг клиента*</a:t>
                      </a:r>
                      <a:br>
                        <a:rPr sz="1100"/>
                      </a:b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5.2. Наполнение сайта информацией (10 страниц по 1800 знаков)*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6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92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 2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7784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с учетом НДС 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 9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7"/>
          <p:cNvSpPr/>
          <p:nvPr/>
        </p:nvSpPr>
        <p:spPr>
          <a:xfrm>
            <a:off x="395280" y="5661000"/>
            <a:ext cx="842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ный срок исполнения - 60 рабочих дней(без учета времени согласования работ Заказчиком) Указанные срок исполнения и цены не являются конечными и могут измениться после согласования Т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Разработка сайта ведется на площадке исполнителя, и после подписания приемки-сдачи работ, переносится на сервер заказчик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** В базовое наполнение входит размещение материалов заказчика с текущего сайта, либо предоставленных дополнительно. Дальнейшее наполнение осуществляется силами заказчика, либо оформляется как доп. работ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D:\My Documents\ПРОЕКТЫ\Smart-Media\Фирменный стиль\NEW\presentation jpeg\final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smartmedia-ppt-logo.png"/>
          <p:cNvPicPr/>
          <p:nvPr/>
        </p:nvPicPr>
        <p:blipFill>
          <a:blip r:embed="rId2"/>
          <a:stretch/>
        </p:blipFill>
        <p:spPr>
          <a:xfrm>
            <a:off x="3643200" y="1714680"/>
            <a:ext cx="1824120" cy="714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857240" y="2857680"/>
            <a:ext cx="5429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d99"/>
                </a:solidFill>
                <a:latin typeface="Calibri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Рекламное агентство «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Smart Media</a:t>
            </a: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115280,  г.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ул. Ленинская Слобода, д. 26, корп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"/>
              </a:rPr>
              <a:t>Тел./факс: (495) 613-15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E-mail: sale@advsmar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Цели и 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1680" y="1714680"/>
            <a:ext cx="807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Разработка интернет-сайта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: компания «Красная ли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Целевая аудитория: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мужчины и женщины в возрасте от 20 лет,  уровень достатка ниже - среднего, сред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Основными задачами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которые стоят перед сайтом и которые предстоит решить при разработке сайта, </a:t>
            </a: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озиционирование сайта для работы с </a:t>
            </a:r>
            <a:r>
              <a:rPr b="1" lang="ru-RU" sz="1800" spc="-1" strike="noStrike">
                <a:solidFill>
                  <a:srgbClr val="376092"/>
                </a:solidFill>
                <a:latin typeface="Calibri"/>
              </a:rPr>
              <a:t>целевой аудиторией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ирование лояльного отношения потенциального клиента посредством работы сайта и как следствие, повышение уровня довер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Высокая конверсия посетителей сайта в покупателей /клиентов, а именно  скрытое проявление импульсного влияния на посетителя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1428840" y="3643200"/>
            <a:ext cx="6572160" cy="230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1357200" y="1643040"/>
            <a:ext cx="6572520" cy="1523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1500120" y="12859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Firefox -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500120" y="32860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Opera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Internet Explorer –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«съехала» вер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3643200" y="1171440"/>
            <a:ext cx="4829400" cy="50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0"/>
          <p:cNvSpPr/>
          <p:nvPr/>
        </p:nvSpPr>
        <p:spPr>
          <a:xfrm>
            <a:off x="444600" y="22147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информати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2"/>
          <p:cNvCxnSpPr>
            <a:stCxn id="60" idx="3"/>
          </p:cNvCxnSpPr>
          <p:nvPr/>
        </p:nvCxnSpPr>
        <p:spPr>
          <a:xfrm flipV="1">
            <a:off x="3075120" y="2214000"/>
            <a:ext cx="2783520" cy="184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14"/>
          <p:cNvSpPr/>
          <p:nvPr/>
        </p:nvSpPr>
        <p:spPr>
          <a:xfrm>
            <a:off x="432000" y="1428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Устаревшая ш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15"/>
          <p:cNvCxnSpPr>
            <a:stCxn id="62" idx="3"/>
          </p:cNvCxnSpPr>
          <p:nvPr/>
        </p:nvCxnSpPr>
        <p:spPr>
          <a:xfrm flipV="1">
            <a:off x="2422440" y="1285560"/>
            <a:ext cx="2007360" cy="327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TextBox 16"/>
          <p:cNvSpPr/>
          <p:nvPr/>
        </p:nvSpPr>
        <p:spPr>
          <a:xfrm>
            <a:off x="444960" y="378612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информативые нов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7"/>
          <p:cNvCxnSpPr>
            <a:stCxn id="64" idx="3"/>
          </p:cNvCxnSpPr>
          <p:nvPr/>
        </p:nvCxnSpPr>
        <p:spPr>
          <a:xfrm flipV="1">
            <a:off x="3259080" y="3571200"/>
            <a:ext cx="409932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20"/>
          <p:cNvSpPr/>
          <p:nvPr/>
        </p:nvSpPr>
        <p:spPr>
          <a:xfrm>
            <a:off x="439560" y="442908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Бесполезный дублирующ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блок с линиями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V="1">
            <a:off x="3857400" y="4428360"/>
            <a:ext cx="1786680" cy="429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25"/>
          <p:cNvCxnSpPr/>
          <p:nvPr/>
        </p:nvCxnSpPr>
        <p:spPr>
          <a:xfrm>
            <a:off x="3857400" y="4857840"/>
            <a:ext cx="27867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28"/>
          <p:cNvSpPr/>
          <p:nvPr/>
        </p:nvSpPr>
        <p:spPr>
          <a:xfrm>
            <a:off x="438480" y="292896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логичное расположение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Детской ком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9"/>
          <p:cNvCxnSpPr>
            <a:stCxn id="69" idx="3"/>
          </p:cNvCxnSpPr>
          <p:nvPr/>
        </p:nvCxnSpPr>
        <p:spPr>
          <a:xfrm>
            <a:off x="3274560" y="3252600"/>
            <a:ext cx="1297800" cy="53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768760" y="1214280"/>
            <a:ext cx="6375240" cy="5102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smartmedia-ppt-logo.png"/>
          <p:cNvPicPr/>
          <p:nvPr/>
        </p:nvPicPr>
        <p:blipFill>
          <a:blip r:embed="rId2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439560" y="142884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Во многих разде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тсутствуют опис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5"/>
          <p:cNvCxnSpPr>
            <a:stCxn id="75" idx="3"/>
          </p:cNvCxnSpPr>
          <p:nvPr/>
        </p:nvCxnSpPr>
        <p:spPr>
          <a:xfrm>
            <a:off x="2752200" y="1752120"/>
            <a:ext cx="1963080" cy="96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19"/>
          <p:cNvSpPr/>
          <p:nvPr/>
        </p:nvSpPr>
        <p:spPr>
          <a:xfrm>
            <a:off x="436680" y="57150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Прост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22"/>
          <p:cNvCxnSpPr>
            <a:stCxn id="77" idx="3"/>
          </p:cNvCxnSpPr>
          <p:nvPr/>
        </p:nvCxnSpPr>
        <p:spPr>
          <a:xfrm flipV="1">
            <a:off x="2219040" y="5142960"/>
            <a:ext cx="3067560" cy="75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26"/>
          <p:cNvSpPr/>
          <p:nvPr/>
        </p:nvSpPr>
        <p:spPr>
          <a:xfrm>
            <a:off x="506520" y="250020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кликаб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лого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7"/>
          <p:cNvCxnSpPr>
            <a:stCxn id="79" idx="3"/>
          </p:cNvCxnSpPr>
          <p:nvPr/>
        </p:nvCxnSpPr>
        <p:spPr>
          <a:xfrm>
            <a:off x="2371680" y="2823840"/>
            <a:ext cx="1200960" cy="10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9"/>
          <p:cNvSpPr/>
          <p:nvPr/>
        </p:nvSpPr>
        <p:spPr>
          <a:xfrm>
            <a:off x="433800" y="450072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2 кнопки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Бесполезный раз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30"/>
          <p:cNvCxnSpPr>
            <a:stCxn id="81" idx="3"/>
          </p:cNvCxnSpPr>
          <p:nvPr/>
        </p:nvCxnSpPr>
        <p:spPr>
          <a:xfrm>
            <a:off x="2655360" y="4824000"/>
            <a:ext cx="631080" cy="10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32"/>
          <p:cNvCxnSpPr>
            <a:stCxn id="81" idx="3"/>
          </p:cNvCxnSpPr>
          <p:nvPr/>
        </p:nvCxnSpPr>
        <p:spPr>
          <a:xfrm flipV="1">
            <a:off x="2655720" y="1428480"/>
            <a:ext cx="3988800" cy="3396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71680" y="150012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При открытии сайта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нет возможности сразу просмотреть, какая из линеек товаров обладает какими свойствами – приходится кликать на каждый логотип линейки, чтобы узнать, в чем её с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Каталог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– только по определенной линейке товаров: пользователь не может просмотреть сразу все товары, например: крем разглаживания морщин из всех линеек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а сайте отсутствуют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акценты и контрасты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, подсказывающие пользователю какие-то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Детская косметика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– находится под меню, в котором в 3й раз на главной странице дублируются ссылки на разделы каталога. Более логичным было бы поместить ее в верхнее меню, на ряду с остальными раздел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Недостатки нынешнего сай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71680" y="2714760"/>
            <a:ext cx="49291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092"/>
                </a:solidFill>
                <a:latin typeface="Calibri"/>
              </a:rPr>
              <a:t>Где куп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Это больше похоже на план военных действий. Больше внимания стоит уделить у какого ритейлера и по каким адресам можно приобрести продукцию компании, это будет более интересно покупа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572080" y="1096920"/>
            <a:ext cx="3233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571680" y="107172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Необходимо сформировать </a:t>
            </a:r>
            <a:r>
              <a:rPr b="1" i="1" lang="ru-RU" sz="1800" spc="-1" strike="noStrike">
                <a:solidFill>
                  <a:srgbClr val="376092"/>
                </a:solidFill>
                <a:latin typeface="Calibri"/>
              </a:rPr>
              <a:t>позитивное восприятие и лояльное отношение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клиентов к бренду и линейке товаров путем исполь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Современного дизай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Удобного интерфейса каталога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Красивых имиджевых изобра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Акций и конкур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  <a:ea typeface="Arial"/>
              </a:rPr>
              <a:t>Поддержки в социальных сетях и интеграции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1440" y="642600"/>
            <a:ext cx="4429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d99"/>
                </a:solidFill>
                <a:latin typeface="Calibri"/>
              </a:rPr>
              <a:t>Как исправ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smartmedia-ppt-logo.png"/>
          <p:cNvPicPr/>
          <p:nvPr/>
        </p:nvPicPr>
        <p:blipFill>
          <a:blip r:embed="rId1"/>
          <a:stretch/>
        </p:blipFill>
        <p:spPr>
          <a:xfrm>
            <a:off x="571680" y="428760"/>
            <a:ext cx="1403280" cy="549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7000920" y="4366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smart-media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571680" y="107172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Сайт необходимо переделать в целом, с соблюдением всех современных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веб-стандартов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 и использованием </a:t>
            </a: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новых веб-технологий </a:t>
            </a: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(анимация, закладки, загрузка контента без перезагрузки страницы) для создания имиджа современной идущей в ногу со временем ком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Цветовое решение должно остаться близким к существующему, чтобы не потерялась связь с предыдущим сайтом – новая версия сайта должна выглядеть как логичное развитие нынешнего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50:42Z</dcterms:created>
  <dc:creator>Титов</dc:creator>
  <dc:description/>
  <dc:language>en-US</dc:language>
  <cp:lastModifiedBy>kbondarenko</cp:lastModifiedBy>
  <dcterms:modified xsi:type="dcterms:W3CDTF">2012-03-12T16:51:31Z</dcterms:modified>
  <cp:revision>57</cp:revision>
  <dc:subject/>
  <dc:title>Слайд 1</dc:title>
</cp:coreProperties>
</file>